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F97-3504-4D01-B886-B7C164F1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38F-A518-424D-83B6-F2598B4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9C9-8016-432C-A799-F858BAC7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C97-711D-4AD1-BA79-EF7AC7A4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F47-145D-40BC-925E-314F58B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AB4-49CA-456E-8846-9845061A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44B-A7C8-4122-BBF3-8436518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6BF-4B1E-4B29-B803-0ECBB61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AE4-9698-4444-A9FE-CA72AD5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E7C-5E6D-47CB-A00B-36D63FC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3DE-05C4-4474-A2D2-962444D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950-7B8D-4B78-A6E1-8D7F539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F90-6A50-45AB-AF77-02067FF6513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4191120" cy="5257800"/>
            <a:chOff x="609480" y="1295280"/>
            <a:chExt cx="4191120" cy="5257800"/>
          </a:xfrm>
        </p:grpSpPr>
        <p:sp>
          <p:nvSpPr>
            <p:cNvPr id="42" name=""/>
            <p:cNvSpPr/>
            <p:nvPr/>
          </p:nvSpPr>
          <p:spPr>
            <a:xfrm>
              <a:off x="619200" y="1322280"/>
              <a:ext cx="4145040" cy="26863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12720" y="3876840"/>
              <a:ext cx="4116600" cy="264924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92240" y="3913200"/>
              <a:ext cx="1946160" cy="123840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36800" y="3932280"/>
              <a:ext cx="3382920" cy="257652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3880" y="4500720"/>
              <a:ext cx="149400" cy="19512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9520" y="4473720"/>
              <a:ext cx="157320" cy="1238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41320" y="5151600"/>
              <a:ext cx="86040" cy="117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5480" y="5762520"/>
              <a:ext cx="135000" cy="9864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3880" y="5827680"/>
              <a:ext cx="139680" cy="9216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9600" y="5140440"/>
              <a:ext cx="365040" cy="70308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1240" y="4556160"/>
              <a:ext cx="622080" cy="62532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65400" y="4532400"/>
              <a:ext cx="244440" cy="61920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3440" y="4532400"/>
              <a:ext cx="111240" cy="24120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80960" y="4695840"/>
              <a:ext cx="204840" cy="4752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63840" y="4675320"/>
              <a:ext cx="352440" cy="51732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08200" y="4952880"/>
              <a:ext cx="42840" cy="19548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2200" y="5124600"/>
              <a:ext cx="223920" cy="3960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67000" y="5143680"/>
              <a:ext cx="180720" cy="70452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33680" y="5140440"/>
              <a:ext cx="214200" cy="6429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0520" y="5151600"/>
              <a:ext cx="104760" cy="12672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9520" y="4471920"/>
              <a:ext cx="176400" cy="1256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1000" y="4495680"/>
              <a:ext cx="161640" cy="19080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1000" y="4556160"/>
              <a:ext cx="61560" cy="14292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14520" y="5827680"/>
              <a:ext cx="158760" cy="9828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12880" y="5762520"/>
              <a:ext cx="163440" cy="10332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320" y="1295280"/>
              <a:ext cx="4175280" cy="525780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23840" y="5378400"/>
              <a:ext cx="490680" cy="109872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6720" y="3938760"/>
              <a:ext cx="2320920" cy="253332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12880" y="3927600"/>
              <a:ext cx="1738440" cy="11682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12880" y="4340160"/>
              <a:ext cx="436680" cy="73512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0520" y="3916440"/>
              <a:ext cx="317520" cy="42372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8960" y="4132440"/>
              <a:ext cx="374760" cy="2901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8120" y="3800520"/>
              <a:ext cx="399960" cy="28260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95480" y="3441600"/>
              <a:ext cx="524160" cy="30492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7200" y="2982960"/>
              <a:ext cx="696960" cy="42372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9440" y="3036960"/>
              <a:ext cx="80640" cy="856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2960" y="3300480"/>
              <a:ext cx="87120" cy="174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4120" y="3603600"/>
              <a:ext cx="75960" cy="27324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82960" y="4006800"/>
              <a:ext cx="98280" cy="2160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2960" y="4346640"/>
              <a:ext cx="103320" cy="58716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1360" y="2965320"/>
              <a:ext cx="722520" cy="479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5080" y="3135240"/>
              <a:ext cx="33480" cy="16524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70280" y="3409920"/>
              <a:ext cx="579240" cy="35568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74960" y="3409920"/>
              <a:ext cx="123840" cy="19368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39960" y="3763800"/>
              <a:ext cx="452520" cy="34308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7560" y="3855960"/>
              <a:ext cx="34920" cy="1587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8440" y="4106880"/>
              <a:ext cx="433080" cy="33984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4560" y="4195800"/>
              <a:ext cx="36720" cy="16668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9720" y="3017880"/>
              <a:ext cx="101520" cy="11736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6480" y="3301920"/>
              <a:ext cx="28800" cy="15408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560" y="3301920"/>
              <a:ext cx="41400" cy="17316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6480" y="3603600"/>
              <a:ext cx="34920" cy="27792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560" y="3600360"/>
              <a:ext cx="27000" cy="28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4000680"/>
              <a:ext cx="44280" cy="21564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0200" y="4000680"/>
              <a:ext cx="41040" cy="22212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3880" y="4334040"/>
              <a:ext cx="136440" cy="61416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1240" y="3905280"/>
              <a:ext cx="403200" cy="106992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43040" y="3897360"/>
              <a:ext cx="690480" cy="10778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4600" y="3905280"/>
              <a:ext cx="655920" cy="71424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00040" y="4654440"/>
              <a:ext cx="166680" cy="637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47720" y="4708440"/>
              <a:ext cx="468360" cy="60192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4400" y="3897360"/>
              <a:ext cx="2154240" cy="9216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8080" y="3860640"/>
              <a:ext cx="1525680" cy="1288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1295280"/>
              <a:ext cx="93960" cy="5221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4280" y="4314960"/>
              <a:ext cx="114480" cy="619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06400" y="6119640"/>
              <a:ext cx="441360" cy="30816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81360" y="4630680"/>
              <a:ext cx="146160" cy="17640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3440" y="1488960"/>
              <a:ext cx="208080" cy="18756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7040" y="1512720"/>
              <a:ext cx="203040" cy="19080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5960" y="2077920"/>
              <a:ext cx="209520" cy="18900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8720" y="1544760"/>
              <a:ext cx="211320" cy="1918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2440" y="1801800"/>
              <a:ext cx="60120" cy="6048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8160" y="1798560"/>
              <a:ext cx="122400" cy="11124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70080" y="2941560"/>
              <a:ext cx="125640" cy="112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5960" y="1596960"/>
              <a:ext cx="207720" cy="1904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60880" y="2276640"/>
              <a:ext cx="206280" cy="19044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57400" y="2689200"/>
              <a:ext cx="206640" cy="1857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78280" y="2095560"/>
              <a:ext cx="209520" cy="18900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4680" y="2779560"/>
              <a:ext cx="61920" cy="6048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5280" y="2408400"/>
              <a:ext cx="129960" cy="11412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1880" y="3554280"/>
              <a:ext cx="123840" cy="112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6560" y="1535040"/>
              <a:ext cx="21132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92520" y="1706400"/>
              <a:ext cx="206280" cy="18900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0920" y="3139920"/>
              <a:ext cx="211320" cy="19080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64040" y="2610000"/>
              <a:ext cx="20808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5960" y="2868480"/>
              <a:ext cx="65160" cy="5400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0240" y="2862360"/>
              <a:ext cx="127080" cy="11088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1760" y="1725480"/>
              <a:ext cx="127080" cy="11448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77920" y="2386080"/>
              <a:ext cx="204840" cy="1904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9880" y="3184560"/>
              <a:ext cx="203040" cy="1918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0640" y="2036880"/>
              <a:ext cx="206280" cy="1857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6680" y="2119320"/>
              <a:ext cx="206280" cy="1922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7160" y="2376360"/>
              <a:ext cx="60120" cy="590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2880" y="2368440"/>
              <a:ext cx="123840" cy="11592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08200" y="2576520"/>
              <a:ext cx="129960" cy="112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2840" y="1442880"/>
              <a:ext cx="212760" cy="1857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5840" y="1797120"/>
              <a:ext cx="203400" cy="18900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3280" y="3290760"/>
              <a:ext cx="210960" cy="19224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1120" y="3179880"/>
              <a:ext cx="211320" cy="18864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67160" y="2987640"/>
              <a:ext cx="58680" cy="604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736720"/>
              <a:ext cx="127080" cy="1144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9720" y="1689120"/>
              <a:ext cx="125280" cy="112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1895400"/>
              <a:ext cx="20772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65320" y="2751120"/>
              <a:ext cx="203040" cy="19512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4000" y="3346560"/>
              <a:ext cx="211320" cy="1857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1920" y="3614760"/>
              <a:ext cx="212760" cy="1857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65360" y="3438360"/>
              <a:ext cx="58680" cy="619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8200" y="3433680"/>
              <a:ext cx="122040" cy="10980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0640" y="1873080"/>
              <a:ext cx="123840" cy="10980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90440" y="3622680"/>
              <a:ext cx="120960" cy="112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5200" y="3790800"/>
              <a:ext cx="61560" cy="590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0200" y="2109960"/>
              <a:ext cx="123840" cy="112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38320" y="2719440"/>
              <a:ext cx="60480" cy="60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8360" y="3070080"/>
              <a:ext cx="60120" cy="5724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98680" y="2624040"/>
              <a:ext cx="58680" cy="586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1000" y="3641760"/>
              <a:ext cx="61560" cy="55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7600" y="3516480"/>
              <a:ext cx="66960" cy="619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017880"/>
              <a:ext cx="61920" cy="572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73400" y="5608800"/>
              <a:ext cx="552600" cy="80460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0800" y="4275000"/>
              <a:ext cx="109440" cy="9864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6080" y="4754520"/>
              <a:ext cx="41400" cy="16200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5200" y="5635800"/>
              <a:ext cx="63360" cy="11556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44640" y="5413320"/>
              <a:ext cx="65160" cy="1573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4640" y="5156280"/>
              <a:ext cx="25560" cy="586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3440" y="4506840"/>
              <a:ext cx="49320" cy="49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4920" y="4576680"/>
              <a:ext cx="66600" cy="15876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8040" y="6202440"/>
              <a:ext cx="171360" cy="2365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95720" y="3849840"/>
              <a:ext cx="139680" cy="7452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6680" y="3800520"/>
              <a:ext cx="84240" cy="1461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38360" y="5006880"/>
              <a:ext cx="74520" cy="11124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0960" y="4762440"/>
              <a:ext cx="122400" cy="10476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’ESTIME de SOI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Script MT Bold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un passeport pour la v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ermain Duclos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380880"/>
            <a:ext cx="807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S.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ÉQUILI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Nom de fichier : j0282743.gif&#13;Mots clés : éléments pour le Web, émotions, hommes ...&#13;Taille de fichier : 7 Ko"/>
          <p:cNvPicPr/>
          <p:nvPr/>
        </p:nvPicPr>
        <p:blipFill>
          <a:blip r:embed="rId2"/>
          <a:stretch/>
        </p:blipFill>
        <p:spPr>
          <a:xfrm>
            <a:off x="1219320" y="388620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3520" y="1447920"/>
            <a:ext cx="2895480" cy="58140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é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447920"/>
            <a:ext cx="3124080" cy="58140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arciss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4305240" y="571320"/>
            <a:ext cx="38088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750" y="1776"/>
                  <a:pt x="9900" y="5080"/>
                  <a:pt x="9900" y="10800"/>
                </a:cubicBezTo>
                <a:cubicBezTo>
                  <a:pt x="9900" y="16520"/>
                  <a:pt x="15750" y="198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2811600" cy="416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38088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e de soi  =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6699"/>
                </a:solidFill>
                <a:latin typeface="Arial"/>
              </a:rPr>
              <a:t>conscienc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de sa </a:t>
            </a:r>
            <a:r>
              <a:rPr b="1" i="1" lang="en-US" sz="36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ersonnelle global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forces et limites)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336699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828800"/>
            <a:ext cx="434340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Wingdings 3"/>
                <a:ea typeface="Wingdings 3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r les différents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 sa personnalit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ectu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3505320"/>
            <a:ext cx="6018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Wingdings 3"/>
                <a:ea typeface="Wingdings 3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ans les différents rôles qu’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 appelé à jou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apprenant / travailleur / retra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membre d’une famille / d’un grou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ami / conjoint / 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38040" y="1484280"/>
            <a:ext cx="4583160" cy="4608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822920" y="1125360"/>
            <a:ext cx="4321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’arrêter pou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prend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ONSCI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042920" y="836640"/>
            <a:ext cx="2233800" cy="1816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724360" y="4941720"/>
            <a:ext cx="2664000" cy="1008360"/>
          </a:xfrm>
          <a:custGeom>
            <a:avLst/>
            <a:gdLst>
              <a:gd name="textAreaLeft" fmla="*/ 65160 w 2664000"/>
              <a:gd name="textAreaRight" fmla="*/ 2598840 w 2664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57053" h="21600">
                <a:moveTo>
                  <a:pt x="0" y="0"/>
                </a:moveTo>
                <a:lnTo>
                  <a:pt x="57053" y="0"/>
                </a:lnTo>
                <a:lnTo>
                  <a:pt x="57053" y="21600"/>
                </a:lnTo>
                <a:lnTo>
                  <a:pt x="0" y="21600"/>
                </a:lnTo>
                <a:close/>
              </a:path>
              <a:path fill="lightenLess" w="57053" h="21600">
                <a:moveTo>
                  <a:pt x="0" y="0"/>
                </a:moveTo>
                <a:lnTo>
                  <a:pt x="57053" y="0"/>
                </a:lnTo>
                <a:lnTo>
                  <a:pt x="55653" y="1400"/>
                </a:lnTo>
                <a:lnTo>
                  <a:pt x="1400" y="1400"/>
                </a:lnTo>
                <a:close/>
              </a:path>
              <a:path fill="darken" w="57053" h="21600">
                <a:moveTo>
                  <a:pt x="57053" y="0"/>
                </a:moveTo>
                <a:lnTo>
                  <a:pt x="57053" y="21600"/>
                </a:lnTo>
                <a:lnTo>
                  <a:pt x="55653" y="20200"/>
                </a:lnTo>
                <a:lnTo>
                  <a:pt x="55653" y="1400"/>
                </a:lnTo>
                <a:close/>
              </a:path>
              <a:path fill="darkenLess" w="57053" h="21600">
                <a:moveTo>
                  <a:pt x="57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653" y="20200"/>
                </a:lnTo>
                <a:close/>
              </a:path>
              <a:path fill="lighten" w="57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Script MT Bold"/>
              </a:rPr>
              <a:t>Vivre e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yr4"/>
          <p:cNvSpPr/>
          <p:nvPr/>
        </p:nvSpPr>
        <p:spPr>
          <a:xfrm>
            <a:off x="2362320" y="2895480"/>
            <a:ext cx="3657600" cy="10670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oi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’ESTIME de SO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yr4"/>
          <p:cNvSpPr/>
          <p:nvPr/>
        </p:nvSpPr>
        <p:spPr>
          <a:xfrm>
            <a:off x="1905120" y="3733920"/>
            <a:ext cx="4572000" cy="914400"/>
          </a:xfrm>
          <a:prstGeom prst="pie">
            <a:avLst/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’amour 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’apparten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yr4"/>
          <p:cNvSpPr/>
          <p:nvPr/>
        </p:nvSpPr>
        <p:spPr>
          <a:xfrm>
            <a:off x="1219320" y="4572000"/>
            <a:ext cx="5943600" cy="10159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sécur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yr4"/>
          <p:cNvSpPr/>
          <p:nvPr/>
        </p:nvSpPr>
        <p:spPr>
          <a:xfrm>
            <a:off x="380880" y="5334120"/>
            <a:ext cx="7543800" cy="116820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surv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590920" y="914400"/>
            <a:ext cx="3429000" cy="1743120"/>
            <a:chOff x="2590920" y="914400"/>
            <a:chExt cx="3429000" cy="1743120"/>
          </a:xfrm>
        </p:grpSpPr>
        <p:grpSp>
          <p:nvGrpSpPr>
            <p:cNvPr id="380" name=""/>
            <p:cNvGrpSpPr/>
            <p:nvPr/>
          </p:nvGrpSpPr>
          <p:grpSpPr>
            <a:xfrm>
              <a:off x="2819520" y="914400"/>
              <a:ext cx="2666520" cy="1743120"/>
              <a:chOff x="2819520" y="914400"/>
              <a:chExt cx="2666520" cy="1743120"/>
            </a:xfrm>
          </p:grpSpPr>
          <p:sp>
            <p:nvSpPr>
              <p:cNvPr id="381" name="Pyr1"/>
              <p:cNvSpPr/>
              <p:nvPr/>
            </p:nvSpPr>
            <p:spPr>
              <a:xfrm>
                <a:off x="3535560" y="914400"/>
                <a:ext cx="1239120" cy="80172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Pyr2"/>
              <p:cNvSpPr/>
              <p:nvPr/>
            </p:nvSpPr>
            <p:spPr>
              <a:xfrm>
                <a:off x="2819520" y="1716120"/>
                <a:ext cx="2666520" cy="941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590920" y="1295280"/>
              <a:ext cx="3429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esoin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d’accomplissement perso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4920" y="457200"/>
            <a:ext cx="830556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ramide des besoins universels de 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556272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4800600"/>
            <a:ext cx="53316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380988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297180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90512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65760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 rot="20908800">
            <a:off x="304920" y="609120"/>
            <a:ext cx="26668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 passeport 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our la vie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04920" y="2514600"/>
            <a:ext cx="2895120" cy="3581280"/>
            <a:chOff x="304920" y="2514600"/>
            <a:chExt cx="2895120" cy="3581280"/>
          </a:xfrm>
        </p:grpSpPr>
        <p:sp>
          <p:nvSpPr>
            <p:cNvPr id="393" name=""/>
            <p:cNvSpPr/>
            <p:nvPr/>
          </p:nvSpPr>
          <p:spPr>
            <a:xfrm>
              <a:off x="311400" y="2532960"/>
              <a:ext cx="2863440" cy="18295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7080" y="4272840"/>
              <a:ext cx="2844000" cy="180432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8280" y="4297680"/>
              <a:ext cx="1344240" cy="84348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0120" y="4310640"/>
              <a:ext cx="2337120" cy="175500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36360" y="4698000"/>
              <a:ext cx="102960" cy="13284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6640" y="4679280"/>
              <a:ext cx="108360" cy="842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6840" y="5141160"/>
              <a:ext cx="59400" cy="799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75680" y="5557320"/>
              <a:ext cx="93240" cy="669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6360" y="5601600"/>
              <a:ext cx="96480" cy="6264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5760" y="5133600"/>
              <a:ext cx="252000" cy="47880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8960" y="4735440"/>
              <a:ext cx="429480" cy="42588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800" y="4719240"/>
              <a:ext cx="168840" cy="42156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4960" y="4719240"/>
              <a:ext cx="76680" cy="16416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7720" y="4830840"/>
              <a:ext cx="141480" cy="3204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64080" y="4816800"/>
              <a:ext cx="243360" cy="35208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3800" y="5005800"/>
              <a:ext cx="29520" cy="13284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760" y="5122800"/>
              <a:ext cx="154440" cy="2664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7120" y="5135760"/>
              <a:ext cx="124560" cy="47988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12320" y="5133600"/>
              <a:ext cx="147960" cy="4377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79280" y="5141160"/>
              <a:ext cx="72360" cy="8604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6640" y="4678200"/>
              <a:ext cx="121680" cy="8532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4560" y="4694400"/>
              <a:ext cx="111600" cy="12996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4560" y="4735440"/>
              <a:ext cx="42480" cy="9720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29880" y="5601600"/>
              <a:ext cx="109440" cy="6660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7040" y="5557320"/>
              <a:ext cx="112680" cy="7020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20" y="2514600"/>
              <a:ext cx="2884320" cy="358128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1120" y="5295600"/>
              <a:ext cx="338760" cy="74808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39200" y="4314960"/>
              <a:ext cx="1603440" cy="172548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88760" y="4307400"/>
              <a:ext cx="1200960" cy="7956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88760" y="4588560"/>
              <a:ext cx="301680" cy="50040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14520" y="4299840"/>
              <a:ext cx="219240" cy="28836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7280" y="4447080"/>
              <a:ext cx="258840" cy="19764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02880" y="4221000"/>
              <a:ext cx="276120" cy="19224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84240" y="3976560"/>
              <a:ext cx="361800" cy="20736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29720" y="3664080"/>
              <a:ext cx="481320" cy="28836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49040" y="3700800"/>
              <a:ext cx="55440" cy="5832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44720" y="3880440"/>
              <a:ext cx="60120" cy="1188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52280" y="4086720"/>
              <a:ext cx="52200" cy="18576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4720" y="4361400"/>
              <a:ext cx="67680" cy="14688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44720" y="4592880"/>
              <a:ext cx="71280" cy="39960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18560" y="3651840"/>
              <a:ext cx="498960" cy="326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98080" y="3767760"/>
              <a:ext cx="23040" cy="11232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66600" y="3954960"/>
              <a:ext cx="399960" cy="24192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69840" y="3954960"/>
              <a:ext cx="85320" cy="13176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76600" y="4195800"/>
              <a:ext cx="312480" cy="23364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65320" y="4258800"/>
              <a:ext cx="24120" cy="10800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93240" y="4429440"/>
              <a:ext cx="299160" cy="23148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7200" y="4490280"/>
              <a:ext cx="25200" cy="11340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42200" y="3687840"/>
              <a:ext cx="69840" cy="799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40040" y="3881160"/>
              <a:ext cx="19800" cy="10476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90440" y="3881160"/>
              <a:ext cx="28440" cy="11772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40040" y="4086720"/>
              <a:ext cx="24120" cy="18900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0440" y="4084560"/>
              <a:ext cx="18360" cy="19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36800" y="4357080"/>
              <a:ext cx="30240" cy="14688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3960" y="4357080"/>
              <a:ext cx="28080" cy="15120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31400" y="4584240"/>
              <a:ext cx="93960" cy="41832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0680" y="4292280"/>
              <a:ext cx="278280" cy="72864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18800" y="4286880"/>
              <a:ext cx="477000" cy="7340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6040" y="4292280"/>
              <a:ext cx="452880" cy="48636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1040" y="4802400"/>
              <a:ext cx="114840" cy="4320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22040" y="4839480"/>
              <a:ext cx="323280" cy="40968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9040" y="4286880"/>
              <a:ext cx="1488240" cy="6264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79360" y="4261680"/>
              <a:ext cx="1053720" cy="874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920" y="2514600"/>
              <a:ext cx="64800" cy="3556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17560" y="4571280"/>
              <a:ext cx="78840" cy="421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62720" y="5800680"/>
              <a:ext cx="304920" cy="20988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27120" y="4786200"/>
              <a:ext cx="100800" cy="11988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4960" y="2646360"/>
              <a:ext cx="143640" cy="1274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160" y="2662560"/>
              <a:ext cx="140040" cy="12996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03920" y="3047400"/>
              <a:ext cx="144720" cy="1285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94600" y="2684520"/>
              <a:ext cx="145800" cy="130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040" y="2859480"/>
              <a:ext cx="41400" cy="410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8480" y="2857320"/>
              <a:ext cx="84240" cy="7560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4840" y="3635640"/>
              <a:ext cx="86760" cy="76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03920" y="2719800"/>
              <a:ext cx="14328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36600" y="3182760"/>
              <a:ext cx="142200" cy="12960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26720" y="3463920"/>
              <a:ext cx="142560" cy="1263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63200" y="3059640"/>
              <a:ext cx="144720" cy="12852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33640" y="3525480"/>
              <a:ext cx="42480" cy="41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68400" y="3272760"/>
              <a:ext cx="89640" cy="7740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27640" y="4053240"/>
              <a:ext cx="85320" cy="76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09160" y="2677680"/>
              <a:ext cx="14580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12960" y="2794320"/>
              <a:ext cx="142200" cy="12852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00680" y="3771000"/>
              <a:ext cx="145800" cy="12996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1360" y="3409920"/>
              <a:ext cx="14364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47720" y="3585960"/>
              <a:ext cx="45000" cy="3672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43080" y="3582000"/>
              <a:ext cx="87480" cy="7524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9760" y="2807280"/>
              <a:ext cx="87480" cy="7776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7320" y="3257280"/>
              <a:ext cx="14148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4040" y="3801240"/>
              <a:ext cx="140040" cy="1306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23920" y="3019680"/>
              <a:ext cx="142200" cy="1263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02160" y="3075840"/>
              <a:ext cx="142200" cy="130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57440" y="3250800"/>
              <a:ext cx="41400" cy="39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3520" y="3245400"/>
              <a:ext cx="85320" cy="788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3800" y="3387240"/>
              <a:ext cx="89640" cy="76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6480" y="2615040"/>
              <a:ext cx="14688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6240" y="2856240"/>
              <a:ext cx="140400" cy="12852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39680" y="3873600"/>
              <a:ext cx="145440" cy="1306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06240" y="3798000"/>
              <a:ext cx="145800" cy="12816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79160" y="3667320"/>
              <a:ext cx="40320" cy="41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76080" y="3496320"/>
              <a:ext cx="87480" cy="777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37240" y="2782800"/>
              <a:ext cx="86400" cy="76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92600" y="2923200"/>
              <a:ext cx="14328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8680" y="3506040"/>
              <a:ext cx="140040" cy="1328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81360" y="3911760"/>
              <a:ext cx="145800" cy="1263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2960" y="4094280"/>
              <a:ext cx="14688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56000" y="3974040"/>
              <a:ext cx="40320" cy="42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50280" y="3971160"/>
              <a:ext cx="84240" cy="745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37440" y="2908080"/>
              <a:ext cx="85320" cy="7452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7200" y="4099680"/>
              <a:ext cx="83520" cy="76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800" y="4214160"/>
              <a:ext cx="42480" cy="399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800" y="3069360"/>
              <a:ext cx="85320" cy="76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2040" y="3484440"/>
              <a:ext cx="41760" cy="40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15560" y="3723480"/>
              <a:ext cx="41400" cy="388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9080" y="3419640"/>
              <a:ext cx="40320" cy="399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34560" y="4112640"/>
              <a:ext cx="42480" cy="37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15880" y="4027320"/>
              <a:ext cx="46080" cy="421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7880" y="3687840"/>
              <a:ext cx="42480" cy="38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97840" y="5452560"/>
              <a:ext cx="381600" cy="54792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7480" y="4543920"/>
              <a:ext cx="75600" cy="66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67400" y="4870800"/>
              <a:ext cx="28440" cy="11016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82520" y="5470920"/>
              <a:ext cx="43560" cy="784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58120" y="5319360"/>
              <a:ext cx="45000" cy="106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58120" y="5144400"/>
              <a:ext cx="17640" cy="3996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4960" y="4701960"/>
              <a:ext cx="33840" cy="334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040" y="4749480"/>
              <a:ext cx="45720" cy="10800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0320" y="5856840"/>
              <a:ext cx="118080" cy="1609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1600" y="4254480"/>
              <a:ext cx="96480" cy="5040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5600" y="4221000"/>
              <a:ext cx="57960" cy="993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15560" y="5042520"/>
              <a:ext cx="51480" cy="7560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24200" y="4876200"/>
              <a:ext cx="84240" cy="7128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276720" y="685800"/>
            <a:ext cx="5638680" cy="5310000"/>
            <a:chOff x="3276720" y="685800"/>
            <a:chExt cx="5638680" cy="5310000"/>
          </a:xfrm>
        </p:grpSpPr>
        <p:sp>
          <p:nvSpPr>
            <p:cNvPr id="525" name=""/>
            <p:cNvSpPr/>
            <p:nvPr/>
          </p:nvSpPr>
          <p:spPr>
            <a:xfrm>
              <a:off x="3276720" y="685800"/>
              <a:ext cx="5333760" cy="53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 L’estime de soi est la conscience acquise à travers les années de sa valeur personnelle ainsi que des forces, des qualités et des habiletés qui permettent à une personne de vivre en harmonie avec elle-même et les aut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constitue une réserve consciente des forces q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aident à surmonter 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épreuves et à gérer le stress de la vie, et c’est en ce sens qu’elle est un passeport pour la vie. 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ermain Duclos dans : L’estime de soi, un passeport pour la vi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6"/>
            <a:stretch/>
          </p:blipFill>
          <p:spPr>
            <a:xfrm>
              <a:off x="7238880" y="3048120"/>
              <a:ext cx="1676520" cy="1314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80880" y="2743200"/>
            <a:ext cx="2514240" cy="3581280"/>
            <a:chOff x="380880" y="2743200"/>
            <a:chExt cx="2514240" cy="3581280"/>
          </a:xfrm>
        </p:grpSpPr>
        <p:sp>
          <p:nvSpPr>
            <p:cNvPr id="528" name=""/>
            <p:cNvSpPr/>
            <p:nvPr/>
          </p:nvSpPr>
          <p:spPr>
            <a:xfrm>
              <a:off x="386640" y="2761560"/>
              <a:ext cx="2486880" cy="18295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2680" y="4501440"/>
              <a:ext cx="2469960" cy="180432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320" y="4526280"/>
              <a:ext cx="1167480" cy="84348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7200" y="4539240"/>
              <a:ext cx="2029680" cy="175500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29520" y="4926600"/>
              <a:ext cx="89640" cy="13284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2760" y="4907880"/>
              <a:ext cx="94320" cy="842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59840" y="5369760"/>
              <a:ext cx="51480" cy="799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50480" y="5785920"/>
              <a:ext cx="81000" cy="669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29520" y="5830200"/>
              <a:ext cx="83520" cy="6264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02880" y="5362200"/>
              <a:ext cx="218880" cy="47880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964040"/>
              <a:ext cx="372960" cy="42588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4360" y="4947840"/>
              <a:ext cx="146520" cy="42156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5040" y="4947840"/>
              <a:ext cx="66600" cy="16416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3480" y="5059440"/>
              <a:ext cx="122760" cy="3204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53280" y="5045400"/>
              <a:ext cx="211320" cy="35208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40040" y="5234400"/>
              <a:ext cx="25560" cy="13284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10440" y="5351400"/>
              <a:ext cx="134280" cy="2664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95320" y="5364360"/>
              <a:ext cx="108360" cy="47988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5400" y="5362200"/>
              <a:ext cx="128520" cy="4377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53360" y="5369760"/>
              <a:ext cx="62640" cy="8604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42760" y="4906800"/>
              <a:ext cx="105840" cy="8532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7720" y="4923000"/>
              <a:ext cx="96840" cy="12996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27720" y="4964040"/>
              <a:ext cx="36720" cy="9720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23760" y="5830200"/>
              <a:ext cx="95040" cy="6660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2920" y="5785920"/>
              <a:ext cx="97920" cy="7020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0240" y="2743200"/>
              <a:ext cx="2504880" cy="358128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9280" y="5524200"/>
              <a:ext cx="294120" cy="74808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79080" y="4543560"/>
              <a:ext cx="1392480" cy="172548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2920" y="4536000"/>
              <a:ext cx="1042920" cy="7956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2920" y="4817160"/>
              <a:ext cx="261720" cy="50040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31360" y="4528440"/>
              <a:ext cx="190440" cy="28836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72280" y="4675680"/>
              <a:ext cx="224640" cy="19764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1920" y="4449600"/>
              <a:ext cx="239760" cy="19224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4205160"/>
              <a:ext cx="314280" cy="20736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1440" y="3892680"/>
              <a:ext cx="417960" cy="28836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08640" y="3929400"/>
              <a:ext cx="48240" cy="5832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04680" y="4109040"/>
              <a:ext cx="52200" cy="1188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11520" y="4315320"/>
              <a:ext cx="45360" cy="18576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04680" y="4590000"/>
              <a:ext cx="58680" cy="14688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4680" y="4821480"/>
              <a:ext cx="61920" cy="39960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21720" y="3880440"/>
              <a:ext cx="433440" cy="326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38240" y="3996360"/>
              <a:ext cx="19800" cy="11232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37360" y="4183560"/>
              <a:ext cx="347400" cy="24192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9880" y="4183560"/>
              <a:ext cx="74160" cy="13176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58880" y="4424400"/>
              <a:ext cx="271440" cy="23364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09440" y="4487400"/>
              <a:ext cx="20880" cy="10800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60040" y="4658040"/>
              <a:ext cx="259560" cy="23148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63640" y="4718880"/>
              <a:ext cx="21960" cy="11340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02880" y="3916440"/>
              <a:ext cx="60840" cy="799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01080" y="4109760"/>
              <a:ext cx="17280" cy="10476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44640" y="4109760"/>
              <a:ext cx="24840" cy="11772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1080" y="4315320"/>
              <a:ext cx="20880" cy="18900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44640" y="4313160"/>
              <a:ext cx="16200" cy="19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98200" y="4585680"/>
              <a:ext cx="26280" cy="14688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9240" y="4585680"/>
              <a:ext cx="24480" cy="15120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520" y="4812840"/>
              <a:ext cx="81720" cy="41832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3720" y="4520880"/>
              <a:ext cx="241920" cy="72864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00800" y="4515480"/>
              <a:ext cx="414000" cy="7340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9880" y="4520880"/>
              <a:ext cx="393480" cy="48636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5000" y="5031000"/>
              <a:ext cx="99720" cy="4320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03680" y="5068080"/>
              <a:ext cx="280800" cy="40968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1760" y="4515480"/>
              <a:ext cx="1292400" cy="6264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22040" y="4490280"/>
              <a:ext cx="915120" cy="874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880" y="2743200"/>
              <a:ext cx="56160" cy="3556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7760" y="4799880"/>
              <a:ext cx="68400" cy="421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38960" y="6029280"/>
              <a:ext cx="264600" cy="20988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23720" y="5014800"/>
              <a:ext cx="87480" cy="11988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5040" y="2874960"/>
              <a:ext cx="124560" cy="1274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3200" y="2891160"/>
              <a:ext cx="121680" cy="12996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8480" y="3276000"/>
              <a:ext cx="125640" cy="1285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6280" y="2913120"/>
              <a:ext cx="126720" cy="130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32440" y="3088080"/>
              <a:ext cx="36000" cy="410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81800" y="3085920"/>
              <a:ext cx="73440" cy="7560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57240" y="3864240"/>
              <a:ext cx="75240" cy="76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48480" y="2948400"/>
              <a:ext cx="12456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71720" y="3411360"/>
              <a:ext cx="123480" cy="12960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89560" y="3692520"/>
              <a:ext cx="123840" cy="1263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42160" y="3288240"/>
              <a:ext cx="125640" cy="12852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4000" y="3754080"/>
              <a:ext cx="37080" cy="41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20360" y="3501360"/>
              <a:ext cx="77760" cy="7740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98320" y="4281840"/>
              <a:ext cx="74160" cy="76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0840" y="2906280"/>
              <a:ext cx="12672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022920"/>
              <a:ext cx="123480" cy="12852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45600" y="3999600"/>
              <a:ext cx="126720" cy="12996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53400" y="3638520"/>
              <a:ext cx="12456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28480" y="3814560"/>
              <a:ext cx="38880" cy="3672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77120" y="3810600"/>
              <a:ext cx="75960" cy="7524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99960" y="3035880"/>
              <a:ext cx="75960" cy="7776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1800" y="3485880"/>
              <a:ext cx="12276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9120" y="4029840"/>
              <a:ext cx="121680" cy="1306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55360" y="3248280"/>
              <a:ext cx="123480" cy="1263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81200" y="3304440"/>
              <a:ext cx="123480" cy="130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5200" y="3479400"/>
              <a:ext cx="36000" cy="39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04920" y="3474000"/>
              <a:ext cx="74160" cy="788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40040" y="3615840"/>
              <a:ext cx="77760" cy="76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06680" y="2843640"/>
              <a:ext cx="12744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4480" y="3084840"/>
              <a:ext cx="122040" cy="12852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19160" y="4102200"/>
              <a:ext cx="126360" cy="1306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5720" y="4026600"/>
              <a:ext cx="126720" cy="12816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95200" y="3895920"/>
              <a:ext cx="34920" cy="41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84640" y="3724920"/>
              <a:ext cx="75960" cy="777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3011400"/>
              <a:ext cx="74880" cy="76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4880" y="3151800"/>
              <a:ext cx="12456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734640"/>
              <a:ext cx="121680" cy="1328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31520" y="4140360"/>
              <a:ext cx="126720" cy="1263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6200" y="4322880"/>
              <a:ext cx="12744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4120" y="4202640"/>
              <a:ext cx="34920" cy="42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02040" y="4199760"/>
              <a:ext cx="73080" cy="745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93360" y="3136680"/>
              <a:ext cx="74160" cy="7452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69240" y="4328280"/>
              <a:ext cx="72360" cy="76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240" y="4442760"/>
              <a:ext cx="36720" cy="399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3240" y="3297960"/>
              <a:ext cx="74160" cy="76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8040" y="3713040"/>
              <a:ext cx="36000" cy="40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97920" y="3952080"/>
              <a:ext cx="36000" cy="388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14400" y="3648240"/>
              <a:ext cx="34920" cy="399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27720" y="4341240"/>
              <a:ext cx="36720" cy="37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45680" y="4255920"/>
              <a:ext cx="39960" cy="421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4880" y="3916440"/>
              <a:ext cx="37080" cy="38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59160" y="5681160"/>
              <a:ext cx="331560" cy="54792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11600" y="4772520"/>
              <a:ext cx="65520" cy="66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24840" y="5099400"/>
              <a:ext cx="24840" cy="11016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56240" y="5699520"/>
              <a:ext cx="37800" cy="784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1760" y="5547960"/>
              <a:ext cx="38880" cy="106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21760" y="5373000"/>
              <a:ext cx="15120" cy="3996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5040" y="4930560"/>
              <a:ext cx="29520" cy="334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8000" y="4978080"/>
              <a:ext cx="39960" cy="10800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1800" y="6085440"/>
              <a:ext cx="102600" cy="1609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32480" y="4483080"/>
              <a:ext cx="83520" cy="5040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61200" y="4449600"/>
              <a:ext cx="50400" cy="993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97920" y="5271120"/>
              <a:ext cx="44640" cy="7560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05480" y="5104800"/>
              <a:ext cx="73440" cy="7128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3276720" y="304920"/>
            <a:ext cx="5486400" cy="6165360"/>
            <a:chOff x="3276720" y="304920"/>
            <a:chExt cx="5486400" cy="6165360"/>
          </a:xfrm>
        </p:grpSpPr>
        <p:sp>
          <p:nvSpPr>
            <p:cNvPr id="660" name=""/>
            <p:cNvSpPr/>
            <p:nvPr/>
          </p:nvSpPr>
          <p:spPr>
            <a:xfrm>
              <a:off x="3276720" y="304920"/>
              <a:ext cx="5486400" cy="61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« L’estime de soi est le plus précieux héritage que les parents peuvent laisser à leur enfan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t héritage n’est possible que grâce à la relation d’attachement et à des attitudes aimantes. L’enfant qui est sécurisé physiquement et psychologiquement, qui ressent un sentiment de confiance face à la vie, qui se connaît et se confère à lui-même une identité propre, qui ressent vivement un sentiment d’appartenance à sa famille et à un groupe, qui développe ses compétences et prend conscience finalement de sa valeur personnelle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hérite d’un tré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ns lequel il pourra pui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ute sa vie pour affro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difficultés. Cet héritage constitue le meilleur passeport qu’il puisse détenir pour s’épanouir pleinement et grandir constamment.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ermain Duclos dans : L’estime de soi, un passeport pour la vi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6934320" y="4011480"/>
              <a:ext cx="114300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"/>
          <p:cNvSpPr txBox="1"/>
          <p:nvPr/>
        </p:nvSpPr>
        <p:spPr>
          <a:xfrm rot="20860800">
            <a:off x="304920" y="609480"/>
            <a:ext cx="26668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 passeport 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our la vie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304920" y="2971800"/>
            <a:ext cx="8305560" cy="2814120"/>
            <a:chOff x="304920" y="2971800"/>
            <a:chExt cx="8305560" cy="2814120"/>
          </a:xfrm>
        </p:grpSpPr>
        <p:sp>
          <p:nvSpPr>
            <p:cNvPr id="664" name=""/>
            <p:cNvSpPr/>
            <p:nvPr/>
          </p:nvSpPr>
          <p:spPr>
            <a:xfrm>
              <a:off x="457200" y="2971800"/>
              <a:ext cx="8153280" cy="459720"/>
            </a:xfrm>
            <a:prstGeom prst="rect">
              <a:avLst/>
            </a:pr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 qui est à APPRENDR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4920" y="3657600"/>
              <a:ext cx="274320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57200" y="609480"/>
            <a:ext cx="81532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 est à COMPREND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19320" y="13716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200400" y="914400"/>
            <a:ext cx="5943600" cy="2666880"/>
            <a:chOff x="3200400" y="914400"/>
            <a:chExt cx="5943600" cy="2666880"/>
          </a:xfrm>
        </p:grpSpPr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7086600" y="1909800"/>
              <a:ext cx="2057400" cy="16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00400" y="914400"/>
              <a:ext cx="5638680" cy="1066680"/>
            </a:xfrm>
            <a:prstGeom prst="cloudCallout">
              <a:avLst>
                <a:gd name="adj1" fmla="val 32768"/>
                <a:gd name="adj2" fmla="val 675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urquoi est-ce important de développer l’estime de soi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>
            <a:off x="4114800" y="5334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204080" y="3721680"/>
            <a:ext cx="354960" cy="405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1970640" y="5344560"/>
            <a:ext cx="401400" cy="36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981080" y="36576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/>
          <p:nvPr/>
        </p:nvCxnSpPr>
        <p:spPr>
          <a:xfrm flipV="1">
            <a:off x="3276360" y="419076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/>
          <p:nvPr/>
        </p:nvCxnSpPr>
        <p:spPr>
          <a:xfrm>
            <a:off x="2819520" y="4572000"/>
            <a:ext cx="915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 rot="17809800">
            <a:off x="-96840" y="2382840"/>
            <a:ext cx="2992320" cy="969840"/>
          </a:xfrm>
          <a:custGeom>
            <a:avLst/>
            <a:gdLst>
              <a:gd name="textAreaLeft" fmla="*/ 643320 w 2992320"/>
              <a:gd name="textAreaRight" fmla="*/ 2049480 w 2992320"/>
              <a:gd name="textAreaTop" fmla="*/ 129960 h 969840"/>
              <a:gd name="textAreaBottom" fmla="*/ 839880 h 9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3416936"/>
                <a:lnTo>
                  <a:pt x="21256" y="15778"/>
                </a:lnTo>
                <a:lnTo>
                  <a:pt x="19012" y="21600"/>
                </a:lnTo>
                <a:lnTo>
                  <a:pt x="16079" y="15778"/>
                </a:lnTo>
                <a:lnTo>
                  <a:pt x="18239" y="15778"/>
                </a:lnTo>
                <a:arcTo wR="9292" hR="21600" stAng="-1983064" swAng="-3348674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3790200">
            <a:off x="3601440" y="2337840"/>
            <a:ext cx="3215160" cy="1066680"/>
          </a:xfrm>
          <a:custGeom>
            <a:avLst/>
            <a:gdLst>
              <a:gd name="textAreaLeft" fmla="*/ 691200 w 3215160"/>
              <a:gd name="textAreaRight" fmla="*/ 2201760 w 32151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2932151"/>
                <a:lnTo>
                  <a:pt x="21007" y="14004"/>
                </a:lnTo>
                <a:lnTo>
                  <a:pt x="19012" y="21600"/>
                </a:lnTo>
                <a:lnTo>
                  <a:pt x="15830" y="14004"/>
                </a:lnTo>
                <a:lnTo>
                  <a:pt x="17990" y="14004"/>
                </a:lnTo>
                <a:arcTo wR="9292" hR="21600" stAng="-2467849" swAng="-2863889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4408800">
            <a:off x="3250800" y="2387520"/>
            <a:ext cx="1905120" cy="635040"/>
          </a:xfrm>
          <a:custGeom>
            <a:avLst/>
            <a:gdLst>
              <a:gd name="textAreaLeft" fmla="*/ 410040 w 1905120"/>
              <a:gd name="textAreaRight" fmla="*/ 1305360 w 1905120"/>
              <a:gd name="textAreaTop" fmla="*/ 84960 h 635040"/>
              <a:gd name="textAreaBottom" fmla="*/ 550080 h 63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2843751"/>
                <a:lnTo>
                  <a:pt x="20948" y="13654"/>
                </a:lnTo>
                <a:lnTo>
                  <a:pt x="19012" y="21600"/>
                </a:lnTo>
                <a:lnTo>
                  <a:pt x="15771" y="13654"/>
                </a:lnTo>
                <a:lnTo>
                  <a:pt x="17931" y="13654"/>
                </a:lnTo>
                <a:arcTo wR="9292" hR="21600" stAng="-2556249" swAng="-2775489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5735000">
            <a:off x="-1485720" y="2705040"/>
            <a:ext cx="5486400" cy="2057400"/>
          </a:xfrm>
          <a:custGeom>
            <a:avLst/>
            <a:gdLst>
              <a:gd name="textAreaLeft" fmla="*/ 1186560 w 5486400"/>
              <a:gd name="textAreaRight" fmla="*/ 3707640 w 548640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5" hR="21600" stAng="10800000" swAng="5400000"/>
                <a:lnTo>
                  <a:pt x="9925" y="0"/>
                </a:lnTo>
                <a:arcTo wR="9345" hR="21600" stAng="-5400000" swAng="2835598"/>
                <a:lnTo>
                  <a:pt x="20932" y="13582"/>
                </a:lnTo>
                <a:lnTo>
                  <a:pt x="18979" y="21600"/>
                </a:lnTo>
                <a:lnTo>
                  <a:pt x="15690" y="13582"/>
                </a:lnTo>
                <a:lnTo>
                  <a:pt x="18021" y="13582"/>
                </a:lnTo>
                <a:arcTo wR="9345" hR="21600" stAng="-2564402" swAng="-2789423"/>
                <a:lnTo>
                  <a:pt x="9635" y="10"/>
                </a:lnTo>
                <a:arcTo wR="9345" hR="21600" stAng="-5446174" swAng="-5353826"/>
                <a:close/>
              </a:path>
              <a:path fill="darkenLess" w="21600" h="21600">
                <a:moveTo>
                  <a:pt x="0" y="21600"/>
                </a:moveTo>
                <a:arcTo wR="9345" hR="21600" stAng="10800000" swAng="5400000"/>
                <a:lnTo>
                  <a:pt x="9345" y="0"/>
                </a:lnTo>
                <a:arcTo wR="9345" hR="21600" stAng="-5400000" swAng="46174"/>
                <a:lnTo>
                  <a:pt x="9635" y="10"/>
                </a:lnTo>
                <a:arcTo wR="9345" hR="21600" stAng="-5446174" swAng="-5353826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521000">
            <a:off x="73080" y="500076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reconnaître une valeur pers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809600">
            <a:off x="4646160" y="4954680"/>
            <a:ext cx="197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reconnaître une valeur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25909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sentir capable de réussir, se reconnaître une valeur dans ses différents rô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803480" y="245520"/>
            <a:ext cx="2203560" cy="1178280"/>
            <a:chOff x="4803480" y="245520"/>
            <a:chExt cx="2203560" cy="1178280"/>
          </a:xfrm>
        </p:grpSpPr>
        <p:sp>
          <p:nvSpPr>
            <p:cNvPr id="685" name=""/>
            <p:cNvSpPr/>
            <p:nvPr/>
          </p:nvSpPr>
          <p:spPr>
            <a:xfrm rot="1218000">
              <a:off x="5028840" y="990360"/>
              <a:ext cx="1219320" cy="228600"/>
            </a:xfrm>
            <a:custGeom>
              <a:avLst/>
              <a:gdLst>
                <a:gd name="textAreaLeft" fmla="*/ 190440 w 1219320"/>
                <a:gd name="textAreaRight" fmla="*/ 1067040 w 12193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89800">
              <a:off x="4800240" y="6091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 manifeste p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362320" y="3048120"/>
            <a:ext cx="1828800" cy="1066680"/>
            <a:chOff x="2362320" y="3048120"/>
            <a:chExt cx="1828800" cy="1066680"/>
          </a:xfrm>
        </p:grpSpPr>
        <p:sp>
          <p:nvSpPr>
            <p:cNvPr id="688" name=""/>
            <p:cNvSpPr/>
            <p:nvPr/>
          </p:nvSpPr>
          <p:spPr>
            <a:xfrm>
              <a:off x="2362320" y="3048120"/>
              <a:ext cx="1828800" cy="106668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é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048120" y="3352680"/>
              <a:ext cx="685800" cy="685440"/>
              <a:chOff x="3048120" y="3352680"/>
              <a:chExt cx="685800" cy="685440"/>
            </a:xfrm>
          </p:grpSpPr>
          <p:sp>
            <p:nvSpPr>
              <p:cNvPr id="690" name=""/>
              <p:cNvSpPr/>
              <p:nvPr/>
            </p:nvSpPr>
            <p:spPr>
              <a:xfrm>
                <a:off x="3048120" y="3433680"/>
                <a:ext cx="685800" cy="604440"/>
              </a:xfrm>
              <a:custGeom>
                <a:avLst/>
                <a:gdLst/>
                <a:ahLst/>
                <a:rect l="l" t="t" r="r" b="b"/>
                <a:pathLst>
                  <a:path w="2862" h="2233">
                    <a:moveTo>
                      <a:pt x="1" y="1057"/>
                    </a:moveTo>
                    <a:lnTo>
                      <a:pt x="7" y="1133"/>
                    </a:lnTo>
                    <a:lnTo>
                      <a:pt x="15" y="1209"/>
                    </a:lnTo>
                    <a:lnTo>
                      <a:pt x="25" y="1285"/>
                    </a:lnTo>
                    <a:lnTo>
                      <a:pt x="37" y="1363"/>
                    </a:lnTo>
                    <a:lnTo>
                      <a:pt x="54" y="1439"/>
                    </a:lnTo>
                    <a:lnTo>
                      <a:pt x="73" y="1514"/>
                    </a:lnTo>
                    <a:lnTo>
                      <a:pt x="97" y="1588"/>
                    </a:lnTo>
                    <a:lnTo>
                      <a:pt x="124" y="1660"/>
                    </a:lnTo>
                    <a:lnTo>
                      <a:pt x="154" y="1730"/>
                    </a:lnTo>
                    <a:lnTo>
                      <a:pt x="188" y="1799"/>
                    </a:lnTo>
                    <a:lnTo>
                      <a:pt x="228" y="1863"/>
                    </a:lnTo>
                    <a:lnTo>
                      <a:pt x="271" y="1924"/>
                    </a:lnTo>
                    <a:lnTo>
                      <a:pt x="321" y="1982"/>
                    </a:lnTo>
                    <a:lnTo>
                      <a:pt x="373" y="2036"/>
                    </a:lnTo>
                    <a:lnTo>
                      <a:pt x="433" y="2085"/>
                    </a:lnTo>
                    <a:lnTo>
                      <a:pt x="497" y="2129"/>
                    </a:lnTo>
                    <a:lnTo>
                      <a:pt x="528" y="2150"/>
                    </a:lnTo>
                    <a:lnTo>
                      <a:pt x="561" y="2167"/>
                    </a:lnTo>
                    <a:lnTo>
                      <a:pt x="595" y="2182"/>
                    </a:lnTo>
                    <a:lnTo>
                      <a:pt x="631" y="2196"/>
                    </a:lnTo>
                    <a:lnTo>
                      <a:pt x="667" y="2208"/>
                    </a:lnTo>
                    <a:lnTo>
                      <a:pt x="703" y="2217"/>
                    </a:lnTo>
                    <a:lnTo>
                      <a:pt x="742" y="2224"/>
                    </a:lnTo>
                    <a:lnTo>
                      <a:pt x="779" y="2229"/>
                    </a:lnTo>
                    <a:lnTo>
                      <a:pt x="818" y="2232"/>
                    </a:lnTo>
                    <a:lnTo>
                      <a:pt x="856" y="2233"/>
                    </a:lnTo>
                    <a:lnTo>
                      <a:pt x="895" y="2233"/>
                    </a:lnTo>
                    <a:lnTo>
                      <a:pt x="934" y="2232"/>
                    </a:lnTo>
                    <a:lnTo>
                      <a:pt x="973" y="2227"/>
                    </a:lnTo>
                    <a:lnTo>
                      <a:pt x="1012" y="2223"/>
                    </a:lnTo>
                    <a:lnTo>
                      <a:pt x="1050" y="2215"/>
                    </a:lnTo>
                    <a:lnTo>
                      <a:pt x="1088" y="2208"/>
                    </a:lnTo>
                    <a:lnTo>
                      <a:pt x="1150" y="2178"/>
                    </a:lnTo>
                    <a:lnTo>
                      <a:pt x="1209" y="2145"/>
                    </a:lnTo>
                    <a:lnTo>
                      <a:pt x="1265" y="2109"/>
                    </a:lnTo>
                    <a:lnTo>
                      <a:pt x="1319" y="2069"/>
                    </a:lnTo>
                    <a:lnTo>
                      <a:pt x="1371" y="2027"/>
                    </a:lnTo>
                    <a:lnTo>
                      <a:pt x="1419" y="1982"/>
                    </a:lnTo>
                    <a:lnTo>
                      <a:pt x="1464" y="1933"/>
                    </a:lnTo>
                    <a:lnTo>
                      <a:pt x="1506" y="1882"/>
                    </a:lnTo>
                    <a:lnTo>
                      <a:pt x="1544" y="1829"/>
                    </a:lnTo>
                    <a:lnTo>
                      <a:pt x="1579" y="1772"/>
                    </a:lnTo>
                    <a:lnTo>
                      <a:pt x="1610" y="1712"/>
                    </a:lnTo>
                    <a:lnTo>
                      <a:pt x="1638" y="1651"/>
                    </a:lnTo>
                    <a:lnTo>
                      <a:pt x="1662" y="1587"/>
                    </a:lnTo>
                    <a:lnTo>
                      <a:pt x="1683" y="1520"/>
                    </a:lnTo>
                    <a:lnTo>
                      <a:pt x="1700" y="1449"/>
                    </a:lnTo>
                    <a:lnTo>
                      <a:pt x="1711" y="1378"/>
                    </a:lnTo>
                    <a:lnTo>
                      <a:pt x="1716" y="1285"/>
                    </a:lnTo>
                    <a:lnTo>
                      <a:pt x="1716" y="1190"/>
                    </a:lnTo>
                    <a:lnTo>
                      <a:pt x="1716" y="1099"/>
                    </a:lnTo>
                    <a:lnTo>
                      <a:pt x="1719" y="1015"/>
                    </a:lnTo>
                    <a:lnTo>
                      <a:pt x="1753" y="1006"/>
                    </a:lnTo>
                    <a:lnTo>
                      <a:pt x="1789" y="996"/>
                    </a:lnTo>
                    <a:lnTo>
                      <a:pt x="1825" y="985"/>
                    </a:lnTo>
                    <a:lnTo>
                      <a:pt x="1862" y="975"/>
                    </a:lnTo>
                    <a:lnTo>
                      <a:pt x="1900" y="964"/>
                    </a:lnTo>
                    <a:lnTo>
                      <a:pt x="1937" y="954"/>
                    </a:lnTo>
                    <a:lnTo>
                      <a:pt x="1974" y="942"/>
                    </a:lnTo>
                    <a:lnTo>
                      <a:pt x="2013" y="931"/>
                    </a:lnTo>
                    <a:lnTo>
                      <a:pt x="2050" y="923"/>
                    </a:lnTo>
                    <a:lnTo>
                      <a:pt x="2089" y="914"/>
                    </a:lnTo>
                    <a:lnTo>
                      <a:pt x="2128" y="905"/>
                    </a:lnTo>
                    <a:lnTo>
                      <a:pt x="2167" y="899"/>
                    </a:lnTo>
                    <a:lnTo>
                      <a:pt x="2204" y="893"/>
                    </a:lnTo>
                    <a:lnTo>
                      <a:pt x="2243" y="888"/>
                    </a:lnTo>
                    <a:lnTo>
                      <a:pt x="2280" y="885"/>
                    </a:lnTo>
                    <a:lnTo>
                      <a:pt x="2317" y="885"/>
                    </a:lnTo>
                    <a:lnTo>
                      <a:pt x="2331" y="905"/>
                    </a:lnTo>
                    <a:lnTo>
                      <a:pt x="2346" y="923"/>
                    </a:lnTo>
                    <a:lnTo>
                      <a:pt x="2364" y="939"/>
                    </a:lnTo>
                    <a:lnTo>
                      <a:pt x="2382" y="955"/>
                    </a:lnTo>
                    <a:lnTo>
                      <a:pt x="2399" y="972"/>
                    </a:lnTo>
                    <a:lnTo>
                      <a:pt x="2420" y="987"/>
                    </a:lnTo>
                    <a:lnTo>
                      <a:pt x="2441" y="1002"/>
                    </a:lnTo>
                    <a:lnTo>
                      <a:pt x="2464" y="1014"/>
                    </a:lnTo>
                    <a:lnTo>
                      <a:pt x="2486" y="1027"/>
                    </a:lnTo>
                    <a:lnTo>
                      <a:pt x="2510" y="1039"/>
                    </a:lnTo>
                    <a:lnTo>
                      <a:pt x="2534" y="1049"/>
                    </a:lnTo>
                    <a:lnTo>
                      <a:pt x="2559" y="1060"/>
                    </a:lnTo>
                    <a:lnTo>
                      <a:pt x="2583" y="1070"/>
                    </a:lnTo>
                    <a:lnTo>
                      <a:pt x="2608" y="1079"/>
                    </a:lnTo>
                    <a:lnTo>
                      <a:pt x="2634" y="1087"/>
                    </a:lnTo>
                    <a:lnTo>
                      <a:pt x="2659" y="1094"/>
                    </a:lnTo>
                    <a:lnTo>
                      <a:pt x="2684" y="1082"/>
                    </a:lnTo>
                    <a:lnTo>
                      <a:pt x="2708" y="1067"/>
                    </a:lnTo>
                    <a:lnTo>
                      <a:pt x="2728" y="1048"/>
                    </a:lnTo>
                    <a:lnTo>
                      <a:pt x="2746" y="1026"/>
                    </a:lnTo>
                    <a:lnTo>
                      <a:pt x="2761" y="1002"/>
                    </a:lnTo>
                    <a:lnTo>
                      <a:pt x="2774" y="976"/>
                    </a:lnTo>
                    <a:lnTo>
                      <a:pt x="2784" y="948"/>
                    </a:lnTo>
                    <a:lnTo>
                      <a:pt x="2793" y="921"/>
                    </a:lnTo>
                    <a:lnTo>
                      <a:pt x="2790" y="885"/>
                    </a:lnTo>
                    <a:lnTo>
                      <a:pt x="2783" y="855"/>
                    </a:lnTo>
                    <a:lnTo>
                      <a:pt x="2775" y="828"/>
                    </a:lnTo>
                    <a:lnTo>
                      <a:pt x="2768" y="800"/>
                    </a:lnTo>
                    <a:lnTo>
                      <a:pt x="2774" y="784"/>
                    </a:lnTo>
                    <a:lnTo>
                      <a:pt x="2786" y="770"/>
                    </a:lnTo>
                    <a:lnTo>
                      <a:pt x="2801" y="760"/>
                    </a:lnTo>
                    <a:lnTo>
                      <a:pt x="2817" y="749"/>
                    </a:lnTo>
                    <a:lnTo>
                      <a:pt x="2834" y="737"/>
                    </a:lnTo>
                    <a:lnTo>
                      <a:pt x="2849" y="724"/>
                    </a:lnTo>
                    <a:lnTo>
                      <a:pt x="2858" y="706"/>
                    </a:lnTo>
                    <a:lnTo>
                      <a:pt x="2862" y="682"/>
                    </a:lnTo>
                    <a:lnTo>
                      <a:pt x="2856" y="676"/>
                    </a:lnTo>
                    <a:lnTo>
                      <a:pt x="2853" y="673"/>
                    </a:lnTo>
                    <a:lnTo>
                      <a:pt x="2850" y="670"/>
                    </a:lnTo>
                    <a:lnTo>
                      <a:pt x="2838" y="660"/>
                    </a:lnTo>
                    <a:lnTo>
                      <a:pt x="2832" y="660"/>
                    </a:lnTo>
                    <a:lnTo>
                      <a:pt x="2828" y="661"/>
                    </a:lnTo>
                    <a:lnTo>
                      <a:pt x="2822" y="661"/>
                    </a:lnTo>
                    <a:lnTo>
                      <a:pt x="2816" y="663"/>
                    </a:lnTo>
                    <a:lnTo>
                      <a:pt x="2810" y="664"/>
                    </a:lnTo>
                    <a:lnTo>
                      <a:pt x="2804" y="664"/>
                    </a:lnTo>
                    <a:lnTo>
                      <a:pt x="2796" y="666"/>
                    </a:lnTo>
                    <a:lnTo>
                      <a:pt x="2789" y="666"/>
                    </a:lnTo>
                    <a:lnTo>
                      <a:pt x="2777" y="646"/>
                    </a:lnTo>
                    <a:lnTo>
                      <a:pt x="2772" y="624"/>
                    </a:lnTo>
                    <a:lnTo>
                      <a:pt x="2777" y="603"/>
                    </a:lnTo>
                    <a:lnTo>
                      <a:pt x="2784" y="579"/>
                    </a:lnTo>
                    <a:lnTo>
                      <a:pt x="2795" y="555"/>
                    </a:lnTo>
                    <a:lnTo>
                      <a:pt x="2805" y="530"/>
                    </a:lnTo>
                    <a:lnTo>
                      <a:pt x="2813" y="503"/>
                    </a:lnTo>
                    <a:lnTo>
                      <a:pt x="2814" y="476"/>
                    </a:lnTo>
                    <a:lnTo>
                      <a:pt x="2778" y="409"/>
                    </a:lnTo>
                    <a:lnTo>
                      <a:pt x="2759" y="403"/>
                    </a:lnTo>
                    <a:lnTo>
                      <a:pt x="2741" y="400"/>
                    </a:lnTo>
                    <a:lnTo>
                      <a:pt x="2722" y="399"/>
                    </a:lnTo>
                    <a:lnTo>
                      <a:pt x="2702" y="402"/>
                    </a:lnTo>
                    <a:lnTo>
                      <a:pt x="2683" y="406"/>
                    </a:lnTo>
                    <a:lnTo>
                      <a:pt x="2664" y="412"/>
                    </a:lnTo>
                    <a:lnTo>
                      <a:pt x="2644" y="421"/>
                    </a:lnTo>
                    <a:lnTo>
                      <a:pt x="2625" y="430"/>
                    </a:lnTo>
                    <a:lnTo>
                      <a:pt x="2605" y="440"/>
                    </a:lnTo>
                    <a:lnTo>
                      <a:pt x="2587" y="452"/>
                    </a:lnTo>
                    <a:lnTo>
                      <a:pt x="2570" y="464"/>
                    </a:lnTo>
                    <a:lnTo>
                      <a:pt x="2552" y="476"/>
                    </a:lnTo>
                    <a:lnTo>
                      <a:pt x="2535" y="488"/>
                    </a:lnTo>
                    <a:lnTo>
                      <a:pt x="2519" y="499"/>
                    </a:lnTo>
                    <a:lnTo>
                      <a:pt x="2504" y="509"/>
                    </a:lnTo>
                    <a:lnTo>
                      <a:pt x="2489" y="518"/>
                    </a:lnTo>
                    <a:lnTo>
                      <a:pt x="2473" y="533"/>
                    </a:lnTo>
                    <a:lnTo>
                      <a:pt x="2456" y="548"/>
                    </a:lnTo>
                    <a:lnTo>
                      <a:pt x="2440" y="563"/>
                    </a:lnTo>
                    <a:lnTo>
                      <a:pt x="2425" y="578"/>
                    </a:lnTo>
                    <a:lnTo>
                      <a:pt x="2410" y="593"/>
                    </a:lnTo>
                    <a:lnTo>
                      <a:pt x="2395" y="606"/>
                    </a:lnTo>
                    <a:lnTo>
                      <a:pt x="2380" y="621"/>
                    </a:lnTo>
                    <a:lnTo>
                      <a:pt x="2367" y="636"/>
                    </a:lnTo>
                    <a:lnTo>
                      <a:pt x="2352" y="651"/>
                    </a:lnTo>
                    <a:lnTo>
                      <a:pt x="2338" y="666"/>
                    </a:lnTo>
                    <a:lnTo>
                      <a:pt x="2323" y="679"/>
                    </a:lnTo>
                    <a:lnTo>
                      <a:pt x="2308" y="694"/>
                    </a:lnTo>
                    <a:lnTo>
                      <a:pt x="2295" y="709"/>
                    </a:lnTo>
                    <a:lnTo>
                      <a:pt x="2280" y="722"/>
                    </a:lnTo>
                    <a:lnTo>
                      <a:pt x="2265" y="737"/>
                    </a:lnTo>
                    <a:lnTo>
                      <a:pt x="2249" y="751"/>
                    </a:lnTo>
                    <a:lnTo>
                      <a:pt x="1695" y="843"/>
                    </a:lnTo>
                    <a:lnTo>
                      <a:pt x="1668" y="784"/>
                    </a:lnTo>
                    <a:lnTo>
                      <a:pt x="1641" y="725"/>
                    </a:lnTo>
                    <a:lnTo>
                      <a:pt x="1614" y="667"/>
                    </a:lnTo>
                    <a:lnTo>
                      <a:pt x="1586" y="611"/>
                    </a:lnTo>
                    <a:lnTo>
                      <a:pt x="1556" y="554"/>
                    </a:lnTo>
                    <a:lnTo>
                      <a:pt x="1525" y="499"/>
                    </a:lnTo>
                    <a:lnTo>
                      <a:pt x="1494" y="445"/>
                    </a:lnTo>
                    <a:lnTo>
                      <a:pt x="1459" y="391"/>
                    </a:lnTo>
                    <a:lnTo>
                      <a:pt x="1423" y="342"/>
                    </a:lnTo>
                    <a:lnTo>
                      <a:pt x="1385" y="293"/>
                    </a:lnTo>
                    <a:lnTo>
                      <a:pt x="1344" y="248"/>
                    </a:lnTo>
                    <a:lnTo>
                      <a:pt x="1301" y="205"/>
                    </a:lnTo>
                    <a:lnTo>
                      <a:pt x="1255" y="164"/>
                    </a:lnTo>
                    <a:lnTo>
                      <a:pt x="1204" y="125"/>
                    </a:lnTo>
                    <a:lnTo>
                      <a:pt x="1152" y="93"/>
                    </a:lnTo>
                    <a:lnTo>
                      <a:pt x="1095" y="61"/>
                    </a:lnTo>
                    <a:lnTo>
                      <a:pt x="1071" y="55"/>
                    </a:lnTo>
                    <a:lnTo>
                      <a:pt x="1049" y="51"/>
                    </a:lnTo>
                    <a:lnTo>
                      <a:pt x="1025" y="48"/>
                    </a:lnTo>
                    <a:lnTo>
                      <a:pt x="1003" y="45"/>
                    </a:lnTo>
                    <a:lnTo>
                      <a:pt x="980" y="42"/>
                    </a:lnTo>
                    <a:lnTo>
                      <a:pt x="958" y="39"/>
                    </a:lnTo>
                    <a:lnTo>
                      <a:pt x="937" y="37"/>
                    </a:lnTo>
                    <a:lnTo>
                      <a:pt x="915" y="34"/>
                    </a:lnTo>
                    <a:lnTo>
                      <a:pt x="894" y="33"/>
                    </a:lnTo>
                    <a:lnTo>
                      <a:pt x="873" y="30"/>
                    </a:lnTo>
                    <a:lnTo>
                      <a:pt x="852" y="27"/>
                    </a:lnTo>
                    <a:lnTo>
                      <a:pt x="831" y="22"/>
                    </a:lnTo>
                    <a:lnTo>
                      <a:pt x="810" y="18"/>
                    </a:lnTo>
                    <a:lnTo>
                      <a:pt x="791" y="13"/>
                    </a:lnTo>
                    <a:lnTo>
                      <a:pt x="770" y="7"/>
                    </a:lnTo>
                    <a:lnTo>
                      <a:pt x="750" y="0"/>
                    </a:lnTo>
                    <a:lnTo>
                      <a:pt x="440" y="81"/>
                    </a:lnTo>
                    <a:lnTo>
                      <a:pt x="389" y="125"/>
                    </a:lnTo>
                    <a:lnTo>
                      <a:pt x="340" y="173"/>
                    </a:lnTo>
                    <a:lnTo>
                      <a:pt x="294" y="224"/>
                    </a:lnTo>
                    <a:lnTo>
                      <a:pt x="251" y="276"/>
                    </a:lnTo>
                    <a:lnTo>
                      <a:pt x="210" y="331"/>
                    </a:lnTo>
                    <a:lnTo>
                      <a:pt x="173" y="388"/>
                    </a:lnTo>
                    <a:lnTo>
                      <a:pt x="139" y="448"/>
                    </a:lnTo>
                    <a:lnTo>
                      <a:pt x="109" y="508"/>
                    </a:lnTo>
                    <a:lnTo>
                      <a:pt x="80" y="572"/>
                    </a:lnTo>
                    <a:lnTo>
                      <a:pt x="58" y="636"/>
                    </a:lnTo>
                    <a:lnTo>
                      <a:pt x="39" y="703"/>
                    </a:lnTo>
                    <a:lnTo>
                      <a:pt x="22" y="770"/>
                    </a:lnTo>
                    <a:lnTo>
                      <a:pt x="10" y="840"/>
                    </a:lnTo>
                    <a:lnTo>
                      <a:pt x="3" y="911"/>
                    </a:lnTo>
                    <a:lnTo>
                      <a:pt x="0" y="984"/>
                    </a:lnTo>
                    <a:lnTo>
                      <a:pt x="1" y="10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61440" y="3504600"/>
                <a:ext cx="166320" cy="516960"/>
              </a:xfrm>
              <a:custGeom>
                <a:avLst/>
                <a:gdLst/>
                <a:ahLst/>
                <a:rect l="l" t="t" r="r" b="b"/>
                <a:pathLst>
                  <a:path w="695" h="1912">
                    <a:moveTo>
                      <a:pt x="0" y="945"/>
                    </a:moveTo>
                    <a:lnTo>
                      <a:pt x="15" y="994"/>
                    </a:lnTo>
                    <a:lnTo>
                      <a:pt x="25" y="1043"/>
                    </a:lnTo>
                    <a:lnTo>
                      <a:pt x="33" y="1092"/>
                    </a:lnTo>
                    <a:lnTo>
                      <a:pt x="40" y="1142"/>
                    </a:lnTo>
                    <a:lnTo>
                      <a:pt x="49" y="1192"/>
                    </a:lnTo>
                    <a:lnTo>
                      <a:pt x="60" y="1242"/>
                    </a:lnTo>
                    <a:lnTo>
                      <a:pt x="76" y="1292"/>
                    </a:lnTo>
                    <a:lnTo>
                      <a:pt x="97" y="1343"/>
                    </a:lnTo>
                    <a:lnTo>
                      <a:pt x="118" y="1394"/>
                    </a:lnTo>
                    <a:lnTo>
                      <a:pt x="140" y="1442"/>
                    </a:lnTo>
                    <a:lnTo>
                      <a:pt x="166" y="1489"/>
                    </a:lnTo>
                    <a:lnTo>
                      <a:pt x="194" y="1536"/>
                    </a:lnTo>
                    <a:lnTo>
                      <a:pt x="225" y="1581"/>
                    </a:lnTo>
                    <a:lnTo>
                      <a:pt x="258" y="1622"/>
                    </a:lnTo>
                    <a:lnTo>
                      <a:pt x="293" y="1663"/>
                    </a:lnTo>
                    <a:lnTo>
                      <a:pt x="330" y="1701"/>
                    </a:lnTo>
                    <a:lnTo>
                      <a:pt x="370" y="1737"/>
                    </a:lnTo>
                    <a:lnTo>
                      <a:pt x="410" y="1772"/>
                    </a:lnTo>
                    <a:lnTo>
                      <a:pt x="454" y="1801"/>
                    </a:lnTo>
                    <a:lnTo>
                      <a:pt x="499" y="1830"/>
                    </a:lnTo>
                    <a:lnTo>
                      <a:pt x="546" y="1855"/>
                    </a:lnTo>
                    <a:lnTo>
                      <a:pt x="594" y="1878"/>
                    </a:lnTo>
                    <a:lnTo>
                      <a:pt x="645" y="1897"/>
                    </a:lnTo>
                    <a:lnTo>
                      <a:pt x="695" y="1912"/>
                    </a:lnTo>
                    <a:lnTo>
                      <a:pt x="631" y="1881"/>
                    </a:lnTo>
                    <a:lnTo>
                      <a:pt x="569" y="1845"/>
                    </a:lnTo>
                    <a:lnTo>
                      <a:pt x="509" y="1804"/>
                    </a:lnTo>
                    <a:lnTo>
                      <a:pt x="451" y="1760"/>
                    </a:lnTo>
                    <a:lnTo>
                      <a:pt x="397" y="1712"/>
                    </a:lnTo>
                    <a:lnTo>
                      <a:pt x="346" y="1658"/>
                    </a:lnTo>
                    <a:lnTo>
                      <a:pt x="299" y="1603"/>
                    </a:lnTo>
                    <a:lnTo>
                      <a:pt x="254" y="1543"/>
                    </a:lnTo>
                    <a:lnTo>
                      <a:pt x="214" y="1479"/>
                    </a:lnTo>
                    <a:lnTo>
                      <a:pt x="176" y="1413"/>
                    </a:lnTo>
                    <a:lnTo>
                      <a:pt x="143" y="1343"/>
                    </a:lnTo>
                    <a:lnTo>
                      <a:pt x="117" y="1270"/>
                    </a:lnTo>
                    <a:lnTo>
                      <a:pt x="93" y="1195"/>
                    </a:lnTo>
                    <a:lnTo>
                      <a:pt x="75" y="1116"/>
                    </a:lnTo>
                    <a:lnTo>
                      <a:pt x="61" y="1036"/>
                    </a:lnTo>
                    <a:lnTo>
                      <a:pt x="52" y="952"/>
                    </a:lnTo>
                    <a:lnTo>
                      <a:pt x="49" y="885"/>
                    </a:lnTo>
                    <a:lnTo>
                      <a:pt x="49" y="818"/>
                    </a:lnTo>
                    <a:lnTo>
                      <a:pt x="49" y="752"/>
                    </a:lnTo>
                    <a:lnTo>
                      <a:pt x="51" y="688"/>
                    </a:lnTo>
                    <a:lnTo>
                      <a:pt x="54" y="624"/>
                    </a:lnTo>
                    <a:lnTo>
                      <a:pt x="60" y="562"/>
                    </a:lnTo>
                    <a:lnTo>
                      <a:pt x="69" y="500"/>
                    </a:lnTo>
                    <a:lnTo>
                      <a:pt x="79" y="440"/>
                    </a:lnTo>
                    <a:lnTo>
                      <a:pt x="93" y="380"/>
                    </a:lnTo>
                    <a:lnTo>
                      <a:pt x="109" y="322"/>
                    </a:lnTo>
                    <a:lnTo>
                      <a:pt x="130" y="265"/>
                    </a:lnTo>
                    <a:lnTo>
                      <a:pt x="154" y="210"/>
                    </a:lnTo>
                    <a:lnTo>
                      <a:pt x="181" y="156"/>
                    </a:lnTo>
                    <a:lnTo>
                      <a:pt x="214" y="103"/>
                    </a:lnTo>
                    <a:lnTo>
                      <a:pt x="249" y="50"/>
                    </a:lnTo>
                    <a:lnTo>
                      <a:pt x="290" y="0"/>
                    </a:lnTo>
                    <a:lnTo>
                      <a:pt x="240" y="46"/>
                    </a:lnTo>
                    <a:lnTo>
                      <a:pt x="197" y="94"/>
                    </a:lnTo>
                    <a:lnTo>
                      <a:pt x="158" y="145"/>
                    </a:lnTo>
                    <a:lnTo>
                      <a:pt x="125" y="198"/>
                    </a:lnTo>
                    <a:lnTo>
                      <a:pt x="97" y="254"/>
                    </a:lnTo>
                    <a:lnTo>
                      <a:pt x="73" y="310"/>
                    </a:lnTo>
                    <a:lnTo>
                      <a:pt x="54" y="368"/>
                    </a:lnTo>
                    <a:lnTo>
                      <a:pt x="39" y="430"/>
                    </a:lnTo>
                    <a:lnTo>
                      <a:pt x="25" y="491"/>
                    </a:lnTo>
                    <a:lnTo>
                      <a:pt x="17" y="554"/>
                    </a:lnTo>
                    <a:lnTo>
                      <a:pt x="9" y="618"/>
                    </a:lnTo>
                    <a:lnTo>
                      <a:pt x="5" y="682"/>
                    </a:lnTo>
                    <a:lnTo>
                      <a:pt x="2" y="748"/>
                    </a:lnTo>
                    <a:lnTo>
                      <a:pt x="0" y="813"/>
                    </a:lnTo>
                    <a:lnTo>
                      <a:pt x="0" y="879"/>
                    </a:lnTo>
                    <a:lnTo>
                      <a:pt x="0" y="94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88800" y="3455280"/>
                <a:ext cx="358920" cy="556560"/>
              </a:xfrm>
              <a:custGeom>
                <a:avLst/>
                <a:gdLst/>
                <a:ahLst/>
                <a:rect l="l" t="t" r="r" b="b"/>
                <a:pathLst>
                  <a:path w="1498" h="2057">
                    <a:moveTo>
                      <a:pt x="0" y="1061"/>
                    </a:moveTo>
                    <a:lnTo>
                      <a:pt x="4" y="1125"/>
                    </a:lnTo>
                    <a:lnTo>
                      <a:pt x="13" y="1188"/>
                    </a:lnTo>
                    <a:lnTo>
                      <a:pt x="24" y="1251"/>
                    </a:lnTo>
                    <a:lnTo>
                      <a:pt x="37" y="1313"/>
                    </a:lnTo>
                    <a:lnTo>
                      <a:pt x="52" y="1374"/>
                    </a:lnTo>
                    <a:lnTo>
                      <a:pt x="72" y="1436"/>
                    </a:lnTo>
                    <a:lnTo>
                      <a:pt x="94" y="1494"/>
                    </a:lnTo>
                    <a:lnTo>
                      <a:pt x="118" y="1552"/>
                    </a:lnTo>
                    <a:lnTo>
                      <a:pt x="146" y="1607"/>
                    </a:lnTo>
                    <a:lnTo>
                      <a:pt x="178" y="1661"/>
                    </a:lnTo>
                    <a:lnTo>
                      <a:pt x="212" y="1712"/>
                    </a:lnTo>
                    <a:lnTo>
                      <a:pt x="249" y="1761"/>
                    </a:lnTo>
                    <a:lnTo>
                      <a:pt x="291" y="1807"/>
                    </a:lnTo>
                    <a:lnTo>
                      <a:pt x="336" y="1851"/>
                    </a:lnTo>
                    <a:lnTo>
                      <a:pt x="384" y="1889"/>
                    </a:lnTo>
                    <a:lnTo>
                      <a:pt x="436" y="1927"/>
                    </a:lnTo>
                    <a:lnTo>
                      <a:pt x="467" y="1946"/>
                    </a:lnTo>
                    <a:lnTo>
                      <a:pt x="500" y="1964"/>
                    </a:lnTo>
                    <a:lnTo>
                      <a:pt x="534" y="1980"/>
                    </a:lnTo>
                    <a:lnTo>
                      <a:pt x="569" y="1997"/>
                    </a:lnTo>
                    <a:lnTo>
                      <a:pt x="604" y="2012"/>
                    </a:lnTo>
                    <a:lnTo>
                      <a:pt x="642" y="2025"/>
                    </a:lnTo>
                    <a:lnTo>
                      <a:pt x="679" y="2036"/>
                    </a:lnTo>
                    <a:lnTo>
                      <a:pt x="718" y="2045"/>
                    </a:lnTo>
                    <a:lnTo>
                      <a:pt x="755" y="2052"/>
                    </a:lnTo>
                    <a:lnTo>
                      <a:pt x="794" y="2055"/>
                    </a:lnTo>
                    <a:lnTo>
                      <a:pt x="833" y="2057"/>
                    </a:lnTo>
                    <a:lnTo>
                      <a:pt x="873" y="2054"/>
                    </a:lnTo>
                    <a:lnTo>
                      <a:pt x="912" y="2049"/>
                    </a:lnTo>
                    <a:lnTo>
                      <a:pt x="952" y="2039"/>
                    </a:lnTo>
                    <a:lnTo>
                      <a:pt x="991" y="2025"/>
                    </a:lnTo>
                    <a:lnTo>
                      <a:pt x="1030" y="2007"/>
                    </a:lnTo>
                    <a:lnTo>
                      <a:pt x="1076" y="1973"/>
                    </a:lnTo>
                    <a:lnTo>
                      <a:pt x="1119" y="1939"/>
                    </a:lnTo>
                    <a:lnTo>
                      <a:pt x="1161" y="1901"/>
                    </a:lnTo>
                    <a:lnTo>
                      <a:pt x="1201" y="1861"/>
                    </a:lnTo>
                    <a:lnTo>
                      <a:pt x="1239" y="1821"/>
                    </a:lnTo>
                    <a:lnTo>
                      <a:pt x="1274" y="1777"/>
                    </a:lnTo>
                    <a:lnTo>
                      <a:pt x="1309" y="1734"/>
                    </a:lnTo>
                    <a:lnTo>
                      <a:pt x="1340" y="1688"/>
                    </a:lnTo>
                    <a:lnTo>
                      <a:pt x="1368" y="1640"/>
                    </a:lnTo>
                    <a:lnTo>
                      <a:pt x="1395" y="1591"/>
                    </a:lnTo>
                    <a:lnTo>
                      <a:pt x="1418" y="1540"/>
                    </a:lnTo>
                    <a:lnTo>
                      <a:pt x="1439" y="1488"/>
                    </a:lnTo>
                    <a:lnTo>
                      <a:pt x="1456" y="1434"/>
                    </a:lnTo>
                    <a:lnTo>
                      <a:pt x="1473" y="1380"/>
                    </a:lnTo>
                    <a:lnTo>
                      <a:pt x="1485" y="1324"/>
                    </a:lnTo>
                    <a:lnTo>
                      <a:pt x="1494" y="1265"/>
                    </a:lnTo>
                    <a:lnTo>
                      <a:pt x="1498" y="1197"/>
                    </a:lnTo>
                    <a:lnTo>
                      <a:pt x="1494" y="1130"/>
                    </a:lnTo>
                    <a:lnTo>
                      <a:pt x="1486" y="1067"/>
                    </a:lnTo>
                    <a:lnTo>
                      <a:pt x="1479" y="1003"/>
                    </a:lnTo>
                    <a:lnTo>
                      <a:pt x="1476" y="989"/>
                    </a:lnTo>
                    <a:lnTo>
                      <a:pt x="1468" y="980"/>
                    </a:lnTo>
                    <a:lnTo>
                      <a:pt x="1459" y="977"/>
                    </a:lnTo>
                    <a:lnTo>
                      <a:pt x="1449" y="979"/>
                    </a:lnTo>
                    <a:lnTo>
                      <a:pt x="1436" y="982"/>
                    </a:lnTo>
                    <a:lnTo>
                      <a:pt x="1422" y="986"/>
                    </a:lnTo>
                    <a:lnTo>
                      <a:pt x="1409" y="994"/>
                    </a:lnTo>
                    <a:lnTo>
                      <a:pt x="1395" y="1000"/>
                    </a:lnTo>
                    <a:lnTo>
                      <a:pt x="1391" y="1095"/>
                    </a:lnTo>
                    <a:lnTo>
                      <a:pt x="1382" y="1192"/>
                    </a:lnTo>
                    <a:lnTo>
                      <a:pt x="1365" y="1289"/>
                    </a:lnTo>
                    <a:lnTo>
                      <a:pt x="1345" y="1385"/>
                    </a:lnTo>
                    <a:lnTo>
                      <a:pt x="1315" y="1477"/>
                    </a:lnTo>
                    <a:lnTo>
                      <a:pt x="1279" y="1565"/>
                    </a:lnTo>
                    <a:lnTo>
                      <a:pt x="1236" y="1649"/>
                    </a:lnTo>
                    <a:lnTo>
                      <a:pt x="1185" y="1725"/>
                    </a:lnTo>
                    <a:lnTo>
                      <a:pt x="1161" y="1748"/>
                    </a:lnTo>
                    <a:lnTo>
                      <a:pt x="1134" y="1770"/>
                    </a:lnTo>
                    <a:lnTo>
                      <a:pt x="1107" y="1791"/>
                    </a:lnTo>
                    <a:lnTo>
                      <a:pt x="1077" y="1810"/>
                    </a:lnTo>
                    <a:lnTo>
                      <a:pt x="1046" y="1830"/>
                    </a:lnTo>
                    <a:lnTo>
                      <a:pt x="1013" y="1848"/>
                    </a:lnTo>
                    <a:lnTo>
                      <a:pt x="980" y="1864"/>
                    </a:lnTo>
                    <a:lnTo>
                      <a:pt x="946" y="1877"/>
                    </a:lnTo>
                    <a:lnTo>
                      <a:pt x="910" y="1889"/>
                    </a:lnTo>
                    <a:lnTo>
                      <a:pt x="873" y="1900"/>
                    </a:lnTo>
                    <a:lnTo>
                      <a:pt x="836" y="1907"/>
                    </a:lnTo>
                    <a:lnTo>
                      <a:pt x="798" y="1912"/>
                    </a:lnTo>
                    <a:lnTo>
                      <a:pt x="761" y="1913"/>
                    </a:lnTo>
                    <a:lnTo>
                      <a:pt x="722" y="1912"/>
                    </a:lnTo>
                    <a:lnTo>
                      <a:pt x="683" y="1907"/>
                    </a:lnTo>
                    <a:lnTo>
                      <a:pt x="645" y="1900"/>
                    </a:lnTo>
                    <a:lnTo>
                      <a:pt x="603" y="1885"/>
                    </a:lnTo>
                    <a:lnTo>
                      <a:pt x="563" y="1868"/>
                    </a:lnTo>
                    <a:lnTo>
                      <a:pt x="524" y="1848"/>
                    </a:lnTo>
                    <a:lnTo>
                      <a:pt x="488" y="1825"/>
                    </a:lnTo>
                    <a:lnTo>
                      <a:pt x="452" y="1801"/>
                    </a:lnTo>
                    <a:lnTo>
                      <a:pt x="419" y="1774"/>
                    </a:lnTo>
                    <a:lnTo>
                      <a:pt x="388" y="1746"/>
                    </a:lnTo>
                    <a:lnTo>
                      <a:pt x="358" y="1715"/>
                    </a:lnTo>
                    <a:lnTo>
                      <a:pt x="330" y="1682"/>
                    </a:lnTo>
                    <a:lnTo>
                      <a:pt x="303" y="1648"/>
                    </a:lnTo>
                    <a:lnTo>
                      <a:pt x="279" y="1612"/>
                    </a:lnTo>
                    <a:lnTo>
                      <a:pt x="257" y="1574"/>
                    </a:lnTo>
                    <a:lnTo>
                      <a:pt x="236" y="1536"/>
                    </a:lnTo>
                    <a:lnTo>
                      <a:pt x="216" y="1495"/>
                    </a:lnTo>
                    <a:lnTo>
                      <a:pt x="200" y="1454"/>
                    </a:lnTo>
                    <a:lnTo>
                      <a:pt x="185" y="1412"/>
                    </a:lnTo>
                    <a:lnTo>
                      <a:pt x="166" y="1337"/>
                    </a:lnTo>
                    <a:lnTo>
                      <a:pt x="148" y="1262"/>
                    </a:lnTo>
                    <a:lnTo>
                      <a:pt x="133" y="1186"/>
                    </a:lnTo>
                    <a:lnTo>
                      <a:pt x="121" y="1110"/>
                    </a:lnTo>
                    <a:lnTo>
                      <a:pt x="112" y="1034"/>
                    </a:lnTo>
                    <a:lnTo>
                      <a:pt x="107" y="958"/>
                    </a:lnTo>
                    <a:lnTo>
                      <a:pt x="106" y="882"/>
                    </a:lnTo>
                    <a:lnTo>
                      <a:pt x="110" y="807"/>
                    </a:lnTo>
                    <a:lnTo>
                      <a:pt x="119" y="734"/>
                    </a:lnTo>
                    <a:lnTo>
                      <a:pt x="134" y="662"/>
                    </a:lnTo>
                    <a:lnTo>
                      <a:pt x="155" y="592"/>
                    </a:lnTo>
                    <a:lnTo>
                      <a:pt x="181" y="525"/>
                    </a:lnTo>
                    <a:lnTo>
                      <a:pt x="215" y="459"/>
                    </a:lnTo>
                    <a:lnTo>
                      <a:pt x="255" y="398"/>
                    </a:lnTo>
                    <a:lnTo>
                      <a:pt x="303" y="338"/>
                    </a:lnTo>
                    <a:lnTo>
                      <a:pt x="358" y="283"/>
                    </a:lnTo>
                    <a:lnTo>
                      <a:pt x="388" y="264"/>
                    </a:lnTo>
                    <a:lnTo>
                      <a:pt x="419" y="243"/>
                    </a:lnTo>
                    <a:lnTo>
                      <a:pt x="452" y="224"/>
                    </a:lnTo>
                    <a:lnTo>
                      <a:pt x="484" y="204"/>
                    </a:lnTo>
                    <a:lnTo>
                      <a:pt x="518" y="185"/>
                    </a:lnTo>
                    <a:lnTo>
                      <a:pt x="551" y="167"/>
                    </a:lnTo>
                    <a:lnTo>
                      <a:pt x="585" y="150"/>
                    </a:lnTo>
                    <a:lnTo>
                      <a:pt x="621" y="135"/>
                    </a:lnTo>
                    <a:lnTo>
                      <a:pt x="655" y="124"/>
                    </a:lnTo>
                    <a:lnTo>
                      <a:pt x="691" y="115"/>
                    </a:lnTo>
                    <a:lnTo>
                      <a:pt x="727" y="107"/>
                    </a:lnTo>
                    <a:lnTo>
                      <a:pt x="763" y="104"/>
                    </a:lnTo>
                    <a:lnTo>
                      <a:pt x="798" y="104"/>
                    </a:lnTo>
                    <a:lnTo>
                      <a:pt x="834" y="109"/>
                    </a:lnTo>
                    <a:lnTo>
                      <a:pt x="870" y="118"/>
                    </a:lnTo>
                    <a:lnTo>
                      <a:pt x="906" y="131"/>
                    </a:lnTo>
                    <a:lnTo>
                      <a:pt x="955" y="156"/>
                    </a:lnTo>
                    <a:lnTo>
                      <a:pt x="1001" y="186"/>
                    </a:lnTo>
                    <a:lnTo>
                      <a:pt x="1042" y="218"/>
                    </a:lnTo>
                    <a:lnTo>
                      <a:pt x="1079" y="250"/>
                    </a:lnTo>
                    <a:lnTo>
                      <a:pt x="1113" y="286"/>
                    </a:lnTo>
                    <a:lnTo>
                      <a:pt x="1143" y="324"/>
                    </a:lnTo>
                    <a:lnTo>
                      <a:pt x="1170" y="364"/>
                    </a:lnTo>
                    <a:lnTo>
                      <a:pt x="1195" y="406"/>
                    </a:lnTo>
                    <a:lnTo>
                      <a:pt x="1218" y="449"/>
                    </a:lnTo>
                    <a:lnTo>
                      <a:pt x="1239" y="494"/>
                    </a:lnTo>
                    <a:lnTo>
                      <a:pt x="1258" y="540"/>
                    </a:lnTo>
                    <a:lnTo>
                      <a:pt x="1276" y="586"/>
                    </a:lnTo>
                    <a:lnTo>
                      <a:pt x="1292" y="634"/>
                    </a:lnTo>
                    <a:lnTo>
                      <a:pt x="1307" y="683"/>
                    </a:lnTo>
                    <a:lnTo>
                      <a:pt x="1324" y="733"/>
                    </a:lnTo>
                    <a:lnTo>
                      <a:pt x="1339" y="783"/>
                    </a:lnTo>
                    <a:lnTo>
                      <a:pt x="1431" y="755"/>
                    </a:lnTo>
                    <a:lnTo>
                      <a:pt x="1416" y="698"/>
                    </a:lnTo>
                    <a:lnTo>
                      <a:pt x="1400" y="641"/>
                    </a:lnTo>
                    <a:lnTo>
                      <a:pt x="1380" y="588"/>
                    </a:lnTo>
                    <a:lnTo>
                      <a:pt x="1358" y="536"/>
                    </a:lnTo>
                    <a:lnTo>
                      <a:pt x="1334" y="483"/>
                    </a:lnTo>
                    <a:lnTo>
                      <a:pt x="1307" y="434"/>
                    </a:lnTo>
                    <a:lnTo>
                      <a:pt x="1277" y="388"/>
                    </a:lnTo>
                    <a:lnTo>
                      <a:pt x="1248" y="341"/>
                    </a:lnTo>
                    <a:lnTo>
                      <a:pt x="1213" y="298"/>
                    </a:lnTo>
                    <a:lnTo>
                      <a:pt x="1177" y="256"/>
                    </a:lnTo>
                    <a:lnTo>
                      <a:pt x="1139" y="216"/>
                    </a:lnTo>
                    <a:lnTo>
                      <a:pt x="1098" y="177"/>
                    </a:lnTo>
                    <a:lnTo>
                      <a:pt x="1057" y="141"/>
                    </a:lnTo>
                    <a:lnTo>
                      <a:pt x="1012" y="107"/>
                    </a:lnTo>
                    <a:lnTo>
                      <a:pt x="964" y="76"/>
                    </a:lnTo>
                    <a:lnTo>
                      <a:pt x="915" y="46"/>
                    </a:lnTo>
                    <a:lnTo>
                      <a:pt x="876" y="31"/>
                    </a:lnTo>
                    <a:lnTo>
                      <a:pt x="836" y="21"/>
                    </a:lnTo>
                    <a:lnTo>
                      <a:pt x="795" y="12"/>
                    </a:lnTo>
                    <a:lnTo>
                      <a:pt x="754" y="4"/>
                    </a:lnTo>
                    <a:lnTo>
                      <a:pt x="713" y="1"/>
                    </a:lnTo>
                    <a:lnTo>
                      <a:pt x="673" y="0"/>
                    </a:lnTo>
                    <a:lnTo>
                      <a:pt x="633" y="1"/>
                    </a:lnTo>
                    <a:lnTo>
                      <a:pt x="594" y="6"/>
                    </a:lnTo>
                    <a:lnTo>
                      <a:pt x="555" y="12"/>
                    </a:lnTo>
                    <a:lnTo>
                      <a:pt x="518" y="22"/>
                    </a:lnTo>
                    <a:lnTo>
                      <a:pt x="481" y="32"/>
                    </a:lnTo>
                    <a:lnTo>
                      <a:pt x="446" y="47"/>
                    </a:lnTo>
                    <a:lnTo>
                      <a:pt x="412" y="64"/>
                    </a:lnTo>
                    <a:lnTo>
                      <a:pt x="381" y="83"/>
                    </a:lnTo>
                    <a:lnTo>
                      <a:pt x="351" y="106"/>
                    </a:lnTo>
                    <a:lnTo>
                      <a:pt x="322" y="130"/>
                    </a:lnTo>
                    <a:lnTo>
                      <a:pt x="295" y="161"/>
                    </a:lnTo>
                    <a:lnTo>
                      <a:pt x="267" y="192"/>
                    </a:lnTo>
                    <a:lnTo>
                      <a:pt x="242" y="224"/>
                    </a:lnTo>
                    <a:lnTo>
                      <a:pt x="215" y="256"/>
                    </a:lnTo>
                    <a:lnTo>
                      <a:pt x="190" y="289"/>
                    </a:lnTo>
                    <a:lnTo>
                      <a:pt x="166" y="322"/>
                    </a:lnTo>
                    <a:lnTo>
                      <a:pt x="143" y="356"/>
                    </a:lnTo>
                    <a:lnTo>
                      <a:pt x="122" y="391"/>
                    </a:lnTo>
                    <a:lnTo>
                      <a:pt x="101" y="427"/>
                    </a:lnTo>
                    <a:lnTo>
                      <a:pt x="84" y="464"/>
                    </a:lnTo>
                    <a:lnTo>
                      <a:pt x="66" y="501"/>
                    </a:lnTo>
                    <a:lnTo>
                      <a:pt x="52" y="540"/>
                    </a:lnTo>
                    <a:lnTo>
                      <a:pt x="39" y="580"/>
                    </a:lnTo>
                    <a:lnTo>
                      <a:pt x="28" y="622"/>
                    </a:lnTo>
                    <a:lnTo>
                      <a:pt x="21" y="664"/>
                    </a:lnTo>
                    <a:lnTo>
                      <a:pt x="15" y="709"/>
                    </a:lnTo>
                    <a:lnTo>
                      <a:pt x="13" y="801"/>
                    </a:lnTo>
                    <a:lnTo>
                      <a:pt x="15" y="889"/>
                    </a:lnTo>
                    <a:lnTo>
                      <a:pt x="12" y="976"/>
                    </a:lnTo>
                    <a:lnTo>
                      <a:pt x="0" y="10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29120" y="3713400"/>
                <a:ext cx="99360" cy="74520"/>
              </a:xfrm>
              <a:custGeom>
                <a:avLst/>
                <a:gdLst/>
                <a:ahLst/>
                <a:rect l="l" t="t" r="r" b="b"/>
                <a:pathLst>
                  <a:path w="416" h="277">
                    <a:moveTo>
                      <a:pt x="0" y="20"/>
                    </a:moveTo>
                    <a:lnTo>
                      <a:pt x="55" y="277"/>
                    </a:lnTo>
                    <a:lnTo>
                      <a:pt x="412" y="97"/>
                    </a:lnTo>
                    <a:lnTo>
                      <a:pt x="416" y="83"/>
                    </a:lnTo>
                    <a:lnTo>
                      <a:pt x="413" y="66"/>
                    </a:lnTo>
                    <a:lnTo>
                      <a:pt x="406" y="51"/>
                    </a:lnTo>
                    <a:lnTo>
                      <a:pt x="393" y="41"/>
                    </a:lnTo>
                    <a:lnTo>
                      <a:pt x="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28400" y="3634560"/>
                <a:ext cx="103680" cy="69480"/>
              </a:xfrm>
              <a:custGeom>
                <a:avLst/>
                <a:gdLst/>
                <a:ahLst/>
                <a:rect l="l" t="t" r="r" b="b"/>
                <a:pathLst>
                  <a:path w="434" h="258">
                    <a:moveTo>
                      <a:pt x="0" y="136"/>
                    </a:moveTo>
                    <a:lnTo>
                      <a:pt x="1" y="148"/>
                    </a:lnTo>
                    <a:lnTo>
                      <a:pt x="3" y="160"/>
                    </a:lnTo>
                    <a:lnTo>
                      <a:pt x="4" y="172"/>
                    </a:lnTo>
                    <a:lnTo>
                      <a:pt x="6" y="186"/>
                    </a:lnTo>
                    <a:lnTo>
                      <a:pt x="434" y="258"/>
                    </a:lnTo>
                    <a:lnTo>
                      <a:pt x="38" y="0"/>
                    </a:lnTo>
                    <a:lnTo>
                      <a:pt x="22" y="25"/>
                    </a:lnTo>
                    <a:lnTo>
                      <a:pt x="15" y="60"/>
                    </a:lnTo>
                    <a:lnTo>
                      <a:pt x="10" y="9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47840" y="3762720"/>
                <a:ext cx="89280" cy="113400"/>
              </a:xfrm>
              <a:custGeom>
                <a:avLst/>
                <a:gdLst/>
                <a:ahLst/>
                <a:rect l="l" t="t" r="r" b="b"/>
                <a:pathLst>
                  <a:path w="373" h="419">
                    <a:moveTo>
                      <a:pt x="0" y="198"/>
                    </a:moveTo>
                    <a:lnTo>
                      <a:pt x="67" y="401"/>
                    </a:lnTo>
                    <a:lnTo>
                      <a:pt x="69" y="403"/>
                    </a:lnTo>
                    <a:lnTo>
                      <a:pt x="75" y="407"/>
                    </a:lnTo>
                    <a:lnTo>
                      <a:pt x="82" y="413"/>
                    </a:lnTo>
                    <a:lnTo>
                      <a:pt x="94" y="419"/>
                    </a:lnTo>
                    <a:lnTo>
                      <a:pt x="373" y="50"/>
                    </a:lnTo>
                    <a:lnTo>
                      <a:pt x="372" y="38"/>
                    </a:lnTo>
                    <a:lnTo>
                      <a:pt x="370" y="26"/>
                    </a:lnTo>
                    <a:lnTo>
                      <a:pt x="367" y="15"/>
                    </a:lnTo>
                    <a:lnTo>
                      <a:pt x="366" y="0"/>
                    </a:lnTo>
                    <a:lnTo>
                      <a:pt x="3" y="18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45320" y="3564720"/>
                <a:ext cx="99000" cy="119520"/>
              </a:xfrm>
              <a:custGeom>
                <a:avLst/>
                <a:gdLst/>
                <a:ahLst/>
                <a:rect l="l" t="t" r="r" b="b"/>
                <a:pathLst>
                  <a:path w="415" h="442">
                    <a:moveTo>
                      <a:pt x="9" y="192"/>
                    </a:moveTo>
                    <a:lnTo>
                      <a:pt x="415" y="442"/>
                    </a:lnTo>
                    <a:lnTo>
                      <a:pt x="118" y="0"/>
                    </a:lnTo>
                    <a:lnTo>
                      <a:pt x="95" y="13"/>
                    </a:lnTo>
                    <a:lnTo>
                      <a:pt x="76" y="31"/>
                    </a:lnTo>
                    <a:lnTo>
                      <a:pt x="58" y="50"/>
                    </a:lnTo>
                    <a:lnTo>
                      <a:pt x="43" y="73"/>
                    </a:lnTo>
                    <a:lnTo>
                      <a:pt x="30" y="97"/>
                    </a:lnTo>
                    <a:lnTo>
                      <a:pt x="19" y="121"/>
                    </a:lnTo>
                    <a:lnTo>
                      <a:pt x="9" y="144"/>
                    </a:lnTo>
                    <a:lnTo>
                      <a:pt x="0" y="167"/>
                    </a:lnTo>
                    <a:lnTo>
                      <a:pt x="9" y="192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80960" y="3803760"/>
                <a:ext cx="64080" cy="123120"/>
              </a:xfrm>
              <a:custGeom>
                <a:avLst/>
                <a:gdLst/>
                <a:ahLst/>
                <a:rect l="l" t="t" r="r" b="b"/>
                <a:pathLst>
                  <a:path w="268" h="455">
                    <a:moveTo>
                      <a:pt x="1" y="349"/>
                    </a:moveTo>
                    <a:lnTo>
                      <a:pt x="102" y="455"/>
                    </a:lnTo>
                    <a:lnTo>
                      <a:pt x="268" y="0"/>
                    </a:lnTo>
                    <a:lnTo>
                      <a:pt x="0" y="337"/>
                    </a:lnTo>
                    <a:lnTo>
                      <a:pt x="1" y="349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88520" y="3511440"/>
                <a:ext cx="74520" cy="158400"/>
              </a:xfrm>
              <a:custGeom>
                <a:avLst/>
                <a:gdLst/>
                <a:ahLst/>
                <a:rect l="l" t="t" r="r" b="b"/>
                <a:pathLst>
                  <a:path w="312" h="585">
                    <a:moveTo>
                      <a:pt x="0" y="137"/>
                    </a:moveTo>
                    <a:lnTo>
                      <a:pt x="312" y="585"/>
                    </a:lnTo>
                    <a:lnTo>
                      <a:pt x="267" y="0"/>
                    </a:lnTo>
                    <a:lnTo>
                      <a:pt x="2" y="111"/>
                    </a:lnTo>
                    <a:lnTo>
                      <a:pt x="3" y="117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27400" y="3802680"/>
                <a:ext cx="51840" cy="149040"/>
              </a:xfrm>
              <a:custGeom>
                <a:avLst/>
                <a:gdLst/>
                <a:ahLst/>
                <a:rect l="l" t="t" r="r" b="b"/>
                <a:pathLst>
                  <a:path w="219" h="551">
                    <a:moveTo>
                      <a:pt x="0" y="491"/>
                    </a:moveTo>
                    <a:lnTo>
                      <a:pt x="5" y="511"/>
                    </a:lnTo>
                    <a:lnTo>
                      <a:pt x="219" y="551"/>
                    </a:lnTo>
                    <a:lnTo>
                      <a:pt x="168" y="0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45400" y="3693960"/>
                <a:ext cx="59400" cy="8208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0" y="143"/>
                    </a:moveTo>
                    <a:lnTo>
                      <a:pt x="26" y="227"/>
                    </a:lnTo>
                    <a:lnTo>
                      <a:pt x="86" y="289"/>
                    </a:lnTo>
                    <a:lnTo>
                      <a:pt x="97" y="298"/>
                    </a:lnTo>
                    <a:lnTo>
                      <a:pt x="110" y="301"/>
                    </a:lnTo>
                    <a:lnTo>
                      <a:pt x="123" y="303"/>
                    </a:lnTo>
                    <a:lnTo>
                      <a:pt x="138" y="300"/>
                    </a:lnTo>
                    <a:lnTo>
                      <a:pt x="153" y="295"/>
                    </a:lnTo>
                    <a:lnTo>
                      <a:pt x="167" y="289"/>
                    </a:lnTo>
                    <a:lnTo>
                      <a:pt x="180" y="282"/>
                    </a:lnTo>
                    <a:lnTo>
                      <a:pt x="191" y="274"/>
                    </a:lnTo>
                    <a:lnTo>
                      <a:pt x="203" y="258"/>
                    </a:lnTo>
                    <a:lnTo>
                      <a:pt x="213" y="242"/>
                    </a:lnTo>
                    <a:lnTo>
                      <a:pt x="222" y="228"/>
                    </a:lnTo>
                    <a:lnTo>
                      <a:pt x="229" y="215"/>
                    </a:lnTo>
                    <a:lnTo>
                      <a:pt x="235" y="203"/>
                    </a:lnTo>
                    <a:lnTo>
                      <a:pt x="241" y="191"/>
                    </a:lnTo>
                    <a:lnTo>
                      <a:pt x="246" y="179"/>
                    </a:lnTo>
                    <a:lnTo>
                      <a:pt x="249" y="168"/>
                    </a:lnTo>
                    <a:lnTo>
                      <a:pt x="237" y="160"/>
                    </a:lnTo>
                    <a:lnTo>
                      <a:pt x="225" y="158"/>
                    </a:lnTo>
                    <a:lnTo>
                      <a:pt x="209" y="161"/>
                    </a:lnTo>
                    <a:lnTo>
                      <a:pt x="194" y="167"/>
                    </a:lnTo>
                    <a:lnTo>
                      <a:pt x="176" y="173"/>
                    </a:lnTo>
                    <a:lnTo>
                      <a:pt x="159" y="179"/>
                    </a:lnTo>
                    <a:lnTo>
                      <a:pt x="141" y="183"/>
                    </a:lnTo>
                    <a:lnTo>
                      <a:pt x="125" y="182"/>
                    </a:lnTo>
                    <a:lnTo>
                      <a:pt x="116" y="177"/>
                    </a:lnTo>
                    <a:lnTo>
                      <a:pt x="107" y="171"/>
                    </a:lnTo>
                    <a:lnTo>
                      <a:pt x="97" y="163"/>
                    </a:lnTo>
                    <a:lnTo>
                      <a:pt x="89" y="149"/>
                    </a:lnTo>
                    <a:lnTo>
                      <a:pt x="95" y="133"/>
                    </a:lnTo>
                    <a:lnTo>
                      <a:pt x="106" y="121"/>
                    </a:lnTo>
                    <a:lnTo>
                      <a:pt x="120" y="112"/>
                    </a:lnTo>
                    <a:lnTo>
                      <a:pt x="138" y="104"/>
                    </a:lnTo>
                    <a:lnTo>
                      <a:pt x="158" y="100"/>
                    </a:lnTo>
                    <a:lnTo>
                      <a:pt x="179" y="94"/>
                    </a:lnTo>
                    <a:lnTo>
                      <a:pt x="198" y="86"/>
                    </a:lnTo>
                    <a:lnTo>
                      <a:pt x="216" y="77"/>
                    </a:lnTo>
                    <a:lnTo>
                      <a:pt x="198" y="15"/>
                    </a:lnTo>
                    <a:lnTo>
                      <a:pt x="182" y="7"/>
                    </a:lnTo>
                    <a:lnTo>
                      <a:pt x="165" y="1"/>
                    </a:lnTo>
                    <a:lnTo>
                      <a:pt x="147" y="0"/>
                    </a:lnTo>
                    <a:lnTo>
                      <a:pt x="129" y="1"/>
                    </a:lnTo>
                    <a:lnTo>
                      <a:pt x="110" y="4"/>
                    </a:lnTo>
                    <a:lnTo>
                      <a:pt x="92" y="10"/>
                    </a:lnTo>
                    <a:lnTo>
                      <a:pt x="74" y="18"/>
                    </a:lnTo>
                    <a:lnTo>
                      <a:pt x="58" y="25"/>
                    </a:lnTo>
                    <a:lnTo>
                      <a:pt x="46" y="34"/>
                    </a:lnTo>
                    <a:lnTo>
                      <a:pt x="35" y="46"/>
                    </a:lnTo>
                    <a:lnTo>
                      <a:pt x="26" y="60"/>
                    </a:lnTo>
                    <a:lnTo>
                      <a:pt x="19" y="74"/>
                    </a:lnTo>
                    <a:lnTo>
                      <a:pt x="13" y="91"/>
                    </a:lnTo>
                    <a:lnTo>
                      <a:pt x="9" y="109"/>
                    </a:lnTo>
                    <a:lnTo>
                      <a:pt x="4" y="12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82480" y="3800160"/>
                <a:ext cx="60120" cy="143640"/>
              </a:xfrm>
              <a:custGeom>
                <a:avLst/>
                <a:gdLst/>
                <a:ahLst/>
                <a:rect l="l" t="t" r="r" b="b"/>
                <a:pathLst>
                  <a:path w="253" h="533">
                    <a:moveTo>
                      <a:pt x="0" y="34"/>
                    </a:moveTo>
                    <a:lnTo>
                      <a:pt x="72" y="504"/>
                    </a:lnTo>
                    <a:lnTo>
                      <a:pt x="75" y="513"/>
                    </a:lnTo>
                    <a:lnTo>
                      <a:pt x="81" y="522"/>
                    </a:lnTo>
                    <a:lnTo>
                      <a:pt x="90" y="527"/>
                    </a:lnTo>
                    <a:lnTo>
                      <a:pt x="100" y="531"/>
                    </a:lnTo>
                    <a:lnTo>
                      <a:pt x="111" y="533"/>
                    </a:lnTo>
                    <a:lnTo>
                      <a:pt x="123" y="531"/>
                    </a:lnTo>
                    <a:lnTo>
                      <a:pt x="135" y="528"/>
                    </a:lnTo>
                    <a:lnTo>
                      <a:pt x="147" y="524"/>
                    </a:lnTo>
                    <a:lnTo>
                      <a:pt x="161" y="512"/>
                    </a:lnTo>
                    <a:lnTo>
                      <a:pt x="178" y="501"/>
                    </a:lnTo>
                    <a:lnTo>
                      <a:pt x="193" y="492"/>
                    </a:lnTo>
                    <a:lnTo>
                      <a:pt x="206" y="482"/>
                    </a:lnTo>
                    <a:lnTo>
                      <a:pt x="220" y="473"/>
                    </a:lnTo>
                    <a:lnTo>
                      <a:pt x="232" y="464"/>
                    </a:lnTo>
                    <a:lnTo>
                      <a:pt x="244" y="457"/>
                    </a:lnTo>
                    <a:lnTo>
                      <a:pt x="253" y="448"/>
                    </a:lnTo>
                    <a:lnTo>
                      <a:pt x="33" y="0"/>
                    </a:lnTo>
                    <a:lnTo>
                      <a:pt x="21" y="1"/>
                    </a:lnTo>
                    <a:lnTo>
                      <a:pt x="9" y="7"/>
                    </a:lnTo>
                    <a:lnTo>
                      <a:pt x="0" y="1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68440" y="3504600"/>
                <a:ext cx="43560" cy="162720"/>
              </a:xfrm>
              <a:custGeom>
                <a:avLst/>
                <a:gdLst/>
                <a:ahLst/>
                <a:rect l="l" t="t" r="r" b="b"/>
                <a:pathLst>
                  <a:path w="182" h="603">
                    <a:moveTo>
                      <a:pt x="0" y="126"/>
                    </a:moveTo>
                    <a:lnTo>
                      <a:pt x="64" y="603"/>
                    </a:lnTo>
                    <a:lnTo>
                      <a:pt x="182" y="51"/>
                    </a:lnTo>
                    <a:lnTo>
                      <a:pt x="169" y="38"/>
                    </a:lnTo>
                    <a:lnTo>
                      <a:pt x="152" y="26"/>
                    </a:lnTo>
                    <a:lnTo>
                      <a:pt x="133" y="15"/>
                    </a:lnTo>
                    <a:lnTo>
                      <a:pt x="112" y="8"/>
                    </a:lnTo>
                    <a:lnTo>
                      <a:pt x="90" y="3"/>
                    </a:lnTo>
                    <a:lnTo>
                      <a:pt x="67" y="0"/>
                    </a:lnTo>
                    <a:lnTo>
                      <a:pt x="45" y="2"/>
                    </a:lnTo>
                    <a:lnTo>
                      <a:pt x="23" y="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305520" y="3778200"/>
                <a:ext cx="83160" cy="12420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6"/>
                    </a:moveTo>
                    <a:lnTo>
                      <a:pt x="230" y="460"/>
                    </a:lnTo>
                    <a:lnTo>
                      <a:pt x="348" y="241"/>
                    </a:lnTo>
                    <a:lnTo>
                      <a:pt x="342" y="217"/>
                    </a:lnTo>
                    <a:lnTo>
                      <a:pt x="333" y="194"/>
                    </a:lnTo>
                    <a:lnTo>
                      <a:pt x="320" y="173"/>
                    </a:lnTo>
                    <a:lnTo>
                      <a:pt x="306" y="156"/>
                    </a:lnTo>
                    <a:lnTo>
                      <a:pt x="290" y="139"/>
                    </a:lnTo>
                    <a:lnTo>
                      <a:pt x="272" y="124"/>
                    </a:lnTo>
                    <a:lnTo>
                      <a:pt x="251" y="111"/>
                    </a:lnTo>
                    <a:lnTo>
                      <a:pt x="230" y="97"/>
                    </a:lnTo>
                    <a:lnTo>
                      <a:pt x="209" y="85"/>
                    </a:lnTo>
                    <a:lnTo>
                      <a:pt x="185" y="73"/>
                    </a:lnTo>
                    <a:lnTo>
                      <a:pt x="163" y="63"/>
                    </a:lnTo>
                    <a:lnTo>
                      <a:pt x="141" y="53"/>
                    </a:lnTo>
                    <a:lnTo>
                      <a:pt x="117" y="41"/>
                    </a:lnTo>
                    <a:lnTo>
                      <a:pt x="94" y="30"/>
                    </a:lnTo>
                    <a:lnTo>
                      <a:pt x="73" y="18"/>
                    </a:lnTo>
                    <a:lnTo>
                      <a:pt x="53" y="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6" y="5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03000" y="3537000"/>
                <a:ext cx="63000" cy="147600"/>
              </a:xfrm>
              <a:custGeom>
                <a:avLst/>
                <a:gdLst/>
                <a:ahLst/>
                <a:rect l="l" t="t" r="r" b="b"/>
                <a:pathLst>
                  <a:path w="264" h="546">
                    <a:moveTo>
                      <a:pt x="0" y="503"/>
                    </a:moveTo>
                    <a:lnTo>
                      <a:pt x="0" y="514"/>
                    </a:lnTo>
                    <a:lnTo>
                      <a:pt x="1" y="524"/>
                    </a:lnTo>
                    <a:lnTo>
                      <a:pt x="3" y="536"/>
                    </a:lnTo>
                    <a:lnTo>
                      <a:pt x="10" y="546"/>
                    </a:lnTo>
                    <a:lnTo>
                      <a:pt x="264" y="191"/>
                    </a:lnTo>
                    <a:lnTo>
                      <a:pt x="118" y="0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17760" y="3620880"/>
                <a:ext cx="70200" cy="87120"/>
              </a:xfrm>
              <a:custGeom>
                <a:avLst/>
                <a:gdLst/>
                <a:ahLst/>
                <a:rect l="l" t="t" r="r" b="b"/>
                <a:pathLst>
                  <a:path w="294" h="323">
                    <a:moveTo>
                      <a:pt x="1" y="311"/>
                    </a:moveTo>
                    <a:lnTo>
                      <a:pt x="10" y="323"/>
                    </a:lnTo>
                    <a:lnTo>
                      <a:pt x="188" y="236"/>
                    </a:lnTo>
                    <a:lnTo>
                      <a:pt x="277" y="214"/>
                    </a:lnTo>
                    <a:lnTo>
                      <a:pt x="280" y="209"/>
                    </a:lnTo>
                    <a:lnTo>
                      <a:pt x="285" y="203"/>
                    </a:lnTo>
                    <a:lnTo>
                      <a:pt x="289" y="197"/>
                    </a:lnTo>
                    <a:lnTo>
                      <a:pt x="294" y="191"/>
                    </a:lnTo>
                    <a:lnTo>
                      <a:pt x="246" y="0"/>
                    </a:lnTo>
                    <a:lnTo>
                      <a:pt x="0" y="299"/>
                    </a:lnTo>
                    <a:lnTo>
                      <a:pt x="1" y="311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27120" y="3729240"/>
                <a:ext cx="77400" cy="13680"/>
              </a:xfrm>
              <a:custGeom>
                <a:avLst/>
                <a:gdLst/>
                <a:ahLst/>
                <a:rect l="l" t="t" r="r" b="b"/>
                <a:pathLst>
                  <a:path w="324" h="52">
                    <a:moveTo>
                      <a:pt x="13" y="20"/>
                    </a:moveTo>
                    <a:lnTo>
                      <a:pt x="316" y="52"/>
                    </a:lnTo>
                    <a:lnTo>
                      <a:pt x="324" y="40"/>
                    </a:lnTo>
                    <a:lnTo>
                      <a:pt x="322" y="29"/>
                    </a:lnTo>
                    <a:lnTo>
                      <a:pt x="318" y="15"/>
                    </a:lnTo>
                    <a:lnTo>
                      <a:pt x="312" y="0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29640" y="3760560"/>
                <a:ext cx="71280" cy="45720"/>
              </a:xfrm>
              <a:custGeom>
                <a:avLst/>
                <a:gdLst/>
                <a:ahLst/>
                <a:rect l="l" t="t" r="r" b="b"/>
                <a:pathLst>
                  <a:path w="298" h="170">
                    <a:moveTo>
                      <a:pt x="13" y="13"/>
                    </a:moveTo>
                    <a:lnTo>
                      <a:pt x="271" y="170"/>
                    </a:lnTo>
                    <a:lnTo>
                      <a:pt x="285" y="138"/>
                    </a:lnTo>
                    <a:lnTo>
                      <a:pt x="295" y="101"/>
                    </a:lnTo>
                    <a:lnTo>
                      <a:pt x="298" y="62"/>
                    </a:lnTo>
                    <a:lnTo>
                      <a:pt x="291" y="24"/>
                    </a:lnTo>
                    <a:lnTo>
                      <a:pt x="0" y="0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47280" y="3666960"/>
                <a:ext cx="130680" cy="55080"/>
              </a:xfrm>
              <a:custGeom>
                <a:avLst/>
                <a:gdLst/>
                <a:ahLst/>
                <a:rect l="l" t="t" r="r" b="b"/>
                <a:pathLst>
                  <a:path w="547" h="203">
                    <a:moveTo>
                      <a:pt x="21" y="203"/>
                    </a:moveTo>
                    <a:lnTo>
                      <a:pt x="547" y="79"/>
                    </a:lnTo>
                    <a:lnTo>
                      <a:pt x="547" y="64"/>
                    </a:lnTo>
                    <a:lnTo>
                      <a:pt x="538" y="40"/>
                    </a:lnTo>
                    <a:lnTo>
                      <a:pt x="526" y="16"/>
                    </a:lnTo>
                    <a:lnTo>
                      <a:pt x="517" y="0"/>
                    </a:lnTo>
                    <a:lnTo>
                      <a:pt x="0" y="134"/>
                    </a:lnTo>
                    <a:lnTo>
                      <a:pt x="21" y="203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85160" y="3623040"/>
                <a:ext cx="210240" cy="57600"/>
              </a:xfrm>
              <a:custGeom>
                <a:avLst/>
                <a:gdLst/>
                <a:ahLst/>
                <a:rect l="l" t="t" r="r" b="b"/>
                <a:pathLst>
                  <a:path w="877" h="214">
                    <a:moveTo>
                      <a:pt x="25" y="214"/>
                    </a:moveTo>
                    <a:lnTo>
                      <a:pt x="877" y="49"/>
                    </a:lnTo>
                    <a:lnTo>
                      <a:pt x="831" y="0"/>
                    </a:lnTo>
                    <a:lnTo>
                      <a:pt x="1" y="154"/>
                    </a:lnTo>
                    <a:lnTo>
                      <a:pt x="0" y="166"/>
                    </a:lnTo>
                    <a:lnTo>
                      <a:pt x="7" y="184"/>
                    </a:lnTo>
                    <a:lnTo>
                      <a:pt x="18" y="202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616560" y="3652200"/>
                <a:ext cx="84600" cy="58320"/>
              </a:xfrm>
              <a:custGeom>
                <a:avLst/>
                <a:gdLst/>
                <a:ahLst/>
                <a:rect l="l" t="t" r="r" b="b"/>
                <a:pathLst>
                  <a:path w="353" h="216">
                    <a:moveTo>
                      <a:pt x="1" y="71"/>
                    </a:moveTo>
                    <a:lnTo>
                      <a:pt x="16" y="86"/>
                    </a:lnTo>
                    <a:lnTo>
                      <a:pt x="29" y="100"/>
                    </a:lnTo>
                    <a:lnTo>
                      <a:pt x="44" y="113"/>
                    </a:lnTo>
                    <a:lnTo>
                      <a:pt x="59" y="126"/>
                    </a:lnTo>
                    <a:lnTo>
                      <a:pt x="74" y="137"/>
                    </a:lnTo>
                    <a:lnTo>
                      <a:pt x="91" y="149"/>
                    </a:lnTo>
                    <a:lnTo>
                      <a:pt x="107" y="159"/>
                    </a:lnTo>
                    <a:lnTo>
                      <a:pt x="123" y="168"/>
                    </a:lnTo>
                    <a:lnTo>
                      <a:pt x="140" y="177"/>
                    </a:lnTo>
                    <a:lnTo>
                      <a:pt x="158" y="185"/>
                    </a:lnTo>
                    <a:lnTo>
                      <a:pt x="177" y="192"/>
                    </a:lnTo>
                    <a:lnTo>
                      <a:pt x="195" y="198"/>
                    </a:lnTo>
                    <a:lnTo>
                      <a:pt x="216" y="204"/>
                    </a:lnTo>
                    <a:lnTo>
                      <a:pt x="237" y="209"/>
                    </a:lnTo>
                    <a:lnTo>
                      <a:pt x="258" y="213"/>
                    </a:lnTo>
                    <a:lnTo>
                      <a:pt x="280" y="216"/>
                    </a:lnTo>
                    <a:lnTo>
                      <a:pt x="298" y="209"/>
                    </a:lnTo>
                    <a:lnTo>
                      <a:pt x="313" y="197"/>
                    </a:lnTo>
                    <a:lnTo>
                      <a:pt x="325" y="182"/>
                    </a:lnTo>
                    <a:lnTo>
                      <a:pt x="335" y="165"/>
                    </a:lnTo>
                    <a:lnTo>
                      <a:pt x="343" y="147"/>
                    </a:lnTo>
                    <a:lnTo>
                      <a:pt x="349" y="126"/>
                    </a:lnTo>
                    <a:lnTo>
                      <a:pt x="352" y="106"/>
                    </a:lnTo>
                    <a:lnTo>
                      <a:pt x="353" y="85"/>
                    </a:lnTo>
                    <a:lnTo>
                      <a:pt x="350" y="56"/>
                    </a:lnTo>
                    <a:lnTo>
                      <a:pt x="346" y="32"/>
                    </a:lnTo>
                    <a:lnTo>
                      <a:pt x="340" y="13"/>
                    </a:lnTo>
                    <a:lnTo>
                      <a:pt x="325" y="0"/>
                    </a:lnTo>
                    <a:lnTo>
                      <a:pt x="0" y="55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619440" y="3558600"/>
                <a:ext cx="90000" cy="66960"/>
              </a:xfrm>
              <a:custGeom>
                <a:avLst/>
                <a:gdLst/>
                <a:ahLst/>
                <a:rect l="l" t="t" r="r" b="b"/>
                <a:pathLst>
                  <a:path w="375" h="250">
                    <a:moveTo>
                      <a:pt x="9" y="250"/>
                    </a:moveTo>
                    <a:lnTo>
                      <a:pt x="297" y="205"/>
                    </a:lnTo>
                    <a:lnTo>
                      <a:pt x="375" y="2"/>
                    </a:lnTo>
                    <a:lnTo>
                      <a:pt x="351" y="0"/>
                    </a:lnTo>
                    <a:lnTo>
                      <a:pt x="329" y="2"/>
                    </a:lnTo>
                    <a:lnTo>
                      <a:pt x="305" y="6"/>
                    </a:lnTo>
                    <a:lnTo>
                      <a:pt x="283" y="12"/>
                    </a:lnTo>
                    <a:lnTo>
                      <a:pt x="260" y="21"/>
                    </a:lnTo>
                    <a:lnTo>
                      <a:pt x="238" y="33"/>
                    </a:lnTo>
                    <a:lnTo>
                      <a:pt x="217" y="45"/>
                    </a:lnTo>
                    <a:lnTo>
                      <a:pt x="196" y="58"/>
                    </a:lnTo>
                    <a:lnTo>
                      <a:pt x="175" y="73"/>
                    </a:lnTo>
                    <a:lnTo>
                      <a:pt x="156" y="90"/>
                    </a:lnTo>
                    <a:lnTo>
                      <a:pt x="136" y="106"/>
                    </a:lnTo>
                    <a:lnTo>
                      <a:pt x="117" y="123"/>
                    </a:lnTo>
                    <a:lnTo>
                      <a:pt x="99" y="138"/>
                    </a:lnTo>
                    <a:lnTo>
                      <a:pt x="81" y="154"/>
                    </a:lnTo>
                    <a:lnTo>
                      <a:pt x="63" y="169"/>
                    </a:lnTo>
                    <a:lnTo>
                      <a:pt x="47" y="182"/>
                    </a:lnTo>
                    <a:lnTo>
                      <a:pt x="38" y="194"/>
                    </a:lnTo>
                    <a:lnTo>
                      <a:pt x="30" y="203"/>
                    </a:lnTo>
                    <a:lnTo>
                      <a:pt x="24" y="211"/>
                    </a:lnTo>
                    <a:lnTo>
                      <a:pt x="18" y="218"/>
                    </a:lnTo>
                    <a:lnTo>
                      <a:pt x="14" y="224"/>
                    </a:lnTo>
                    <a:lnTo>
                      <a:pt x="9" y="230"/>
                    </a:lnTo>
                    <a:lnTo>
                      <a:pt x="5" y="236"/>
                    </a:lnTo>
                    <a:lnTo>
                      <a:pt x="0" y="245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05960" y="3352680"/>
                <a:ext cx="36360" cy="170280"/>
              </a:xfrm>
              <a:custGeom>
                <a:avLst/>
                <a:gdLst/>
                <a:ahLst/>
                <a:rect l="l" t="t" r="r" b="b"/>
                <a:pathLst>
                  <a:path w="152" h="630">
                    <a:moveTo>
                      <a:pt x="80" y="630"/>
                    </a:moveTo>
                    <a:lnTo>
                      <a:pt x="0" y="0"/>
                    </a:lnTo>
                    <a:lnTo>
                      <a:pt x="152" y="0"/>
                    </a:lnTo>
                    <a:lnTo>
                      <a:pt x="80" y="6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469680" y="3363840"/>
                <a:ext cx="83160" cy="186480"/>
              </a:xfrm>
              <a:custGeom>
                <a:avLst/>
                <a:gdLst/>
                <a:ahLst/>
                <a:rect l="l" t="t" r="r" b="b"/>
                <a:pathLst>
                  <a:path w="349" h="689">
                    <a:moveTo>
                      <a:pt x="0" y="689"/>
                    </a:moveTo>
                    <a:lnTo>
                      <a:pt x="206" y="0"/>
                    </a:lnTo>
                    <a:lnTo>
                      <a:pt x="349" y="51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89480" y="3475440"/>
                <a:ext cx="147600" cy="116640"/>
              </a:xfrm>
              <a:custGeom>
                <a:avLst/>
                <a:gdLst/>
                <a:ahLst/>
                <a:rect l="l" t="t" r="r" b="b"/>
                <a:pathLst>
                  <a:path w="617" h="433">
                    <a:moveTo>
                      <a:pt x="0" y="433"/>
                    </a:moveTo>
                    <a:lnTo>
                      <a:pt x="606" y="0"/>
                    </a:lnTo>
                    <a:lnTo>
                      <a:pt x="617" y="155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3733920" y="4191120"/>
            <a:ext cx="1828800" cy="990360"/>
            <a:chOff x="3733920" y="4191120"/>
            <a:chExt cx="1828800" cy="990360"/>
          </a:xfrm>
        </p:grpSpPr>
        <p:sp>
          <p:nvSpPr>
            <p:cNvPr id="716" name=""/>
            <p:cNvSpPr/>
            <p:nvPr/>
          </p:nvSpPr>
          <p:spPr>
            <a:xfrm>
              <a:off x="3733920" y="4191120"/>
              <a:ext cx="1828800" cy="99036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ar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7" name="" descr=""/>
            <p:cNvPicPr/>
            <p:nvPr/>
          </p:nvPicPr>
          <p:blipFill>
            <a:blip r:embed="rId2"/>
            <a:stretch/>
          </p:blipFill>
          <p:spPr>
            <a:xfrm>
              <a:off x="4038840" y="4572000"/>
              <a:ext cx="114300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"/>
          <p:cNvSpPr/>
          <p:nvPr/>
        </p:nvSpPr>
        <p:spPr>
          <a:xfrm>
            <a:off x="914400" y="4114800"/>
            <a:ext cx="1905120" cy="1066680"/>
          </a:xfrm>
          <a:prstGeom prst="ellipse">
            <a:avLst/>
          </a:prstGeom>
          <a:gradFill rotWithShape="0">
            <a:gsLst>
              <a:gs pos="0">
                <a:srgbClr val="ced5cc"/>
              </a:gs>
              <a:gs pos="100000">
                <a:srgbClr val="536b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aiss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so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47640" cy="66996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2358000" y="5251680"/>
            <a:ext cx="1837440" cy="1307880"/>
            <a:chOff x="2358000" y="5251680"/>
            <a:chExt cx="1837440" cy="1307880"/>
          </a:xfrm>
        </p:grpSpPr>
        <p:sp>
          <p:nvSpPr>
            <p:cNvPr id="721" name=""/>
            <p:cNvSpPr/>
            <p:nvPr/>
          </p:nvSpPr>
          <p:spPr>
            <a:xfrm rot="10776600">
              <a:off x="2361960" y="5257800"/>
              <a:ext cx="1828800" cy="1295280"/>
            </a:xfrm>
            <a:custGeom>
              <a:avLst/>
              <a:gdLst>
                <a:gd name="textAreaLeft" fmla="*/ 402120 w 1828800"/>
                <a:gd name="textAreaRight" fmla="*/ 1426680 w 1828800"/>
                <a:gd name="textAreaTop" fmla="*/ 284760 h 1295280"/>
                <a:gd name="textAreaBottom" fmla="*/ 1010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f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so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4"/>
            <a:stretch/>
          </p:blipFill>
          <p:spPr>
            <a:xfrm>
              <a:off x="3048120" y="5638680"/>
              <a:ext cx="550800" cy="9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"/>
          <p:cNvGrpSpPr/>
          <p:nvPr/>
        </p:nvGrpSpPr>
        <p:grpSpPr>
          <a:xfrm>
            <a:off x="5181480" y="1219320"/>
            <a:ext cx="3961080" cy="3100320"/>
            <a:chOff x="5181480" y="1219320"/>
            <a:chExt cx="3961080" cy="3100320"/>
          </a:xfrm>
        </p:grpSpPr>
        <p:pic>
          <p:nvPicPr>
            <p:cNvPr id="724" name="" descr=""/>
            <p:cNvPicPr/>
            <p:nvPr/>
          </p:nvPicPr>
          <p:blipFill>
            <a:blip r:embed="rId5"/>
            <a:stretch/>
          </p:blipFill>
          <p:spPr>
            <a:xfrm>
              <a:off x="7162920" y="2895480"/>
              <a:ext cx="175248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5181480" y="1219320"/>
              <a:ext cx="3961080" cy="1295280"/>
            </a:xfrm>
            <a:prstGeom prst="cloudCallout">
              <a:avLst>
                <a:gd name="adj1" fmla="val 15731"/>
                <a:gd name="adj2" fmla="val 78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’AFFIRMATION de SO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295280" y="228600"/>
            <a:ext cx="3733920" cy="1828800"/>
            <a:chOff x="1295280" y="228600"/>
            <a:chExt cx="3733920" cy="1828800"/>
          </a:xfrm>
        </p:grpSpPr>
        <p:sp>
          <p:nvSpPr>
            <p:cNvPr id="727" name=""/>
            <p:cNvSpPr/>
            <p:nvPr/>
          </p:nvSpPr>
          <p:spPr>
            <a:xfrm>
              <a:off x="1295280" y="228600"/>
              <a:ext cx="3733920" cy="1828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3988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Estime de so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cience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 valeur glob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6"/>
            <a:stretch/>
          </p:blipFill>
          <p:spPr>
            <a:xfrm>
              <a:off x="3581280" y="914400"/>
              <a:ext cx="1143000" cy="89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09480" y="838080"/>
            <a:ext cx="792504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onçu et réalisé par </a:t>
            </a:r>
            <a:r>
              <a:rPr b="1" lang="fr-CA" sz="2800" spc="-1" strike="noStrike">
                <a:solidFill>
                  <a:srgbClr val="336699"/>
                </a:solidFill>
                <a:latin typeface="Arial"/>
              </a:rPr>
              <a:t>Johanne Yergeau</a:t>
            </a:r>
            <a:r>
              <a:rPr b="0" lang="fr-CA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ans le ca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u cours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FPE 7650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TIC dans l’enseignement aux moyens et grands groupes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PC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UQ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om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la précieuse collaborat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Monique Dugal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chargée de cours, et des auxiliaires d’enseignement : Kathleen Deslauriers et Nadège Fi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62120" cy="6192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620120" y="5105520"/>
            <a:ext cx="1066680" cy="533160"/>
          </a:xfrm>
          <a:prstGeom prst="cloudCallout">
            <a:avLst>
              <a:gd name="adj1" fmla="val -68750"/>
              <a:gd name="adj2" fmla="val 3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-delà du concep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es manifes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197000"/>
            <a:ext cx="5219640" cy="2738520"/>
          </a:xfrm>
          <a:prstGeom prst="cloudCallout">
            <a:avLst>
              <a:gd name="adj1" fmla="val -67884"/>
              <a:gd name="adj2" fmla="val 33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a se voit comment que quelqu’un a une bonne estime de s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0280" y="3135240"/>
            <a:ext cx="3581640" cy="29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808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S. permet d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« 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VIVRE dans L’AUTHENTICITÉ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76920" y="457200"/>
            <a:ext cx="3429000" cy="2390760"/>
            <a:chOff x="4876920" y="457200"/>
            <a:chExt cx="3429000" cy="239076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876920" y="1981080"/>
              <a:ext cx="10666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457200"/>
              <a:ext cx="2743200" cy="1295280"/>
            </a:xfrm>
            <a:prstGeom prst="cloudCallout">
              <a:avLst>
                <a:gd name="adj1" fmla="val -54166"/>
                <a:gd name="adj2" fmla="val 60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Ça veut dire quoi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819520" y="2133720"/>
            <a:ext cx="15238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743200"/>
            <a:ext cx="33526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276720"/>
            <a:ext cx="51814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er les opinion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886200"/>
            <a:ext cx="58672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des choix conformes à ses val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495680"/>
            <a:ext cx="327672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r ses cho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5105520"/>
            <a:ext cx="228600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ire en so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715000"/>
            <a:ext cx="281952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334120"/>
            <a:ext cx="190476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eng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933800" y="2279160"/>
            <a:ext cx="4305600" cy="3692880"/>
            <a:chOff x="4933800" y="2279160"/>
            <a:chExt cx="4305600" cy="36928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5943600" y="4734000"/>
              <a:ext cx="152388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1257000">
              <a:off x="5028840" y="2971800"/>
              <a:ext cx="4114800" cy="1295280"/>
            </a:xfrm>
            <a:prstGeom prst="cloudCallout">
              <a:avLst>
                <a:gd name="adj1" fmla="val 1388"/>
                <a:gd name="adj2" fmla="val 7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 ! C’est donc ça </a:t>
              </a: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s’AFFIRM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s’affirmer, il faut être… 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n contact avec ses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ressources intéri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324480"/>
            <a:ext cx="9142560" cy="533520"/>
          </a:xfrm>
          <a:prstGeom prst="rect">
            <a:avLst/>
          </a:prstGeom>
          <a:gradFill rotWithShape="0">
            <a:gsLst>
              <a:gs pos="0">
                <a:srgbClr val="f7f9fa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e de soi = coffre à outi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ssources)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 coffre aux trésor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0880" y="2666880"/>
            <a:ext cx="4191120" cy="3181320"/>
            <a:chOff x="380880" y="2666880"/>
            <a:chExt cx="4191120" cy="31813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80880" y="4114800"/>
              <a:ext cx="213372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447920" y="2666880"/>
              <a:ext cx="3124080" cy="1295640"/>
            </a:xfrm>
            <a:prstGeom prst="cloudCallout">
              <a:avLst>
                <a:gd name="adj1" fmla="val -53657"/>
                <a:gd name="adj2" fmla="val 60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s qu’est-ce qu’on met dans le coffr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666880" y="3886200"/>
            <a:ext cx="54104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confiance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en s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fierté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(connaissance de soi / ident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solidarité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(apparten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1523880"/>
            <a:ext cx="4113360" cy="2286000"/>
          </a:xfrm>
          <a:prstGeom prst="ellipse">
            <a:avLst/>
          </a:prstGeom>
          <a:gradFill rotWithShape="0">
            <a:gsLst>
              <a:gs pos="0">
                <a:srgbClr val="b39888"/>
              </a:gs>
              <a:gs pos="100000">
                <a:srgbClr val="f7f4f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ime de s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629400" y="2286000"/>
            <a:ext cx="1905120" cy="1496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0880" y="16002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évelopper et prendre conscience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richesse de son coffre aux tré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289160" y="4561560"/>
            <a:ext cx="2602440" cy="1693800"/>
            <a:chOff x="1289160" y="4561560"/>
            <a:chExt cx="2602440" cy="1693800"/>
          </a:xfrm>
        </p:grpSpPr>
        <p:sp>
          <p:nvSpPr>
            <p:cNvPr id="209" name=""/>
            <p:cNvSpPr/>
            <p:nvPr/>
          </p:nvSpPr>
          <p:spPr>
            <a:xfrm rot="10776600">
              <a:off x="1294920" y="4570200"/>
              <a:ext cx="2590920" cy="1676160"/>
            </a:xfrm>
            <a:custGeom>
              <a:avLst/>
              <a:gdLst>
                <a:gd name="textAreaLeft" fmla="*/ 569520 w 2590920"/>
                <a:gd name="textAreaRight" fmla="*/ 2021400 w 2590920"/>
                <a:gd name="textAreaTop" fmla="*/ 368640 h 1676160"/>
                <a:gd name="textAreaBottom" fmla="*/ 13075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8906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91440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e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66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’appar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33520"/>
            <a:ext cx="335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buClr>
                <a:srgbClr val="000000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’ident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naissance de s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e 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181480" y="4800600"/>
            <a:ext cx="2743200" cy="1295280"/>
            <a:chOff x="5181480" y="4800600"/>
            <a:chExt cx="2743200" cy="1295280"/>
          </a:xfrm>
        </p:grpSpPr>
        <p:sp>
          <p:nvSpPr>
            <p:cNvPr id="216" name=""/>
            <p:cNvSpPr/>
            <p:nvPr/>
          </p:nvSpPr>
          <p:spPr>
            <a:xfrm>
              <a:off x="5181480" y="4800600"/>
              <a:ext cx="2743200" cy="129528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943600" y="4800600"/>
              <a:ext cx="1143000" cy="1142640"/>
              <a:chOff x="5943600" y="4800600"/>
              <a:chExt cx="1143000" cy="1142640"/>
            </a:xfrm>
          </p:grpSpPr>
          <p:sp>
            <p:nvSpPr>
              <p:cNvPr id="218" name=""/>
              <p:cNvSpPr/>
              <p:nvPr/>
            </p:nvSpPr>
            <p:spPr>
              <a:xfrm>
                <a:off x="5943600" y="4935600"/>
                <a:ext cx="1143000" cy="1007640"/>
              </a:xfrm>
              <a:custGeom>
                <a:avLst/>
                <a:gdLst/>
                <a:ahLst/>
                <a:rect l="l" t="t" r="r" b="b"/>
                <a:pathLst>
                  <a:path w="2862" h="2233">
                    <a:moveTo>
                      <a:pt x="1" y="1057"/>
                    </a:moveTo>
                    <a:lnTo>
                      <a:pt x="7" y="1133"/>
                    </a:lnTo>
                    <a:lnTo>
                      <a:pt x="15" y="1209"/>
                    </a:lnTo>
                    <a:lnTo>
                      <a:pt x="25" y="1285"/>
                    </a:lnTo>
                    <a:lnTo>
                      <a:pt x="37" y="1363"/>
                    </a:lnTo>
                    <a:lnTo>
                      <a:pt x="54" y="1439"/>
                    </a:lnTo>
                    <a:lnTo>
                      <a:pt x="73" y="1514"/>
                    </a:lnTo>
                    <a:lnTo>
                      <a:pt x="97" y="1588"/>
                    </a:lnTo>
                    <a:lnTo>
                      <a:pt x="124" y="1660"/>
                    </a:lnTo>
                    <a:lnTo>
                      <a:pt x="154" y="1730"/>
                    </a:lnTo>
                    <a:lnTo>
                      <a:pt x="188" y="1799"/>
                    </a:lnTo>
                    <a:lnTo>
                      <a:pt x="228" y="1863"/>
                    </a:lnTo>
                    <a:lnTo>
                      <a:pt x="271" y="1924"/>
                    </a:lnTo>
                    <a:lnTo>
                      <a:pt x="321" y="1982"/>
                    </a:lnTo>
                    <a:lnTo>
                      <a:pt x="373" y="2036"/>
                    </a:lnTo>
                    <a:lnTo>
                      <a:pt x="433" y="2085"/>
                    </a:lnTo>
                    <a:lnTo>
                      <a:pt x="497" y="2129"/>
                    </a:lnTo>
                    <a:lnTo>
                      <a:pt x="528" y="2150"/>
                    </a:lnTo>
                    <a:lnTo>
                      <a:pt x="561" y="2167"/>
                    </a:lnTo>
                    <a:lnTo>
                      <a:pt x="595" y="2182"/>
                    </a:lnTo>
                    <a:lnTo>
                      <a:pt x="631" y="2196"/>
                    </a:lnTo>
                    <a:lnTo>
                      <a:pt x="667" y="2208"/>
                    </a:lnTo>
                    <a:lnTo>
                      <a:pt x="703" y="2217"/>
                    </a:lnTo>
                    <a:lnTo>
                      <a:pt x="742" y="2224"/>
                    </a:lnTo>
                    <a:lnTo>
                      <a:pt x="779" y="2229"/>
                    </a:lnTo>
                    <a:lnTo>
                      <a:pt x="818" y="2232"/>
                    </a:lnTo>
                    <a:lnTo>
                      <a:pt x="856" y="2233"/>
                    </a:lnTo>
                    <a:lnTo>
                      <a:pt x="895" y="2233"/>
                    </a:lnTo>
                    <a:lnTo>
                      <a:pt x="934" y="2232"/>
                    </a:lnTo>
                    <a:lnTo>
                      <a:pt x="973" y="2227"/>
                    </a:lnTo>
                    <a:lnTo>
                      <a:pt x="1012" y="2223"/>
                    </a:lnTo>
                    <a:lnTo>
                      <a:pt x="1050" y="2215"/>
                    </a:lnTo>
                    <a:lnTo>
                      <a:pt x="1088" y="2208"/>
                    </a:lnTo>
                    <a:lnTo>
                      <a:pt x="1150" y="2178"/>
                    </a:lnTo>
                    <a:lnTo>
                      <a:pt x="1209" y="2145"/>
                    </a:lnTo>
                    <a:lnTo>
                      <a:pt x="1265" y="2109"/>
                    </a:lnTo>
                    <a:lnTo>
                      <a:pt x="1319" y="2069"/>
                    </a:lnTo>
                    <a:lnTo>
                      <a:pt x="1371" y="2027"/>
                    </a:lnTo>
                    <a:lnTo>
                      <a:pt x="1419" y="1982"/>
                    </a:lnTo>
                    <a:lnTo>
                      <a:pt x="1464" y="1933"/>
                    </a:lnTo>
                    <a:lnTo>
                      <a:pt x="1506" y="1882"/>
                    </a:lnTo>
                    <a:lnTo>
                      <a:pt x="1544" y="1829"/>
                    </a:lnTo>
                    <a:lnTo>
                      <a:pt x="1579" y="1772"/>
                    </a:lnTo>
                    <a:lnTo>
                      <a:pt x="1610" y="1712"/>
                    </a:lnTo>
                    <a:lnTo>
                      <a:pt x="1638" y="1651"/>
                    </a:lnTo>
                    <a:lnTo>
                      <a:pt x="1662" y="1587"/>
                    </a:lnTo>
                    <a:lnTo>
                      <a:pt x="1683" y="1520"/>
                    </a:lnTo>
                    <a:lnTo>
                      <a:pt x="1700" y="1449"/>
                    </a:lnTo>
                    <a:lnTo>
                      <a:pt x="1711" y="1378"/>
                    </a:lnTo>
                    <a:lnTo>
                      <a:pt x="1716" y="1285"/>
                    </a:lnTo>
                    <a:lnTo>
                      <a:pt x="1716" y="1190"/>
                    </a:lnTo>
                    <a:lnTo>
                      <a:pt x="1716" y="1099"/>
                    </a:lnTo>
                    <a:lnTo>
                      <a:pt x="1719" y="1015"/>
                    </a:lnTo>
                    <a:lnTo>
                      <a:pt x="1753" y="1006"/>
                    </a:lnTo>
                    <a:lnTo>
                      <a:pt x="1789" y="996"/>
                    </a:lnTo>
                    <a:lnTo>
                      <a:pt x="1825" y="985"/>
                    </a:lnTo>
                    <a:lnTo>
                      <a:pt x="1862" y="975"/>
                    </a:lnTo>
                    <a:lnTo>
                      <a:pt x="1900" y="964"/>
                    </a:lnTo>
                    <a:lnTo>
                      <a:pt x="1937" y="954"/>
                    </a:lnTo>
                    <a:lnTo>
                      <a:pt x="1974" y="942"/>
                    </a:lnTo>
                    <a:lnTo>
                      <a:pt x="2013" y="931"/>
                    </a:lnTo>
                    <a:lnTo>
                      <a:pt x="2050" y="923"/>
                    </a:lnTo>
                    <a:lnTo>
                      <a:pt x="2089" y="914"/>
                    </a:lnTo>
                    <a:lnTo>
                      <a:pt x="2128" y="905"/>
                    </a:lnTo>
                    <a:lnTo>
                      <a:pt x="2167" y="899"/>
                    </a:lnTo>
                    <a:lnTo>
                      <a:pt x="2204" y="893"/>
                    </a:lnTo>
                    <a:lnTo>
                      <a:pt x="2243" y="888"/>
                    </a:lnTo>
                    <a:lnTo>
                      <a:pt x="2280" y="885"/>
                    </a:lnTo>
                    <a:lnTo>
                      <a:pt x="2317" y="885"/>
                    </a:lnTo>
                    <a:lnTo>
                      <a:pt x="2331" y="905"/>
                    </a:lnTo>
                    <a:lnTo>
                      <a:pt x="2346" y="923"/>
                    </a:lnTo>
                    <a:lnTo>
                      <a:pt x="2364" y="939"/>
                    </a:lnTo>
                    <a:lnTo>
                      <a:pt x="2382" y="955"/>
                    </a:lnTo>
                    <a:lnTo>
                      <a:pt x="2399" y="972"/>
                    </a:lnTo>
                    <a:lnTo>
                      <a:pt x="2420" y="987"/>
                    </a:lnTo>
                    <a:lnTo>
                      <a:pt x="2441" y="1002"/>
                    </a:lnTo>
                    <a:lnTo>
                      <a:pt x="2464" y="1014"/>
                    </a:lnTo>
                    <a:lnTo>
                      <a:pt x="2486" y="1027"/>
                    </a:lnTo>
                    <a:lnTo>
                      <a:pt x="2510" y="1039"/>
                    </a:lnTo>
                    <a:lnTo>
                      <a:pt x="2534" y="1049"/>
                    </a:lnTo>
                    <a:lnTo>
                      <a:pt x="2559" y="1060"/>
                    </a:lnTo>
                    <a:lnTo>
                      <a:pt x="2583" y="1070"/>
                    </a:lnTo>
                    <a:lnTo>
                      <a:pt x="2608" y="1079"/>
                    </a:lnTo>
                    <a:lnTo>
                      <a:pt x="2634" y="1087"/>
                    </a:lnTo>
                    <a:lnTo>
                      <a:pt x="2659" y="1094"/>
                    </a:lnTo>
                    <a:lnTo>
                      <a:pt x="2684" y="1082"/>
                    </a:lnTo>
                    <a:lnTo>
                      <a:pt x="2708" y="1067"/>
                    </a:lnTo>
                    <a:lnTo>
                      <a:pt x="2728" y="1048"/>
                    </a:lnTo>
                    <a:lnTo>
                      <a:pt x="2746" y="1026"/>
                    </a:lnTo>
                    <a:lnTo>
                      <a:pt x="2761" y="1002"/>
                    </a:lnTo>
                    <a:lnTo>
                      <a:pt x="2774" y="976"/>
                    </a:lnTo>
                    <a:lnTo>
                      <a:pt x="2784" y="948"/>
                    </a:lnTo>
                    <a:lnTo>
                      <a:pt x="2793" y="921"/>
                    </a:lnTo>
                    <a:lnTo>
                      <a:pt x="2790" y="885"/>
                    </a:lnTo>
                    <a:lnTo>
                      <a:pt x="2783" y="855"/>
                    </a:lnTo>
                    <a:lnTo>
                      <a:pt x="2775" y="828"/>
                    </a:lnTo>
                    <a:lnTo>
                      <a:pt x="2768" y="800"/>
                    </a:lnTo>
                    <a:lnTo>
                      <a:pt x="2774" y="784"/>
                    </a:lnTo>
                    <a:lnTo>
                      <a:pt x="2786" y="770"/>
                    </a:lnTo>
                    <a:lnTo>
                      <a:pt x="2801" y="760"/>
                    </a:lnTo>
                    <a:lnTo>
                      <a:pt x="2817" y="749"/>
                    </a:lnTo>
                    <a:lnTo>
                      <a:pt x="2834" y="737"/>
                    </a:lnTo>
                    <a:lnTo>
                      <a:pt x="2849" y="724"/>
                    </a:lnTo>
                    <a:lnTo>
                      <a:pt x="2858" y="706"/>
                    </a:lnTo>
                    <a:lnTo>
                      <a:pt x="2862" y="682"/>
                    </a:lnTo>
                    <a:lnTo>
                      <a:pt x="2856" y="676"/>
                    </a:lnTo>
                    <a:lnTo>
                      <a:pt x="2853" y="673"/>
                    </a:lnTo>
                    <a:lnTo>
                      <a:pt x="2850" y="670"/>
                    </a:lnTo>
                    <a:lnTo>
                      <a:pt x="2838" y="660"/>
                    </a:lnTo>
                    <a:lnTo>
                      <a:pt x="2832" y="660"/>
                    </a:lnTo>
                    <a:lnTo>
                      <a:pt x="2828" y="661"/>
                    </a:lnTo>
                    <a:lnTo>
                      <a:pt x="2822" y="661"/>
                    </a:lnTo>
                    <a:lnTo>
                      <a:pt x="2816" y="663"/>
                    </a:lnTo>
                    <a:lnTo>
                      <a:pt x="2810" y="664"/>
                    </a:lnTo>
                    <a:lnTo>
                      <a:pt x="2804" y="664"/>
                    </a:lnTo>
                    <a:lnTo>
                      <a:pt x="2796" y="666"/>
                    </a:lnTo>
                    <a:lnTo>
                      <a:pt x="2789" y="666"/>
                    </a:lnTo>
                    <a:lnTo>
                      <a:pt x="2777" y="646"/>
                    </a:lnTo>
                    <a:lnTo>
                      <a:pt x="2772" y="624"/>
                    </a:lnTo>
                    <a:lnTo>
                      <a:pt x="2777" y="603"/>
                    </a:lnTo>
                    <a:lnTo>
                      <a:pt x="2784" y="579"/>
                    </a:lnTo>
                    <a:lnTo>
                      <a:pt x="2795" y="555"/>
                    </a:lnTo>
                    <a:lnTo>
                      <a:pt x="2805" y="530"/>
                    </a:lnTo>
                    <a:lnTo>
                      <a:pt x="2813" y="503"/>
                    </a:lnTo>
                    <a:lnTo>
                      <a:pt x="2814" y="476"/>
                    </a:lnTo>
                    <a:lnTo>
                      <a:pt x="2778" y="409"/>
                    </a:lnTo>
                    <a:lnTo>
                      <a:pt x="2759" y="403"/>
                    </a:lnTo>
                    <a:lnTo>
                      <a:pt x="2741" y="400"/>
                    </a:lnTo>
                    <a:lnTo>
                      <a:pt x="2722" y="399"/>
                    </a:lnTo>
                    <a:lnTo>
                      <a:pt x="2702" y="402"/>
                    </a:lnTo>
                    <a:lnTo>
                      <a:pt x="2683" y="406"/>
                    </a:lnTo>
                    <a:lnTo>
                      <a:pt x="2664" y="412"/>
                    </a:lnTo>
                    <a:lnTo>
                      <a:pt x="2644" y="421"/>
                    </a:lnTo>
                    <a:lnTo>
                      <a:pt x="2625" y="430"/>
                    </a:lnTo>
                    <a:lnTo>
                      <a:pt x="2605" y="440"/>
                    </a:lnTo>
                    <a:lnTo>
                      <a:pt x="2587" y="452"/>
                    </a:lnTo>
                    <a:lnTo>
                      <a:pt x="2570" y="464"/>
                    </a:lnTo>
                    <a:lnTo>
                      <a:pt x="2552" y="476"/>
                    </a:lnTo>
                    <a:lnTo>
                      <a:pt x="2535" y="488"/>
                    </a:lnTo>
                    <a:lnTo>
                      <a:pt x="2519" y="499"/>
                    </a:lnTo>
                    <a:lnTo>
                      <a:pt x="2504" y="509"/>
                    </a:lnTo>
                    <a:lnTo>
                      <a:pt x="2489" y="518"/>
                    </a:lnTo>
                    <a:lnTo>
                      <a:pt x="2473" y="533"/>
                    </a:lnTo>
                    <a:lnTo>
                      <a:pt x="2456" y="548"/>
                    </a:lnTo>
                    <a:lnTo>
                      <a:pt x="2440" y="563"/>
                    </a:lnTo>
                    <a:lnTo>
                      <a:pt x="2425" y="578"/>
                    </a:lnTo>
                    <a:lnTo>
                      <a:pt x="2410" y="593"/>
                    </a:lnTo>
                    <a:lnTo>
                      <a:pt x="2395" y="606"/>
                    </a:lnTo>
                    <a:lnTo>
                      <a:pt x="2380" y="621"/>
                    </a:lnTo>
                    <a:lnTo>
                      <a:pt x="2367" y="636"/>
                    </a:lnTo>
                    <a:lnTo>
                      <a:pt x="2352" y="651"/>
                    </a:lnTo>
                    <a:lnTo>
                      <a:pt x="2338" y="666"/>
                    </a:lnTo>
                    <a:lnTo>
                      <a:pt x="2323" y="679"/>
                    </a:lnTo>
                    <a:lnTo>
                      <a:pt x="2308" y="694"/>
                    </a:lnTo>
                    <a:lnTo>
                      <a:pt x="2295" y="709"/>
                    </a:lnTo>
                    <a:lnTo>
                      <a:pt x="2280" y="722"/>
                    </a:lnTo>
                    <a:lnTo>
                      <a:pt x="2265" y="737"/>
                    </a:lnTo>
                    <a:lnTo>
                      <a:pt x="2249" y="751"/>
                    </a:lnTo>
                    <a:lnTo>
                      <a:pt x="1695" y="843"/>
                    </a:lnTo>
                    <a:lnTo>
                      <a:pt x="1668" y="784"/>
                    </a:lnTo>
                    <a:lnTo>
                      <a:pt x="1641" y="725"/>
                    </a:lnTo>
                    <a:lnTo>
                      <a:pt x="1614" y="667"/>
                    </a:lnTo>
                    <a:lnTo>
                      <a:pt x="1586" y="611"/>
                    </a:lnTo>
                    <a:lnTo>
                      <a:pt x="1556" y="554"/>
                    </a:lnTo>
                    <a:lnTo>
                      <a:pt x="1525" y="499"/>
                    </a:lnTo>
                    <a:lnTo>
                      <a:pt x="1494" y="445"/>
                    </a:lnTo>
                    <a:lnTo>
                      <a:pt x="1459" y="391"/>
                    </a:lnTo>
                    <a:lnTo>
                      <a:pt x="1423" y="342"/>
                    </a:lnTo>
                    <a:lnTo>
                      <a:pt x="1385" y="293"/>
                    </a:lnTo>
                    <a:lnTo>
                      <a:pt x="1344" y="248"/>
                    </a:lnTo>
                    <a:lnTo>
                      <a:pt x="1301" y="205"/>
                    </a:lnTo>
                    <a:lnTo>
                      <a:pt x="1255" y="164"/>
                    </a:lnTo>
                    <a:lnTo>
                      <a:pt x="1204" y="125"/>
                    </a:lnTo>
                    <a:lnTo>
                      <a:pt x="1152" y="93"/>
                    </a:lnTo>
                    <a:lnTo>
                      <a:pt x="1095" y="61"/>
                    </a:lnTo>
                    <a:lnTo>
                      <a:pt x="1071" y="55"/>
                    </a:lnTo>
                    <a:lnTo>
                      <a:pt x="1049" y="51"/>
                    </a:lnTo>
                    <a:lnTo>
                      <a:pt x="1025" y="48"/>
                    </a:lnTo>
                    <a:lnTo>
                      <a:pt x="1003" y="45"/>
                    </a:lnTo>
                    <a:lnTo>
                      <a:pt x="980" y="42"/>
                    </a:lnTo>
                    <a:lnTo>
                      <a:pt x="958" y="39"/>
                    </a:lnTo>
                    <a:lnTo>
                      <a:pt x="937" y="37"/>
                    </a:lnTo>
                    <a:lnTo>
                      <a:pt x="915" y="34"/>
                    </a:lnTo>
                    <a:lnTo>
                      <a:pt x="894" y="33"/>
                    </a:lnTo>
                    <a:lnTo>
                      <a:pt x="873" y="30"/>
                    </a:lnTo>
                    <a:lnTo>
                      <a:pt x="852" y="27"/>
                    </a:lnTo>
                    <a:lnTo>
                      <a:pt x="831" y="22"/>
                    </a:lnTo>
                    <a:lnTo>
                      <a:pt x="810" y="18"/>
                    </a:lnTo>
                    <a:lnTo>
                      <a:pt x="791" y="13"/>
                    </a:lnTo>
                    <a:lnTo>
                      <a:pt x="770" y="7"/>
                    </a:lnTo>
                    <a:lnTo>
                      <a:pt x="750" y="0"/>
                    </a:lnTo>
                    <a:lnTo>
                      <a:pt x="440" y="81"/>
                    </a:lnTo>
                    <a:lnTo>
                      <a:pt x="389" y="125"/>
                    </a:lnTo>
                    <a:lnTo>
                      <a:pt x="340" y="173"/>
                    </a:lnTo>
                    <a:lnTo>
                      <a:pt x="294" y="224"/>
                    </a:lnTo>
                    <a:lnTo>
                      <a:pt x="251" y="276"/>
                    </a:lnTo>
                    <a:lnTo>
                      <a:pt x="210" y="331"/>
                    </a:lnTo>
                    <a:lnTo>
                      <a:pt x="173" y="388"/>
                    </a:lnTo>
                    <a:lnTo>
                      <a:pt x="139" y="448"/>
                    </a:lnTo>
                    <a:lnTo>
                      <a:pt x="109" y="508"/>
                    </a:lnTo>
                    <a:lnTo>
                      <a:pt x="80" y="572"/>
                    </a:lnTo>
                    <a:lnTo>
                      <a:pt x="58" y="636"/>
                    </a:lnTo>
                    <a:lnTo>
                      <a:pt x="39" y="703"/>
                    </a:lnTo>
                    <a:lnTo>
                      <a:pt x="22" y="770"/>
                    </a:lnTo>
                    <a:lnTo>
                      <a:pt x="10" y="840"/>
                    </a:lnTo>
                    <a:lnTo>
                      <a:pt x="3" y="911"/>
                    </a:lnTo>
                    <a:lnTo>
                      <a:pt x="0" y="984"/>
                    </a:lnTo>
                    <a:lnTo>
                      <a:pt x="1" y="10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65920" y="5054040"/>
                <a:ext cx="276840" cy="862200"/>
              </a:xfrm>
              <a:custGeom>
                <a:avLst/>
                <a:gdLst/>
                <a:ahLst/>
                <a:rect l="l" t="t" r="r" b="b"/>
                <a:pathLst>
                  <a:path w="695" h="1912">
                    <a:moveTo>
                      <a:pt x="0" y="945"/>
                    </a:moveTo>
                    <a:lnTo>
                      <a:pt x="15" y="994"/>
                    </a:lnTo>
                    <a:lnTo>
                      <a:pt x="25" y="1043"/>
                    </a:lnTo>
                    <a:lnTo>
                      <a:pt x="33" y="1092"/>
                    </a:lnTo>
                    <a:lnTo>
                      <a:pt x="40" y="1142"/>
                    </a:lnTo>
                    <a:lnTo>
                      <a:pt x="49" y="1192"/>
                    </a:lnTo>
                    <a:lnTo>
                      <a:pt x="60" y="1242"/>
                    </a:lnTo>
                    <a:lnTo>
                      <a:pt x="76" y="1292"/>
                    </a:lnTo>
                    <a:lnTo>
                      <a:pt x="97" y="1343"/>
                    </a:lnTo>
                    <a:lnTo>
                      <a:pt x="118" y="1394"/>
                    </a:lnTo>
                    <a:lnTo>
                      <a:pt x="140" y="1442"/>
                    </a:lnTo>
                    <a:lnTo>
                      <a:pt x="166" y="1489"/>
                    </a:lnTo>
                    <a:lnTo>
                      <a:pt x="194" y="1536"/>
                    </a:lnTo>
                    <a:lnTo>
                      <a:pt x="225" y="1581"/>
                    </a:lnTo>
                    <a:lnTo>
                      <a:pt x="258" y="1622"/>
                    </a:lnTo>
                    <a:lnTo>
                      <a:pt x="293" y="1663"/>
                    </a:lnTo>
                    <a:lnTo>
                      <a:pt x="330" y="1701"/>
                    </a:lnTo>
                    <a:lnTo>
                      <a:pt x="370" y="1737"/>
                    </a:lnTo>
                    <a:lnTo>
                      <a:pt x="410" y="1772"/>
                    </a:lnTo>
                    <a:lnTo>
                      <a:pt x="454" y="1801"/>
                    </a:lnTo>
                    <a:lnTo>
                      <a:pt x="499" y="1830"/>
                    </a:lnTo>
                    <a:lnTo>
                      <a:pt x="546" y="1855"/>
                    </a:lnTo>
                    <a:lnTo>
                      <a:pt x="594" y="1878"/>
                    </a:lnTo>
                    <a:lnTo>
                      <a:pt x="645" y="1897"/>
                    </a:lnTo>
                    <a:lnTo>
                      <a:pt x="695" y="1912"/>
                    </a:lnTo>
                    <a:lnTo>
                      <a:pt x="631" y="1881"/>
                    </a:lnTo>
                    <a:lnTo>
                      <a:pt x="569" y="1845"/>
                    </a:lnTo>
                    <a:lnTo>
                      <a:pt x="509" y="1804"/>
                    </a:lnTo>
                    <a:lnTo>
                      <a:pt x="451" y="1760"/>
                    </a:lnTo>
                    <a:lnTo>
                      <a:pt x="397" y="1712"/>
                    </a:lnTo>
                    <a:lnTo>
                      <a:pt x="346" y="1658"/>
                    </a:lnTo>
                    <a:lnTo>
                      <a:pt x="299" y="1603"/>
                    </a:lnTo>
                    <a:lnTo>
                      <a:pt x="254" y="1543"/>
                    </a:lnTo>
                    <a:lnTo>
                      <a:pt x="214" y="1479"/>
                    </a:lnTo>
                    <a:lnTo>
                      <a:pt x="176" y="1413"/>
                    </a:lnTo>
                    <a:lnTo>
                      <a:pt x="143" y="1343"/>
                    </a:lnTo>
                    <a:lnTo>
                      <a:pt x="117" y="1270"/>
                    </a:lnTo>
                    <a:lnTo>
                      <a:pt x="93" y="1195"/>
                    </a:lnTo>
                    <a:lnTo>
                      <a:pt x="75" y="1116"/>
                    </a:lnTo>
                    <a:lnTo>
                      <a:pt x="61" y="1036"/>
                    </a:lnTo>
                    <a:lnTo>
                      <a:pt x="52" y="952"/>
                    </a:lnTo>
                    <a:lnTo>
                      <a:pt x="49" y="885"/>
                    </a:lnTo>
                    <a:lnTo>
                      <a:pt x="49" y="818"/>
                    </a:lnTo>
                    <a:lnTo>
                      <a:pt x="49" y="752"/>
                    </a:lnTo>
                    <a:lnTo>
                      <a:pt x="51" y="688"/>
                    </a:lnTo>
                    <a:lnTo>
                      <a:pt x="54" y="624"/>
                    </a:lnTo>
                    <a:lnTo>
                      <a:pt x="60" y="562"/>
                    </a:lnTo>
                    <a:lnTo>
                      <a:pt x="69" y="500"/>
                    </a:lnTo>
                    <a:lnTo>
                      <a:pt x="79" y="440"/>
                    </a:lnTo>
                    <a:lnTo>
                      <a:pt x="93" y="380"/>
                    </a:lnTo>
                    <a:lnTo>
                      <a:pt x="109" y="322"/>
                    </a:lnTo>
                    <a:lnTo>
                      <a:pt x="130" y="265"/>
                    </a:lnTo>
                    <a:lnTo>
                      <a:pt x="154" y="210"/>
                    </a:lnTo>
                    <a:lnTo>
                      <a:pt x="181" y="156"/>
                    </a:lnTo>
                    <a:lnTo>
                      <a:pt x="214" y="103"/>
                    </a:lnTo>
                    <a:lnTo>
                      <a:pt x="249" y="50"/>
                    </a:lnTo>
                    <a:lnTo>
                      <a:pt x="290" y="0"/>
                    </a:lnTo>
                    <a:lnTo>
                      <a:pt x="240" y="46"/>
                    </a:lnTo>
                    <a:lnTo>
                      <a:pt x="197" y="94"/>
                    </a:lnTo>
                    <a:lnTo>
                      <a:pt x="158" y="145"/>
                    </a:lnTo>
                    <a:lnTo>
                      <a:pt x="125" y="198"/>
                    </a:lnTo>
                    <a:lnTo>
                      <a:pt x="97" y="254"/>
                    </a:lnTo>
                    <a:lnTo>
                      <a:pt x="73" y="310"/>
                    </a:lnTo>
                    <a:lnTo>
                      <a:pt x="54" y="368"/>
                    </a:lnTo>
                    <a:lnTo>
                      <a:pt x="39" y="430"/>
                    </a:lnTo>
                    <a:lnTo>
                      <a:pt x="25" y="491"/>
                    </a:lnTo>
                    <a:lnTo>
                      <a:pt x="17" y="554"/>
                    </a:lnTo>
                    <a:lnTo>
                      <a:pt x="9" y="618"/>
                    </a:lnTo>
                    <a:lnTo>
                      <a:pt x="5" y="682"/>
                    </a:lnTo>
                    <a:lnTo>
                      <a:pt x="2" y="748"/>
                    </a:lnTo>
                    <a:lnTo>
                      <a:pt x="0" y="813"/>
                    </a:lnTo>
                    <a:lnTo>
                      <a:pt x="0" y="879"/>
                    </a:lnTo>
                    <a:lnTo>
                      <a:pt x="0" y="94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11280" y="4971960"/>
                <a:ext cx="597960" cy="928080"/>
              </a:xfrm>
              <a:custGeom>
                <a:avLst/>
                <a:gdLst/>
                <a:ahLst/>
                <a:rect l="l" t="t" r="r" b="b"/>
                <a:pathLst>
                  <a:path w="1498" h="2057">
                    <a:moveTo>
                      <a:pt x="0" y="1061"/>
                    </a:moveTo>
                    <a:lnTo>
                      <a:pt x="4" y="1125"/>
                    </a:lnTo>
                    <a:lnTo>
                      <a:pt x="13" y="1188"/>
                    </a:lnTo>
                    <a:lnTo>
                      <a:pt x="24" y="1251"/>
                    </a:lnTo>
                    <a:lnTo>
                      <a:pt x="37" y="1313"/>
                    </a:lnTo>
                    <a:lnTo>
                      <a:pt x="52" y="1374"/>
                    </a:lnTo>
                    <a:lnTo>
                      <a:pt x="72" y="1436"/>
                    </a:lnTo>
                    <a:lnTo>
                      <a:pt x="94" y="1494"/>
                    </a:lnTo>
                    <a:lnTo>
                      <a:pt x="118" y="1552"/>
                    </a:lnTo>
                    <a:lnTo>
                      <a:pt x="146" y="1607"/>
                    </a:lnTo>
                    <a:lnTo>
                      <a:pt x="178" y="1661"/>
                    </a:lnTo>
                    <a:lnTo>
                      <a:pt x="212" y="1712"/>
                    </a:lnTo>
                    <a:lnTo>
                      <a:pt x="249" y="1761"/>
                    </a:lnTo>
                    <a:lnTo>
                      <a:pt x="291" y="1807"/>
                    </a:lnTo>
                    <a:lnTo>
                      <a:pt x="336" y="1851"/>
                    </a:lnTo>
                    <a:lnTo>
                      <a:pt x="384" y="1889"/>
                    </a:lnTo>
                    <a:lnTo>
                      <a:pt x="436" y="1927"/>
                    </a:lnTo>
                    <a:lnTo>
                      <a:pt x="467" y="1946"/>
                    </a:lnTo>
                    <a:lnTo>
                      <a:pt x="500" y="1964"/>
                    </a:lnTo>
                    <a:lnTo>
                      <a:pt x="534" y="1980"/>
                    </a:lnTo>
                    <a:lnTo>
                      <a:pt x="569" y="1997"/>
                    </a:lnTo>
                    <a:lnTo>
                      <a:pt x="604" y="2012"/>
                    </a:lnTo>
                    <a:lnTo>
                      <a:pt x="642" y="2025"/>
                    </a:lnTo>
                    <a:lnTo>
                      <a:pt x="679" y="2036"/>
                    </a:lnTo>
                    <a:lnTo>
                      <a:pt x="718" y="2045"/>
                    </a:lnTo>
                    <a:lnTo>
                      <a:pt x="755" y="2052"/>
                    </a:lnTo>
                    <a:lnTo>
                      <a:pt x="794" y="2055"/>
                    </a:lnTo>
                    <a:lnTo>
                      <a:pt x="833" y="2057"/>
                    </a:lnTo>
                    <a:lnTo>
                      <a:pt x="873" y="2054"/>
                    </a:lnTo>
                    <a:lnTo>
                      <a:pt x="912" y="2049"/>
                    </a:lnTo>
                    <a:lnTo>
                      <a:pt x="952" y="2039"/>
                    </a:lnTo>
                    <a:lnTo>
                      <a:pt x="991" y="2025"/>
                    </a:lnTo>
                    <a:lnTo>
                      <a:pt x="1030" y="2007"/>
                    </a:lnTo>
                    <a:lnTo>
                      <a:pt x="1076" y="1973"/>
                    </a:lnTo>
                    <a:lnTo>
                      <a:pt x="1119" y="1939"/>
                    </a:lnTo>
                    <a:lnTo>
                      <a:pt x="1161" y="1901"/>
                    </a:lnTo>
                    <a:lnTo>
                      <a:pt x="1201" y="1861"/>
                    </a:lnTo>
                    <a:lnTo>
                      <a:pt x="1239" y="1821"/>
                    </a:lnTo>
                    <a:lnTo>
                      <a:pt x="1274" y="1777"/>
                    </a:lnTo>
                    <a:lnTo>
                      <a:pt x="1309" y="1734"/>
                    </a:lnTo>
                    <a:lnTo>
                      <a:pt x="1340" y="1688"/>
                    </a:lnTo>
                    <a:lnTo>
                      <a:pt x="1368" y="1640"/>
                    </a:lnTo>
                    <a:lnTo>
                      <a:pt x="1395" y="1591"/>
                    </a:lnTo>
                    <a:lnTo>
                      <a:pt x="1418" y="1540"/>
                    </a:lnTo>
                    <a:lnTo>
                      <a:pt x="1439" y="1488"/>
                    </a:lnTo>
                    <a:lnTo>
                      <a:pt x="1456" y="1434"/>
                    </a:lnTo>
                    <a:lnTo>
                      <a:pt x="1473" y="1380"/>
                    </a:lnTo>
                    <a:lnTo>
                      <a:pt x="1485" y="1324"/>
                    </a:lnTo>
                    <a:lnTo>
                      <a:pt x="1494" y="1265"/>
                    </a:lnTo>
                    <a:lnTo>
                      <a:pt x="1498" y="1197"/>
                    </a:lnTo>
                    <a:lnTo>
                      <a:pt x="1494" y="1130"/>
                    </a:lnTo>
                    <a:lnTo>
                      <a:pt x="1486" y="1067"/>
                    </a:lnTo>
                    <a:lnTo>
                      <a:pt x="1479" y="1003"/>
                    </a:lnTo>
                    <a:lnTo>
                      <a:pt x="1476" y="989"/>
                    </a:lnTo>
                    <a:lnTo>
                      <a:pt x="1468" y="980"/>
                    </a:lnTo>
                    <a:lnTo>
                      <a:pt x="1459" y="977"/>
                    </a:lnTo>
                    <a:lnTo>
                      <a:pt x="1449" y="979"/>
                    </a:lnTo>
                    <a:lnTo>
                      <a:pt x="1436" y="982"/>
                    </a:lnTo>
                    <a:lnTo>
                      <a:pt x="1422" y="986"/>
                    </a:lnTo>
                    <a:lnTo>
                      <a:pt x="1409" y="994"/>
                    </a:lnTo>
                    <a:lnTo>
                      <a:pt x="1395" y="1000"/>
                    </a:lnTo>
                    <a:lnTo>
                      <a:pt x="1391" y="1095"/>
                    </a:lnTo>
                    <a:lnTo>
                      <a:pt x="1382" y="1192"/>
                    </a:lnTo>
                    <a:lnTo>
                      <a:pt x="1365" y="1289"/>
                    </a:lnTo>
                    <a:lnTo>
                      <a:pt x="1345" y="1385"/>
                    </a:lnTo>
                    <a:lnTo>
                      <a:pt x="1315" y="1477"/>
                    </a:lnTo>
                    <a:lnTo>
                      <a:pt x="1279" y="1565"/>
                    </a:lnTo>
                    <a:lnTo>
                      <a:pt x="1236" y="1649"/>
                    </a:lnTo>
                    <a:lnTo>
                      <a:pt x="1185" y="1725"/>
                    </a:lnTo>
                    <a:lnTo>
                      <a:pt x="1161" y="1748"/>
                    </a:lnTo>
                    <a:lnTo>
                      <a:pt x="1134" y="1770"/>
                    </a:lnTo>
                    <a:lnTo>
                      <a:pt x="1107" y="1791"/>
                    </a:lnTo>
                    <a:lnTo>
                      <a:pt x="1077" y="1810"/>
                    </a:lnTo>
                    <a:lnTo>
                      <a:pt x="1046" y="1830"/>
                    </a:lnTo>
                    <a:lnTo>
                      <a:pt x="1013" y="1848"/>
                    </a:lnTo>
                    <a:lnTo>
                      <a:pt x="980" y="1864"/>
                    </a:lnTo>
                    <a:lnTo>
                      <a:pt x="946" y="1877"/>
                    </a:lnTo>
                    <a:lnTo>
                      <a:pt x="910" y="1889"/>
                    </a:lnTo>
                    <a:lnTo>
                      <a:pt x="873" y="1900"/>
                    </a:lnTo>
                    <a:lnTo>
                      <a:pt x="836" y="1907"/>
                    </a:lnTo>
                    <a:lnTo>
                      <a:pt x="798" y="1912"/>
                    </a:lnTo>
                    <a:lnTo>
                      <a:pt x="761" y="1913"/>
                    </a:lnTo>
                    <a:lnTo>
                      <a:pt x="722" y="1912"/>
                    </a:lnTo>
                    <a:lnTo>
                      <a:pt x="683" y="1907"/>
                    </a:lnTo>
                    <a:lnTo>
                      <a:pt x="645" y="1900"/>
                    </a:lnTo>
                    <a:lnTo>
                      <a:pt x="603" y="1885"/>
                    </a:lnTo>
                    <a:lnTo>
                      <a:pt x="563" y="1868"/>
                    </a:lnTo>
                    <a:lnTo>
                      <a:pt x="524" y="1848"/>
                    </a:lnTo>
                    <a:lnTo>
                      <a:pt x="488" y="1825"/>
                    </a:lnTo>
                    <a:lnTo>
                      <a:pt x="452" y="1801"/>
                    </a:lnTo>
                    <a:lnTo>
                      <a:pt x="419" y="1774"/>
                    </a:lnTo>
                    <a:lnTo>
                      <a:pt x="388" y="1746"/>
                    </a:lnTo>
                    <a:lnTo>
                      <a:pt x="358" y="1715"/>
                    </a:lnTo>
                    <a:lnTo>
                      <a:pt x="330" y="1682"/>
                    </a:lnTo>
                    <a:lnTo>
                      <a:pt x="303" y="1648"/>
                    </a:lnTo>
                    <a:lnTo>
                      <a:pt x="279" y="1612"/>
                    </a:lnTo>
                    <a:lnTo>
                      <a:pt x="257" y="1574"/>
                    </a:lnTo>
                    <a:lnTo>
                      <a:pt x="236" y="1536"/>
                    </a:lnTo>
                    <a:lnTo>
                      <a:pt x="216" y="1495"/>
                    </a:lnTo>
                    <a:lnTo>
                      <a:pt x="200" y="1454"/>
                    </a:lnTo>
                    <a:lnTo>
                      <a:pt x="185" y="1412"/>
                    </a:lnTo>
                    <a:lnTo>
                      <a:pt x="166" y="1337"/>
                    </a:lnTo>
                    <a:lnTo>
                      <a:pt x="148" y="1262"/>
                    </a:lnTo>
                    <a:lnTo>
                      <a:pt x="133" y="1186"/>
                    </a:lnTo>
                    <a:lnTo>
                      <a:pt x="121" y="1110"/>
                    </a:lnTo>
                    <a:lnTo>
                      <a:pt x="112" y="1034"/>
                    </a:lnTo>
                    <a:lnTo>
                      <a:pt x="107" y="958"/>
                    </a:lnTo>
                    <a:lnTo>
                      <a:pt x="106" y="882"/>
                    </a:lnTo>
                    <a:lnTo>
                      <a:pt x="110" y="807"/>
                    </a:lnTo>
                    <a:lnTo>
                      <a:pt x="119" y="734"/>
                    </a:lnTo>
                    <a:lnTo>
                      <a:pt x="134" y="662"/>
                    </a:lnTo>
                    <a:lnTo>
                      <a:pt x="155" y="592"/>
                    </a:lnTo>
                    <a:lnTo>
                      <a:pt x="181" y="525"/>
                    </a:lnTo>
                    <a:lnTo>
                      <a:pt x="215" y="459"/>
                    </a:lnTo>
                    <a:lnTo>
                      <a:pt x="255" y="398"/>
                    </a:lnTo>
                    <a:lnTo>
                      <a:pt x="303" y="338"/>
                    </a:lnTo>
                    <a:lnTo>
                      <a:pt x="358" y="283"/>
                    </a:lnTo>
                    <a:lnTo>
                      <a:pt x="388" y="264"/>
                    </a:lnTo>
                    <a:lnTo>
                      <a:pt x="419" y="243"/>
                    </a:lnTo>
                    <a:lnTo>
                      <a:pt x="452" y="224"/>
                    </a:lnTo>
                    <a:lnTo>
                      <a:pt x="484" y="204"/>
                    </a:lnTo>
                    <a:lnTo>
                      <a:pt x="518" y="185"/>
                    </a:lnTo>
                    <a:lnTo>
                      <a:pt x="551" y="167"/>
                    </a:lnTo>
                    <a:lnTo>
                      <a:pt x="585" y="150"/>
                    </a:lnTo>
                    <a:lnTo>
                      <a:pt x="621" y="135"/>
                    </a:lnTo>
                    <a:lnTo>
                      <a:pt x="655" y="124"/>
                    </a:lnTo>
                    <a:lnTo>
                      <a:pt x="691" y="115"/>
                    </a:lnTo>
                    <a:lnTo>
                      <a:pt x="727" y="107"/>
                    </a:lnTo>
                    <a:lnTo>
                      <a:pt x="763" y="104"/>
                    </a:lnTo>
                    <a:lnTo>
                      <a:pt x="798" y="104"/>
                    </a:lnTo>
                    <a:lnTo>
                      <a:pt x="834" y="109"/>
                    </a:lnTo>
                    <a:lnTo>
                      <a:pt x="870" y="118"/>
                    </a:lnTo>
                    <a:lnTo>
                      <a:pt x="906" y="131"/>
                    </a:lnTo>
                    <a:lnTo>
                      <a:pt x="955" y="156"/>
                    </a:lnTo>
                    <a:lnTo>
                      <a:pt x="1001" y="186"/>
                    </a:lnTo>
                    <a:lnTo>
                      <a:pt x="1042" y="218"/>
                    </a:lnTo>
                    <a:lnTo>
                      <a:pt x="1079" y="250"/>
                    </a:lnTo>
                    <a:lnTo>
                      <a:pt x="1113" y="286"/>
                    </a:lnTo>
                    <a:lnTo>
                      <a:pt x="1143" y="324"/>
                    </a:lnTo>
                    <a:lnTo>
                      <a:pt x="1170" y="364"/>
                    </a:lnTo>
                    <a:lnTo>
                      <a:pt x="1195" y="406"/>
                    </a:lnTo>
                    <a:lnTo>
                      <a:pt x="1218" y="449"/>
                    </a:lnTo>
                    <a:lnTo>
                      <a:pt x="1239" y="494"/>
                    </a:lnTo>
                    <a:lnTo>
                      <a:pt x="1258" y="540"/>
                    </a:lnTo>
                    <a:lnTo>
                      <a:pt x="1276" y="586"/>
                    </a:lnTo>
                    <a:lnTo>
                      <a:pt x="1292" y="634"/>
                    </a:lnTo>
                    <a:lnTo>
                      <a:pt x="1307" y="683"/>
                    </a:lnTo>
                    <a:lnTo>
                      <a:pt x="1324" y="733"/>
                    </a:lnTo>
                    <a:lnTo>
                      <a:pt x="1339" y="783"/>
                    </a:lnTo>
                    <a:lnTo>
                      <a:pt x="1431" y="755"/>
                    </a:lnTo>
                    <a:lnTo>
                      <a:pt x="1416" y="698"/>
                    </a:lnTo>
                    <a:lnTo>
                      <a:pt x="1400" y="641"/>
                    </a:lnTo>
                    <a:lnTo>
                      <a:pt x="1380" y="588"/>
                    </a:lnTo>
                    <a:lnTo>
                      <a:pt x="1358" y="536"/>
                    </a:lnTo>
                    <a:lnTo>
                      <a:pt x="1334" y="483"/>
                    </a:lnTo>
                    <a:lnTo>
                      <a:pt x="1307" y="434"/>
                    </a:lnTo>
                    <a:lnTo>
                      <a:pt x="1277" y="388"/>
                    </a:lnTo>
                    <a:lnTo>
                      <a:pt x="1248" y="341"/>
                    </a:lnTo>
                    <a:lnTo>
                      <a:pt x="1213" y="298"/>
                    </a:lnTo>
                    <a:lnTo>
                      <a:pt x="1177" y="256"/>
                    </a:lnTo>
                    <a:lnTo>
                      <a:pt x="1139" y="216"/>
                    </a:lnTo>
                    <a:lnTo>
                      <a:pt x="1098" y="177"/>
                    </a:lnTo>
                    <a:lnTo>
                      <a:pt x="1057" y="141"/>
                    </a:lnTo>
                    <a:lnTo>
                      <a:pt x="1012" y="107"/>
                    </a:lnTo>
                    <a:lnTo>
                      <a:pt x="964" y="76"/>
                    </a:lnTo>
                    <a:lnTo>
                      <a:pt x="915" y="46"/>
                    </a:lnTo>
                    <a:lnTo>
                      <a:pt x="876" y="31"/>
                    </a:lnTo>
                    <a:lnTo>
                      <a:pt x="836" y="21"/>
                    </a:lnTo>
                    <a:lnTo>
                      <a:pt x="795" y="12"/>
                    </a:lnTo>
                    <a:lnTo>
                      <a:pt x="754" y="4"/>
                    </a:lnTo>
                    <a:lnTo>
                      <a:pt x="713" y="1"/>
                    </a:lnTo>
                    <a:lnTo>
                      <a:pt x="673" y="0"/>
                    </a:lnTo>
                    <a:lnTo>
                      <a:pt x="633" y="1"/>
                    </a:lnTo>
                    <a:lnTo>
                      <a:pt x="594" y="6"/>
                    </a:lnTo>
                    <a:lnTo>
                      <a:pt x="555" y="12"/>
                    </a:lnTo>
                    <a:lnTo>
                      <a:pt x="518" y="22"/>
                    </a:lnTo>
                    <a:lnTo>
                      <a:pt x="481" y="32"/>
                    </a:lnTo>
                    <a:lnTo>
                      <a:pt x="446" y="47"/>
                    </a:lnTo>
                    <a:lnTo>
                      <a:pt x="412" y="64"/>
                    </a:lnTo>
                    <a:lnTo>
                      <a:pt x="381" y="83"/>
                    </a:lnTo>
                    <a:lnTo>
                      <a:pt x="351" y="106"/>
                    </a:lnTo>
                    <a:lnTo>
                      <a:pt x="322" y="130"/>
                    </a:lnTo>
                    <a:lnTo>
                      <a:pt x="295" y="161"/>
                    </a:lnTo>
                    <a:lnTo>
                      <a:pt x="267" y="192"/>
                    </a:lnTo>
                    <a:lnTo>
                      <a:pt x="242" y="224"/>
                    </a:lnTo>
                    <a:lnTo>
                      <a:pt x="215" y="256"/>
                    </a:lnTo>
                    <a:lnTo>
                      <a:pt x="190" y="289"/>
                    </a:lnTo>
                    <a:lnTo>
                      <a:pt x="166" y="322"/>
                    </a:lnTo>
                    <a:lnTo>
                      <a:pt x="143" y="356"/>
                    </a:lnTo>
                    <a:lnTo>
                      <a:pt x="122" y="391"/>
                    </a:lnTo>
                    <a:lnTo>
                      <a:pt x="101" y="427"/>
                    </a:lnTo>
                    <a:lnTo>
                      <a:pt x="84" y="464"/>
                    </a:lnTo>
                    <a:lnTo>
                      <a:pt x="66" y="501"/>
                    </a:lnTo>
                    <a:lnTo>
                      <a:pt x="52" y="540"/>
                    </a:lnTo>
                    <a:lnTo>
                      <a:pt x="39" y="580"/>
                    </a:lnTo>
                    <a:lnTo>
                      <a:pt x="28" y="622"/>
                    </a:lnTo>
                    <a:lnTo>
                      <a:pt x="21" y="664"/>
                    </a:lnTo>
                    <a:lnTo>
                      <a:pt x="15" y="709"/>
                    </a:lnTo>
                    <a:lnTo>
                      <a:pt x="13" y="801"/>
                    </a:lnTo>
                    <a:lnTo>
                      <a:pt x="15" y="889"/>
                    </a:lnTo>
                    <a:lnTo>
                      <a:pt x="12" y="976"/>
                    </a:lnTo>
                    <a:lnTo>
                      <a:pt x="0" y="10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78600" y="5402160"/>
                <a:ext cx="165960" cy="124200"/>
              </a:xfrm>
              <a:custGeom>
                <a:avLst/>
                <a:gdLst/>
                <a:ahLst/>
                <a:rect l="l" t="t" r="r" b="b"/>
                <a:pathLst>
                  <a:path w="416" h="277">
                    <a:moveTo>
                      <a:pt x="0" y="20"/>
                    </a:moveTo>
                    <a:lnTo>
                      <a:pt x="55" y="277"/>
                    </a:lnTo>
                    <a:lnTo>
                      <a:pt x="412" y="97"/>
                    </a:lnTo>
                    <a:lnTo>
                      <a:pt x="416" y="83"/>
                    </a:lnTo>
                    <a:lnTo>
                      <a:pt x="413" y="66"/>
                    </a:lnTo>
                    <a:lnTo>
                      <a:pt x="406" y="51"/>
                    </a:lnTo>
                    <a:lnTo>
                      <a:pt x="393" y="41"/>
                    </a:lnTo>
                    <a:lnTo>
                      <a:pt x="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77520" y="5270400"/>
                <a:ext cx="173160" cy="116280"/>
              </a:xfrm>
              <a:custGeom>
                <a:avLst/>
                <a:gdLst/>
                <a:ahLst/>
                <a:rect l="l" t="t" r="r" b="b"/>
                <a:pathLst>
                  <a:path w="434" h="258">
                    <a:moveTo>
                      <a:pt x="0" y="136"/>
                    </a:moveTo>
                    <a:lnTo>
                      <a:pt x="1" y="148"/>
                    </a:lnTo>
                    <a:lnTo>
                      <a:pt x="3" y="160"/>
                    </a:lnTo>
                    <a:lnTo>
                      <a:pt x="4" y="172"/>
                    </a:lnTo>
                    <a:lnTo>
                      <a:pt x="6" y="186"/>
                    </a:lnTo>
                    <a:lnTo>
                      <a:pt x="434" y="258"/>
                    </a:lnTo>
                    <a:lnTo>
                      <a:pt x="38" y="0"/>
                    </a:lnTo>
                    <a:lnTo>
                      <a:pt x="22" y="25"/>
                    </a:lnTo>
                    <a:lnTo>
                      <a:pt x="15" y="60"/>
                    </a:lnTo>
                    <a:lnTo>
                      <a:pt x="10" y="9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9560" y="54842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373" h="419">
                    <a:moveTo>
                      <a:pt x="0" y="198"/>
                    </a:moveTo>
                    <a:lnTo>
                      <a:pt x="67" y="401"/>
                    </a:lnTo>
                    <a:lnTo>
                      <a:pt x="69" y="403"/>
                    </a:lnTo>
                    <a:lnTo>
                      <a:pt x="75" y="407"/>
                    </a:lnTo>
                    <a:lnTo>
                      <a:pt x="82" y="413"/>
                    </a:lnTo>
                    <a:lnTo>
                      <a:pt x="94" y="419"/>
                    </a:lnTo>
                    <a:lnTo>
                      <a:pt x="373" y="50"/>
                    </a:lnTo>
                    <a:lnTo>
                      <a:pt x="372" y="38"/>
                    </a:lnTo>
                    <a:lnTo>
                      <a:pt x="370" y="26"/>
                    </a:lnTo>
                    <a:lnTo>
                      <a:pt x="367" y="15"/>
                    </a:lnTo>
                    <a:lnTo>
                      <a:pt x="366" y="0"/>
                    </a:lnTo>
                    <a:lnTo>
                      <a:pt x="3" y="18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05600" y="5154120"/>
                <a:ext cx="164880" cy="199440"/>
              </a:xfrm>
              <a:custGeom>
                <a:avLst/>
                <a:gdLst/>
                <a:ahLst/>
                <a:rect l="l" t="t" r="r" b="b"/>
                <a:pathLst>
                  <a:path w="415" h="442">
                    <a:moveTo>
                      <a:pt x="9" y="192"/>
                    </a:moveTo>
                    <a:lnTo>
                      <a:pt x="415" y="442"/>
                    </a:lnTo>
                    <a:lnTo>
                      <a:pt x="118" y="0"/>
                    </a:lnTo>
                    <a:lnTo>
                      <a:pt x="95" y="13"/>
                    </a:lnTo>
                    <a:lnTo>
                      <a:pt x="76" y="31"/>
                    </a:lnTo>
                    <a:lnTo>
                      <a:pt x="58" y="50"/>
                    </a:lnTo>
                    <a:lnTo>
                      <a:pt x="43" y="73"/>
                    </a:lnTo>
                    <a:lnTo>
                      <a:pt x="30" y="97"/>
                    </a:lnTo>
                    <a:lnTo>
                      <a:pt x="19" y="121"/>
                    </a:lnTo>
                    <a:lnTo>
                      <a:pt x="9" y="144"/>
                    </a:lnTo>
                    <a:lnTo>
                      <a:pt x="0" y="167"/>
                    </a:lnTo>
                    <a:lnTo>
                      <a:pt x="9" y="192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64640" y="5552640"/>
                <a:ext cx="106920" cy="205560"/>
              </a:xfrm>
              <a:custGeom>
                <a:avLst/>
                <a:gdLst/>
                <a:ahLst/>
                <a:rect l="l" t="t" r="r" b="b"/>
                <a:pathLst>
                  <a:path w="268" h="455">
                    <a:moveTo>
                      <a:pt x="1" y="349"/>
                    </a:moveTo>
                    <a:lnTo>
                      <a:pt x="102" y="455"/>
                    </a:lnTo>
                    <a:lnTo>
                      <a:pt x="268" y="0"/>
                    </a:lnTo>
                    <a:lnTo>
                      <a:pt x="0" y="337"/>
                    </a:lnTo>
                    <a:lnTo>
                      <a:pt x="1" y="349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77600" y="5065560"/>
                <a:ext cx="124560" cy="264240"/>
              </a:xfrm>
              <a:custGeom>
                <a:avLst/>
                <a:gdLst/>
                <a:ahLst/>
                <a:rect l="l" t="t" r="r" b="b"/>
                <a:pathLst>
                  <a:path w="312" h="585">
                    <a:moveTo>
                      <a:pt x="0" y="137"/>
                    </a:moveTo>
                    <a:lnTo>
                      <a:pt x="312" y="585"/>
                    </a:lnTo>
                    <a:lnTo>
                      <a:pt x="267" y="0"/>
                    </a:lnTo>
                    <a:lnTo>
                      <a:pt x="2" y="111"/>
                    </a:lnTo>
                    <a:lnTo>
                      <a:pt x="3" y="117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42400" y="5551200"/>
                <a:ext cx="86760" cy="248760"/>
              </a:xfrm>
              <a:custGeom>
                <a:avLst/>
                <a:gdLst/>
                <a:ahLst/>
                <a:rect l="l" t="t" r="r" b="b"/>
                <a:pathLst>
                  <a:path w="219" h="551">
                    <a:moveTo>
                      <a:pt x="0" y="491"/>
                    </a:moveTo>
                    <a:lnTo>
                      <a:pt x="5" y="511"/>
                    </a:lnTo>
                    <a:lnTo>
                      <a:pt x="219" y="551"/>
                    </a:lnTo>
                    <a:lnTo>
                      <a:pt x="168" y="0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72640" y="5369760"/>
                <a:ext cx="99000" cy="13680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0" y="143"/>
                    </a:moveTo>
                    <a:lnTo>
                      <a:pt x="26" y="227"/>
                    </a:lnTo>
                    <a:lnTo>
                      <a:pt x="86" y="289"/>
                    </a:lnTo>
                    <a:lnTo>
                      <a:pt x="97" y="298"/>
                    </a:lnTo>
                    <a:lnTo>
                      <a:pt x="110" y="301"/>
                    </a:lnTo>
                    <a:lnTo>
                      <a:pt x="123" y="303"/>
                    </a:lnTo>
                    <a:lnTo>
                      <a:pt x="138" y="300"/>
                    </a:lnTo>
                    <a:lnTo>
                      <a:pt x="153" y="295"/>
                    </a:lnTo>
                    <a:lnTo>
                      <a:pt x="167" y="289"/>
                    </a:lnTo>
                    <a:lnTo>
                      <a:pt x="180" y="282"/>
                    </a:lnTo>
                    <a:lnTo>
                      <a:pt x="191" y="274"/>
                    </a:lnTo>
                    <a:lnTo>
                      <a:pt x="203" y="258"/>
                    </a:lnTo>
                    <a:lnTo>
                      <a:pt x="213" y="242"/>
                    </a:lnTo>
                    <a:lnTo>
                      <a:pt x="222" y="228"/>
                    </a:lnTo>
                    <a:lnTo>
                      <a:pt x="229" y="215"/>
                    </a:lnTo>
                    <a:lnTo>
                      <a:pt x="235" y="203"/>
                    </a:lnTo>
                    <a:lnTo>
                      <a:pt x="241" y="191"/>
                    </a:lnTo>
                    <a:lnTo>
                      <a:pt x="246" y="179"/>
                    </a:lnTo>
                    <a:lnTo>
                      <a:pt x="249" y="168"/>
                    </a:lnTo>
                    <a:lnTo>
                      <a:pt x="237" y="160"/>
                    </a:lnTo>
                    <a:lnTo>
                      <a:pt x="225" y="158"/>
                    </a:lnTo>
                    <a:lnTo>
                      <a:pt x="209" y="161"/>
                    </a:lnTo>
                    <a:lnTo>
                      <a:pt x="194" y="167"/>
                    </a:lnTo>
                    <a:lnTo>
                      <a:pt x="176" y="173"/>
                    </a:lnTo>
                    <a:lnTo>
                      <a:pt x="159" y="179"/>
                    </a:lnTo>
                    <a:lnTo>
                      <a:pt x="141" y="183"/>
                    </a:lnTo>
                    <a:lnTo>
                      <a:pt x="125" y="182"/>
                    </a:lnTo>
                    <a:lnTo>
                      <a:pt x="116" y="177"/>
                    </a:lnTo>
                    <a:lnTo>
                      <a:pt x="107" y="171"/>
                    </a:lnTo>
                    <a:lnTo>
                      <a:pt x="97" y="163"/>
                    </a:lnTo>
                    <a:lnTo>
                      <a:pt x="89" y="149"/>
                    </a:lnTo>
                    <a:lnTo>
                      <a:pt x="95" y="133"/>
                    </a:lnTo>
                    <a:lnTo>
                      <a:pt x="106" y="121"/>
                    </a:lnTo>
                    <a:lnTo>
                      <a:pt x="120" y="112"/>
                    </a:lnTo>
                    <a:lnTo>
                      <a:pt x="138" y="104"/>
                    </a:lnTo>
                    <a:lnTo>
                      <a:pt x="158" y="100"/>
                    </a:lnTo>
                    <a:lnTo>
                      <a:pt x="179" y="94"/>
                    </a:lnTo>
                    <a:lnTo>
                      <a:pt x="198" y="86"/>
                    </a:lnTo>
                    <a:lnTo>
                      <a:pt x="216" y="77"/>
                    </a:lnTo>
                    <a:lnTo>
                      <a:pt x="198" y="15"/>
                    </a:lnTo>
                    <a:lnTo>
                      <a:pt x="182" y="7"/>
                    </a:lnTo>
                    <a:lnTo>
                      <a:pt x="165" y="1"/>
                    </a:lnTo>
                    <a:lnTo>
                      <a:pt x="147" y="0"/>
                    </a:lnTo>
                    <a:lnTo>
                      <a:pt x="129" y="1"/>
                    </a:lnTo>
                    <a:lnTo>
                      <a:pt x="110" y="4"/>
                    </a:lnTo>
                    <a:lnTo>
                      <a:pt x="92" y="10"/>
                    </a:lnTo>
                    <a:lnTo>
                      <a:pt x="74" y="18"/>
                    </a:lnTo>
                    <a:lnTo>
                      <a:pt x="58" y="25"/>
                    </a:lnTo>
                    <a:lnTo>
                      <a:pt x="46" y="34"/>
                    </a:lnTo>
                    <a:lnTo>
                      <a:pt x="35" y="46"/>
                    </a:lnTo>
                    <a:lnTo>
                      <a:pt x="26" y="60"/>
                    </a:lnTo>
                    <a:lnTo>
                      <a:pt x="19" y="74"/>
                    </a:lnTo>
                    <a:lnTo>
                      <a:pt x="13" y="91"/>
                    </a:lnTo>
                    <a:lnTo>
                      <a:pt x="9" y="109"/>
                    </a:lnTo>
                    <a:lnTo>
                      <a:pt x="4" y="12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34200" y="5546520"/>
                <a:ext cx="100440" cy="239760"/>
              </a:xfrm>
              <a:custGeom>
                <a:avLst/>
                <a:gdLst/>
                <a:ahLst/>
                <a:rect l="l" t="t" r="r" b="b"/>
                <a:pathLst>
                  <a:path w="253" h="533">
                    <a:moveTo>
                      <a:pt x="0" y="34"/>
                    </a:moveTo>
                    <a:lnTo>
                      <a:pt x="72" y="504"/>
                    </a:lnTo>
                    <a:lnTo>
                      <a:pt x="75" y="513"/>
                    </a:lnTo>
                    <a:lnTo>
                      <a:pt x="81" y="522"/>
                    </a:lnTo>
                    <a:lnTo>
                      <a:pt x="90" y="527"/>
                    </a:lnTo>
                    <a:lnTo>
                      <a:pt x="100" y="531"/>
                    </a:lnTo>
                    <a:lnTo>
                      <a:pt x="111" y="533"/>
                    </a:lnTo>
                    <a:lnTo>
                      <a:pt x="123" y="531"/>
                    </a:lnTo>
                    <a:lnTo>
                      <a:pt x="135" y="528"/>
                    </a:lnTo>
                    <a:lnTo>
                      <a:pt x="147" y="524"/>
                    </a:lnTo>
                    <a:lnTo>
                      <a:pt x="161" y="512"/>
                    </a:lnTo>
                    <a:lnTo>
                      <a:pt x="178" y="501"/>
                    </a:lnTo>
                    <a:lnTo>
                      <a:pt x="193" y="492"/>
                    </a:lnTo>
                    <a:lnTo>
                      <a:pt x="206" y="482"/>
                    </a:lnTo>
                    <a:lnTo>
                      <a:pt x="220" y="473"/>
                    </a:lnTo>
                    <a:lnTo>
                      <a:pt x="232" y="464"/>
                    </a:lnTo>
                    <a:lnTo>
                      <a:pt x="244" y="457"/>
                    </a:lnTo>
                    <a:lnTo>
                      <a:pt x="253" y="448"/>
                    </a:lnTo>
                    <a:lnTo>
                      <a:pt x="33" y="0"/>
                    </a:lnTo>
                    <a:lnTo>
                      <a:pt x="21" y="1"/>
                    </a:lnTo>
                    <a:lnTo>
                      <a:pt x="9" y="7"/>
                    </a:lnTo>
                    <a:lnTo>
                      <a:pt x="0" y="1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10800" y="5054040"/>
                <a:ext cx="72360" cy="271440"/>
              </a:xfrm>
              <a:custGeom>
                <a:avLst/>
                <a:gdLst/>
                <a:ahLst/>
                <a:rect l="l" t="t" r="r" b="b"/>
                <a:pathLst>
                  <a:path w="182" h="603">
                    <a:moveTo>
                      <a:pt x="0" y="126"/>
                    </a:moveTo>
                    <a:lnTo>
                      <a:pt x="64" y="603"/>
                    </a:lnTo>
                    <a:lnTo>
                      <a:pt x="182" y="51"/>
                    </a:lnTo>
                    <a:lnTo>
                      <a:pt x="169" y="38"/>
                    </a:lnTo>
                    <a:lnTo>
                      <a:pt x="152" y="26"/>
                    </a:lnTo>
                    <a:lnTo>
                      <a:pt x="133" y="15"/>
                    </a:lnTo>
                    <a:lnTo>
                      <a:pt x="112" y="8"/>
                    </a:lnTo>
                    <a:lnTo>
                      <a:pt x="90" y="3"/>
                    </a:lnTo>
                    <a:lnTo>
                      <a:pt x="67" y="0"/>
                    </a:lnTo>
                    <a:lnTo>
                      <a:pt x="45" y="2"/>
                    </a:lnTo>
                    <a:lnTo>
                      <a:pt x="23" y="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72360" y="5510520"/>
                <a:ext cx="138960" cy="20736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6"/>
                    </a:moveTo>
                    <a:lnTo>
                      <a:pt x="230" y="460"/>
                    </a:lnTo>
                    <a:lnTo>
                      <a:pt x="348" y="241"/>
                    </a:lnTo>
                    <a:lnTo>
                      <a:pt x="342" y="217"/>
                    </a:lnTo>
                    <a:lnTo>
                      <a:pt x="333" y="194"/>
                    </a:lnTo>
                    <a:lnTo>
                      <a:pt x="320" y="173"/>
                    </a:lnTo>
                    <a:lnTo>
                      <a:pt x="306" y="156"/>
                    </a:lnTo>
                    <a:lnTo>
                      <a:pt x="290" y="139"/>
                    </a:lnTo>
                    <a:lnTo>
                      <a:pt x="272" y="124"/>
                    </a:lnTo>
                    <a:lnTo>
                      <a:pt x="251" y="111"/>
                    </a:lnTo>
                    <a:lnTo>
                      <a:pt x="230" y="97"/>
                    </a:lnTo>
                    <a:lnTo>
                      <a:pt x="209" y="85"/>
                    </a:lnTo>
                    <a:lnTo>
                      <a:pt x="185" y="73"/>
                    </a:lnTo>
                    <a:lnTo>
                      <a:pt x="163" y="63"/>
                    </a:lnTo>
                    <a:lnTo>
                      <a:pt x="141" y="53"/>
                    </a:lnTo>
                    <a:lnTo>
                      <a:pt x="117" y="41"/>
                    </a:lnTo>
                    <a:lnTo>
                      <a:pt x="94" y="30"/>
                    </a:lnTo>
                    <a:lnTo>
                      <a:pt x="73" y="18"/>
                    </a:lnTo>
                    <a:lnTo>
                      <a:pt x="53" y="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6" y="5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68400" y="5108040"/>
                <a:ext cx="105120" cy="246240"/>
              </a:xfrm>
              <a:custGeom>
                <a:avLst/>
                <a:gdLst/>
                <a:ahLst/>
                <a:rect l="l" t="t" r="r" b="b"/>
                <a:pathLst>
                  <a:path w="264" h="546">
                    <a:moveTo>
                      <a:pt x="0" y="503"/>
                    </a:moveTo>
                    <a:lnTo>
                      <a:pt x="0" y="514"/>
                    </a:lnTo>
                    <a:lnTo>
                      <a:pt x="1" y="524"/>
                    </a:lnTo>
                    <a:lnTo>
                      <a:pt x="3" y="536"/>
                    </a:lnTo>
                    <a:lnTo>
                      <a:pt x="10" y="546"/>
                    </a:lnTo>
                    <a:lnTo>
                      <a:pt x="264" y="191"/>
                    </a:lnTo>
                    <a:lnTo>
                      <a:pt x="118" y="0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93240" y="5248080"/>
                <a:ext cx="117360" cy="145080"/>
              </a:xfrm>
              <a:custGeom>
                <a:avLst/>
                <a:gdLst/>
                <a:ahLst/>
                <a:rect l="l" t="t" r="r" b="b"/>
                <a:pathLst>
                  <a:path w="294" h="323">
                    <a:moveTo>
                      <a:pt x="1" y="311"/>
                    </a:moveTo>
                    <a:lnTo>
                      <a:pt x="10" y="323"/>
                    </a:lnTo>
                    <a:lnTo>
                      <a:pt x="188" y="236"/>
                    </a:lnTo>
                    <a:lnTo>
                      <a:pt x="277" y="214"/>
                    </a:lnTo>
                    <a:lnTo>
                      <a:pt x="280" y="209"/>
                    </a:lnTo>
                    <a:lnTo>
                      <a:pt x="285" y="203"/>
                    </a:lnTo>
                    <a:lnTo>
                      <a:pt x="289" y="197"/>
                    </a:lnTo>
                    <a:lnTo>
                      <a:pt x="294" y="191"/>
                    </a:lnTo>
                    <a:lnTo>
                      <a:pt x="246" y="0"/>
                    </a:lnTo>
                    <a:lnTo>
                      <a:pt x="0" y="299"/>
                    </a:lnTo>
                    <a:lnTo>
                      <a:pt x="1" y="311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8360" y="5428440"/>
                <a:ext cx="129240" cy="23040"/>
              </a:xfrm>
              <a:custGeom>
                <a:avLst/>
                <a:gdLst/>
                <a:ahLst/>
                <a:rect l="l" t="t" r="r" b="b"/>
                <a:pathLst>
                  <a:path w="324" h="52">
                    <a:moveTo>
                      <a:pt x="13" y="20"/>
                    </a:moveTo>
                    <a:lnTo>
                      <a:pt x="316" y="52"/>
                    </a:lnTo>
                    <a:lnTo>
                      <a:pt x="324" y="40"/>
                    </a:lnTo>
                    <a:lnTo>
                      <a:pt x="322" y="29"/>
                    </a:lnTo>
                    <a:lnTo>
                      <a:pt x="318" y="15"/>
                    </a:lnTo>
                    <a:lnTo>
                      <a:pt x="312" y="0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3040" y="5480640"/>
                <a:ext cx="118800" cy="76320"/>
              </a:xfrm>
              <a:custGeom>
                <a:avLst/>
                <a:gdLst/>
                <a:ahLst/>
                <a:rect l="l" t="t" r="r" b="b"/>
                <a:pathLst>
                  <a:path w="298" h="170">
                    <a:moveTo>
                      <a:pt x="13" y="13"/>
                    </a:moveTo>
                    <a:lnTo>
                      <a:pt x="271" y="170"/>
                    </a:lnTo>
                    <a:lnTo>
                      <a:pt x="285" y="138"/>
                    </a:lnTo>
                    <a:lnTo>
                      <a:pt x="295" y="101"/>
                    </a:lnTo>
                    <a:lnTo>
                      <a:pt x="298" y="62"/>
                    </a:lnTo>
                    <a:lnTo>
                      <a:pt x="291" y="24"/>
                    </a:lnTo>
                    <a:lnTo>
                      <a:pt x="0" y="0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1840" y="532476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547" h="203">
                    <a:moveTo>
                      <a:pt x="21" y="203"/>
                    </a:moveTo>
                    <a:lnTo>
                      <a:pt x="547" y="79"/>
                    </a:lnTo>
                    <a:lnTo>
                      <a:pt x="547" y="64"/>
                    </a:lnTo>
                    <a:lnTo>
                      <a:pt x="538" y="40"/>
                    </a:lnTo>
                    <a:lnTo>
                      <a:pt x="526" y="16"/>
                    </a:lnTo>
                    <a:lnTo>
                      <a:pt x="517" y="0"/>
                    </a:lnTo>
                    <a:lnTo>
                      <a:pt x="0" y="134"/>
                    </a:lnTo>
                    <a:lnTo>
                      <a:pt x="21" y="203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71880" y="5251680"/>
                <a:ext cx="350640" cy="96120"/>
              </a:xfrm>
              <a:custGeom>
                <a:avLst/>
                <a:gdLst/>
                <a:ahLst/>
                <a:rect l="l" t="t" r="r" b="b"/>
                <a:pathLst>
                  <a:path w="877" h="214">
                    <a:moveTo>
                      <a:pt x="25" y="214"/>
                    </a:moveTo>
                    <a:lnTo>
                      <a:pt x="877" y="49"/>
                    </a:lnTo>
                    <a:lnTo>
                      <a:pt x="831" y="0"/>
                    </a:lnTo>
                    <a:lnTo>
                      <a:pt x="1" y="154"/>
                    </a:lnTo>
                    <a:lnTo>
                      <a:pt x="0" y="166"/>
                    </a:lnTo>
                    <a:lnTo>
                      <a:pt x="7" y="184"/>
                    </a:lnTo>
                    <a:lnTo>
                      <a:pt x="18" y="202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90760" y="5300280"/>
                <a:ext cx="141120" cy="97200"/>
              </a:xfrm>
              <a:custGeom>
                <a:avLst/>
                <a:gdLst/>
                <a:ahLst/>
                <a:rect l="l" t="t" r="r" b="b"/>
                <a:pathLst>
                  <a:path w="353" h="216">
                    <a:moveTo>
                      <a:pt x="1" y="71"/>
                    </a:moveTo>
                    <a:lnTo>
                      <a:pt x="16" y="86"/>
                    </a:lnTo>
                    <a:lnTo>
                      <a:pt x="29" y="100"/>
                    </a:lnTo>
                    <a:lnTo>
                      <a:pt x="44" y="113"/>
                    </a:lnTo>
                    <a:lnTo>
                      <a:pt x="59" y="126"/>
                    </a:lnTo>
                    <a:lnTo>
                      <a:pt x="74" y="137"/>
                    </a:lnTo>
                    <a:lnTo>
                      <a:pt x="91" y="149"/>
                    </a:lnTo>
                    <a:lnTo>
                      <a:pt x="107" y="159"/>
                    </a:lnTo>
                    <a:lnTo>
                      <a:pt x="123" y="168"/>
                    </a:lnTo>
                    <a:lnTo>
                      <a:pt x="140" y="177"/>
                    </a:lnTo>
                    <a:lnTo>
                      <a:pt x="158" y="185"/>
                    </a:lnTo>
                    <a:lnTo>
                      <a:pt x="177" y="192"/>
                    </a:lnTo>
                    <a:lnTo>
                      <a:pt x="195" y="198"/>
                    </a:lnTo>
                    <a:lnTo>
                      <a:pt x="216" y="204"/>
                    </a:lnTo>
                    <a:lnTo>
                      <a:pt x="237" y="209"/>
                    </a:lnTo>
                    <a:lnTo>
                      <a:pt x="258" y="213"/>
                    </a:lnTo>
                    <a:lnTo>
                      <a:pt x="280" y="216"/>
                    </a:lnTo>
                    <a:lnTo>
                      <a:pt x="298" y="209"/>
                    </a:lnTo>
                    <a:lnTo>
                      <a:pt x="313" y="197"/>
                    </a:lnTo>
                    <a:lnTo>
                      <a:pt x="325" y="182"/>
                    </a:lnTo>
                    <a:lnTo>
                      <a:pt x="335" y="165"/>
                    </a:lnTo>
                    <a:lnTo>
                      <a:pt x="343" y="147"/>
                    </a:lnTo>
                    <a:lnTo>
                      <a:pt x="349" y="126"/>
                    </a:lnTo>
                    <a:lnTo>
                      <a:pt x="352" y="106"/>
                    </a:lnTo>
                    <a:lnTo>
                      <a:pt x="353" y="85"/>
                    </a:lnTo>
                    <a:lnTo>
                      <a:pt x="350" y="56"/>
                    </a:lnTo>
                    <a:lnTo>
                      <a:pt x="346" y="32"/>
                    </a:lnTo>
                    <a:lnTo>
                      <a:pt x="340" y="13"/>
                    </a:lnTo>
                    <a:lnTo>
                      <a:pt x="325" y="0"/>
                    </a:lnTo>
                    <a:lnTo>
                      <a:pt x="0" y="55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95800" y="5144040"/>
                <a:ext cx="150120" cy="111600"/>
              </a:xfrm>
              <a:custGeom>
                <a:avLst/>
                <a:gdLst/>
                <a:ahLst/>
                <a:rect l="l" t="t" r="r" b="b"/>
                <a:pathLst>
                  <a:path w="375" h="250">
                    <a:moveTo>
                      <a:pt x="9" y="250"/>
                    </a:moveTo>
                    <a:lnTo>
                      <a:pt x="297" y="205"/>
                    </a:lnTo>
                    <a:lnTo>
                      <a:pt x="375" y="2"/>
                    </a:lnTo>
                    <a:lnTo>
                      <a:pt x="351" y="0"/>
                    </a:lnTo>
                    <a:lnTo>
                      <a:pt x="329" y="2"/>
                    </a:lnTo>
                    <a:lnTo>
                      <a:pt x="305" y="6"/>
                    </a:lnTo>
                    <a:lnTo>
                      <a:pt x="283" y="12"/>
                    </a:lnTo>
                    <a:lnTo>
                      <a:pt x="260" y="21"/>
                    </a:lnTo>
                    <a:lnTo>
                      <a:pt x="238" y="33"/>
                    </a:lnTo>
                    <a:lnTo>
                      <a:pt x="217" y="45"/>
                    </a:lnTo>
                    <a:lnTo>
                      <a:pt x="196" y="58"/>
                    </a:lnTo>
                    <a:lnTo>
                      <a:pt x="175" y="73"/>
                    </a:lnTo>
                    <a:lnTo>
                      <a:pt x="156" y="90"/>
                    </a:lnTo>
                    <a:lnTo>
                      <a:pt x="136" y="106"/>
                    </a:lnTo>
                    <a:lnTo>
                      <a:pt x="117" y="123"/>
                    </a:lnTo>
                    <a:lnTo>
                      <a:pt x="99" y="138"/>
                    </a:lnTo>
                    <a:lnTo>
                      <a:pt x="81" y="154"/>
                    </a:lnTo>
                    <a:lnTo>
                      <a:pt x="63" y="169"/>
                    </a:lnTo>
                    <a:lnTo>
                      <a:pt x="47" y="182"/>
                    </a:lnTo>
                    <a:lnTo>
                      <a:pt x="38" y="194"/>
                    </a:lnTo>
                    <a:lnTo>
                      <a:pt x="30" y="203"/>
                    </a:lnTo>
                    <a:lnTo>
                      <a:pt x="24" y="211"/>
                    </a:lnTo>
                    <a:lnTo>
                      <a:pt x="18" y="218"/>
                    </a:lnTo>
                    <a:lnTo>
                      <a:pt x="14" y="224"/>
                    </a:lnTo>
                    <a:lnTo>
                      <a:pt x="9" y="230"/>
                    </a:lnTo>
                    <a:lnTo>
                      <a:pt x="5" y="236"/>
                    </a:lnTo>
                    <a:lnTo>
                      <a:pt x="0" y="245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40120" y="4800600"/>
                <a:ext cx="60840" cy="284040"/>
              </a:xfrm>
              <a:custGeom>
                <a:avLst/>
                <a:gdLst/>
                <a:ahLst/>
                <a:rect l="l" t="t" r="r" b="b"/>
                <a:pathLst>
                  <a:path w="152" h="630">
                    <a:moveTo>
                      <a:pt x="80" y="630"/>
                    </a:moveTo>
                    <a:lnTo>
                      <a:pt x="0" y="0"/>
                    </a:lnTo>
                    <a:lnTo>
                      <a:pt x="152" y="0"/>
                    </a:lnTo>
                    <a:lnTo>
                      <a:pt x="80" y="6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46320" y="4819320"/>
                <a:ext cx="138600" cy="311400"/>
              </a:xfrm>
              <a:custGeom>
                <a:avLst/>
                <a:gdLst/>
                <a:ahLst/>
                <a:rect l="l" t="t" r="r" b="b"/>
                <a:pathLst>
                  <a:path w="349" h="689">
                    <a:moveTo>
                      <a:pt x="0" y="689"/>
                    </a:moveTo>
                    <a:lnTo>
                      <a:pt x="206" y="0"/>
                    </a:lnTo>
                    <a:lnTo>
                      <a:pt x="349" y="51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79080" y="5005080"/>
                <a:ext cx="245880" cy="194760"/>
              </a:xfrm>
              <a:custGeom>
                <a:avLst/>
                <a:gdLst/>
                <a:ahLst/>
                <a:rect l="l" t="t" r="r" b="b"/>
                <a:pathLst>
                  <a:path w="617" h="433">
                    <a:moveTo>
                      <a:pt x="0" y="433"/>
                    </a:moveTo>
                    <a:lnTo>
                      <a:pt x="606" y="0"/>
                    </a:lnTo>
                    <a:lnTo>
                      <a:pt x="617" y="155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1219320" y="2438280"/>
            <a:ext cx="2743200" cy="1295640"/>
            <a:chOff x="1219320" y="2438280"/>
            <a:chExt cx="2743200" cy="1295640"/>
          </a:xfrm>
        </p:grpSpPr>
        <p:sp>
          <p:nvSpPr>
            <p:cNvPr id="244" name=""/>
            <p:cNvSpPr/>
            <p:nvPr/>
          </p:nvSpPr>
          <p:spPr>
            <a:xfrm>
              <a:off x="1219320" y="2438280"/>
              <a:ext cx="2743200" cy="129564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1676520" y="2438280"/>
              <a:ext cx="1523880" cy="12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029200" y="2438280"/>
            <a:ext cx="2743200" cy="1295640"/>
            <a:chOff x="5029200" y="2438280"/>
            <a:chExt cx="2743200" cy="1295640"/>
          </a:xfrm>
        </p:grpSpPr>
        <p:sp>
          <p:nvSpPr>
            <p:cNvPr id="247" name=""/>
            <p:cNvSpPr/>
            <p:nvPr/>
          </p:nvSpPr>
          <p:spPr>
            <a:xfrm>
              <a:off x="5029200" y="2438280"/>
              <a:ext cx="2743200" cy="129564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257800" y="2743200"/>
              <a:ext cx="236232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 rot="20175600">
            <a:off x="838080" y="2209320"/>
            <a:ext cx="1752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0212200">
            <a:off x="4648320" y="4343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0399400">
            <a:off x="4191120" y="2133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0094000">
            <a:off x="609480" y="4343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6095880" y="609480"/>
            <a:ext cx="1981080" cy="5568840"/>
            <a:chOff x="6095880" y="609480"/>
            <a:chExt cx="1981080" cy="5568840"/>
          </a:xfrm>
        </p:grpSpPr>
        <p:grpSp>
          <p:nvGrpSpPr>
            <p:cNvPr id="254" name=""/>
            <p:cNvGrpSpPr/>
            <p:nvPr/>
          </p:nvGrpSpPr>
          <p:grpSpPr>
            <a:xfrm>
              <a:off x="6095880" y="3428640"/>
              <a:ext cx="1981080" cy="990720"/>
              <a:chOff x="6095880" y="3428640"/>
              <a:chExt cx="1981080" cy="99072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5880" y="34286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6000" y="3428640"/>
                <a:ext cx="1100520" cy="97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"/>
            <p:cNvGrpSpPr/>
            <p:nvPr/>
          </p:nvGrpSpPr>
          <p:grpSpPr>
            <a:xfrm>
              <a:off x="6095880" y="2057040"/>
              <a:ext cx="1981080" cy="990720"/>
              <a:chOff x="6095880" y="2057040"/>
              <a:chExt cx="1981080" cy="990720"/>
            </a:xfrm>
          </p:grpSpPr>
          <p:sp>
            <p:nvSpPr>
              <p:cNvPr id="258" name=""/>
              <p:cNvSpPr/>
              <p:nvPr/>
            </p:nvSpPr>
            <p:spPr>
              <a:xfrm>
                <a:off x="6095880" y="20570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60760" y="2289960"/>
                <a:ext cx="1706040" cy="59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0" name=""/>
            <p:cNvGrpSpPr/>
            <p:nvPr/>
          </p:nvGrpSpPr>
          <p:grpSpPr>
            <a:xfrm>
              <a:off x="6167520" y="4870080"/>
              <a:ext cx="1837440" cy="1308240"/>
              <a:chOff x="6167520" y="4870080"/>
              <a:chExt cx="1837440" cy="1308240"/>
            </a:xfrm>
          </p:grpSpPr>
          <p:sp>
            <p:nvSpPr>
              <p:cNvPr id="261" name=""/>
              <p:cNvSpPr/>
              <p:nvPr/>
            </p:nvSpPr>
            <p:spPr>
              <a:xfrm rot="10776600">
                <a:off x="6171480" y="4876200"/>
                <a:ext cx="1828800" cy="1295640"/>
              </a:xfrm>
              <a:custGeom>
                <a:avLst/>
                <a:gdLst>
                  <a:gd name="textAreaLeft" fmla="*/ 402120 w 1828800"/>
                  <a:gd name="textAreaRight" fmla="*/ 1426680 w 1828800"/>
                  <a:gd name="textAreaTop" fmla="*/ 284760 h 1295640"/>
                  <a:gd name="textAreaBottom" fmla="*/ 10108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3680" y="4936320"/>
                <a:ext cx="628560" cy="12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6095880" y="609480"/>
              <a:ext cx="1981080" cy="990360"/>
              <a:chOff x="6095880" y="609480"/>
              <a:chExt cx="1981080" cy="990360"/>
            </a:xfrm>
          </p:grpSpPr>
          <p:sp>
            <p:nvSpPr>
              <p:cNvPr id="264" name=""/>
              <p:cNvSpPr/>
              <p:nvPr/>
            </p:nvSpPr>
            <p:spPr>
              <a:xfrm>
                <a:off x="6095880" y="609480"/>
                <a:ext cx="1981080" cy="99036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645960" y="609480"/>
                <a:ext cx="825480" cy="873720"/>
                <a:chOff x="6645960" y="609480"/>
                <a:chExt cx="825480" cy="873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45960" y="712800"/>
                  <a:ext cx="825480" cy="770400"/>
                </a:xfrm>
                <a:custGeom>
                  <a:avLst/>
                  <a:gdLst/>
                  <a:ahLst/>
                  <a:rect l="l" t="t" r="r" b="b"/>
                  <a:pathLst>
                    <a:path w="2862" h="2233">
                      <a:moveTo>
                        <a:pt x="1" y="1057"/>
                      </a:moveTo>
                      <a:lnTo>
                        <a:pt x="7" y="1133"/>
                      </a:lnTo>
                      <a:lnTo>
                        <a:pt x="15" y="1209"/>
                      </a:lnTo>
                      <a:lnTo>
                        <a:pt x="25" y="1285"/>
                      </a:lnTo>
                      <a:lnTo>
                        <a:pt x="37" y="1363"/>
                      </a:lnTo>
                      <a:lnTo>
                        <a:pt x="54" y="1439"/>
                      </a:lnTo>
                      <a:lnTo>
                        <a:pt x="73" y="1514"/>
                      </a:lnTo>
                      <a:lnTo>
                        <a:pt x="97" y="1588"/>
                      </a:lnTo>
                      <a:lnTo>
                        <a:pt x="124" y="1660"/>
                      </a:lnTo>
                      <a:lnTo>
                        <a:pt x="154" y="1730"/>
                      </a:lnTo>
                      <a:lnTo>
                        <a:pt x="188" y="1799"/>
                      </a:lnTo>
                      <a:lnTo>
                        <a:pt x="228" y="1863"/>
                      </a:lnTo>
                      <a:lnTo>
                        <a:pt x="271" y="1924"/>
                      </a:lnTo>
                      <a:lnTo>
                        <a:pt x="321" y="1982"/>
                      </a:lnTo>
                      <a:lnTo>
                        <a:pt x="373" y="2036"/>
                      </a:lnTo>
                      <a:lnTo>
                        <a:pt x="433" y="2085"/>
                      </a:lnTo>
                      <a:lnTo>
                        <a:pt x="497" y="2129"/>
                      </a:lnTo>
                      <a:lnTo>
                        <a:pt x="528" y="2150"/>
                      </a:lnTo>
                      <a:lnTo>
                        <a:pt x="561" y="2167"/>
                      </a:lnTo>
                      <a:lnTo>
                        <a:pt x="595" y="2182"/>
                      </a:lnTo>
                      <a:lnTo>
                        <a:pt x="631" y="2196"/>
                      </a:lnTo>
                      <a:lnTo>
                        <a:pt x="667" y="2208"/>
                      </a:lnTo>
                      <a:lnTo>
                        <a:pt x="703" y="2217"/>
                      </a:lnTo>
                      <a:lnTo>
                        <a:pt x="742" y="2224"/>
                      </a:lnTo>
                      <a:lnTo>
                        <a:pt x="779" y="2229"/>
                      </a:lnTo>
                      <a:lnTo>
                        <a:pt x="818" y="2232"/>
                      </a:lnTo>
                      <a:lnTo>
                        <a:pt x="856" y="2233"/>
                      </a:lnTo>
                      <a:lnTo>
                        <a:pt x="895" y="2233"/>
                      </a:lnTo>
                      <a:lnTo>
                        <a:pt x="934" y="2232"/>
                      </a:lnTo>
                      <a:lnTo>
                        <a:pt x="973" y="2227"/>
                      </a:lnTo>
                      <a:lnTo>
                        <a:pt x="1012" y="2223"/>
                      </a:lnTo>
                      <a:lnTo>
                        <a:pt x="1050" y="2215"/>
                      </a:lnTo>
                      <a:lnTo>
                        <a:pt x="1088" y="2208"/>
                      </a:lnTo>
                      <a:lnTo>
                        <a:pt x="1150" y="2178"/>
                      </a:lnTo>
                      <a:lnTo>
                        <a:pt x="1209" y="2145"/>
                      </a:lnTo>
                      <a:lnTo>
                        <a:pt x="1265" y="2109"/>
                      </a:lnTo>
                      <a:lnTo>
                        <a:pt x="1319" y="2069"/>
                      </a:lnTo>
                      <a:lnTo>
                        <a:pt x="1371" y="2027"/>
                      </a:lnTo>
                      <a:lnTo>
                        <a:pt x="1419" y="1982"/>
                      </a:lnTo>
                      <a:lnTo>
                        <a:pt x="1464" y="1933"/>
                      </a:lnTo>
                      <a:lnTo>
                        <a:pt x="1506" y="1882"/>
                      </a:lnTo>
                      <a:lnTo>
                        <a:pt x="1544" y="1829"/>
                      </a:lnTo>
                      <a:lnTo>
                        <a:pt x="1579" y="1772"/>
                      </a:lnTo>
                      <a:lnTo>
                        <a:pt x="1610" y="1712"/>
                      </a:lnTo>
                      <a:lnTo>
                        <a:pt x="1638" y="1651"/>
                      </a:lnTo>
                      <a:lnTo>
                        <a:pt x="1662" y="1587"/>
                      </a:lnTo>
                      <a:lnTo>
                        <a:pt x="1683" y="1520"/>
                      </a:lnTo>
                      <a:lnTo>
                        <a:pt x="1700" y="1449"/>
                      </a:lnTo>
                      <a:lnTo>
                        <a:pt x="1711" y="1378"/>
                      </a:lnTo>
                      <a:lnTo>
                        <a:pt x="1716" y="1285"/>
                      </a:lnTo>
                      <a:lnTo>
                        <a:pt x="1716" y="1190"/>
                      </a:lnTo>
                      <a:lnTo>
                        <a:pt x="1716" y="1099"/>
                      </a:lnTo>
                      <a:lnTo>
                        <a:pt x="1719" y="1015"/>
                      </a:lnTo>
                      <a:lnTo>
                        <a:pt x="1753" y="1006"/>
                      </a:lnTo>
                      <a:lnTo>
                        <a:pt x="1789" y="996"/>
                      </a:lnTo>
                      <a:lnTo>
                        <a:pt x="1825" y="985"/>
                      </a:lnTo>
                      <a:lnTo>
                        <a:pt x="1862" y="975"/>
                      </a:lnTo>
                      <a:lnTo>
                        <a:pt x="1900" y="964"/>
                      </a:lnTo>
                      <a:lnTo>
                        <a:pt x="1937" y="954"/>
                      </a:lnTo>
                      <a:lnTo>
                        <a:pt x="1974" y="942"/>
                      </a:lnTo>
                      <a:lnTo>
                        <a:pt x="2013" y="931"/>
                      </a:lnTo>
                      <a:lnTo>
                        <a:pt x="2050" y="923"/>
                      </a:lnTo>
                      <a:lnTo>
                        <a:pt x="2089" y="914"/>
                      </a:lnTo>
                      <a:lnTo>
                        <a:pt x="2128" y="905"/>
                      </a:lnTo>
                      <a:lnTo>
                        <a:pt x="2167" y="899"/>
                      </a:lnTo>
                      <a:lnTo>
                        <a:pt x="2204" y="893"/>
                      </a:lnTo>
                      <a:lnTo>
                        <a:pt x="2243" y="888"/>
                      </a:lnTo>
                      <a:lnTo>
                        <a:pt x="2280" y="885"/>
                      </a:lnTo>
                      <a:lnTo>
                        <a:pt x="2317" y="885"/>
                      </a:lnTo>
                      <a:lnTo>
                        <a:pt x="2331" y="905"/>
                      </a:lnTo>
                      <a:lnTo>
                        <a:pt x="2346" y="923"/>
                      </a:lnTo>
                      <a:lnTo>
                        <a:pt x="2364" y="939"/>
                      </a:lnTo>
                      <a:lnTo>
                        <a:pt x="2382" y="955"/>
                      </a:lnTo>
                      <a:lnTo>
                        <a:pt x="2399" y="972"/>
                      </a:lnTo>
                      <a:lnTo>
                        <a:pt x="2420" y="987"/>
                      </a:lnTo>
                      <a:lnTo>
                        <a:pt x="2441" y="1002"/>
                      </a:lnTo>
                      <a:lnTo>
                        <a:pt x="2464" y="1014"/>
                      </a:lnTo>
                      <a:lnTo>
                        <a:pt x="2486" y="1027"/>
                      </a:lnTo>
                      <a:lnTo>
                        <a:pt x="2510" y="1039"/>
                      </a:lnTo>
                      <a:lnTo>
                        <a:pt x="2534" y="1049"/>
                      </a:lnTo>
                      <a:lnTo>
                        <a:pt x="2559" y="1060"/>
                      </a:lnTo>
                      <a:lnTo>
                        <a:pt x="2583" y="1070"/>
                      </a:lnTo>
                      <a:lnTo>
                        <a:pt x="2608" y="1079"/>
                      </a:lnTo>
                      <a:lnTo>
                        <a:pt x="2634" y="1087"/>
                      </a:lnTo>
                      <a:lnTo>
                        <a:pt x="2659" y="1094"/>
                      </a:lnTo>
                      <a:lnTo>
                        <a:pt x="2684" y="1082"/>
                      </a:lnTo>
                      <a:lnTo>
                        <a:pt x="2708" y="1067"/>
                      </a:lnTo>
                      <a:lnTo>
                        <a:pt x="2728" y="1048"/>
                      </a:lnTo>
                      <a:lnTo>
                        <a:pt x="2746" y="1026"/>
                      </a:lnTo>
                      <a:lnTo>
                        <a:pt x="2761" y="1002"/>
                      </a:lnTo>
                      <a:lnTo>
                        <a:pt x="2774" y="976"/>
                      </a:lnTo>
                      <a:lnTo>
                        <a:pt x="2784" y="948"/>
                      </a:lnTo>
                      <a:lnTo>
                        <a:pt x="2793" y="921"/>
                      </a:lnTo>
                      <a:lnTo>
                        <a:pt x="2790" y="885"/>
                      </a:lnTo>
                      <a:lnTo>
                        <a:pt x="2783" y="855"/>
                      </a:lnTo>
                      <a:lnTo>
                        <a:pt x="2775" y="828"/>
                      </a:lnTo>
                      <a:lnTo>
                        <a:pt x="2768" y="800"/>
                      </a:lnTo>
                      <a:lnTo>
                        <a:pt x="2774" y="784"/>
                      </a:lnTo>
                      <a:lnTo>
                        <a:pt x="2786" y="770"/>
                      </a:lnTo>
                      <a:lnTo>
                        <a:pt x="2801" y="760"/>
                      </a:lnTo>
                      <a:lnTo>
                        <a:pt x="2817" y="749"/>
                      </a:lnTo>
                      <a:lnTo>
                        <a:pt x="2834" y="737"/>
                      </a:lnTo>
                      <a:lnTo>
                        <a:pt x="2849" y="724"/>
                      </a:lnTo>
                      <a:lnTo>
                        <a:pt x="2858" y="706"/>
                      </a:lnTo>
                      <a:lnTo>
                        <a:pt x="2862" y="682"/>
                      </a:lnTo>
                      <a:lnTo>
                        <a:pt x="2856" y="676"/>
                      </a:lnTo>
                      <a:lnTo>
                        <a:pt x="2853" y="673"/>
                      </a:lnTo>
                      <a:lnTo>
                        <a:pt x="2850" y="670"/>
                      </a:lnTo>
                      <a:lnTo>
                        <a:pt x="2838" y="660"/>
                      </a:lnTo>
                      <a:lnTo>
                        <a:pt x="2832" y="660"/>
                      </a:lnTo>
                      <a:lnTo>
                        <a:pt x="2828" y="661"/>
                      </a:lnTo>
                      <a:lnTo>
                        <a:pt x="2822" y="661"/>
                      </a:lnTo>
                      <a:lnTo>
                        <a:pt x="2816" y="663"/>
                      </a:lnTo>
                      <a:lnTo>
                        <a:pt x="2810" y="664"/>
                      </a:lnTo>
                      <a:lnTo>
                        <a:pt x="2804" y="664"/>
                      </a:lnTo>
                      <a:lnTo>
                        <a:pt x="2796" y="666"/>
                      </a:lnTo>
                      <a:lnTo>
                        <a:pt x="2789" y="666"/>
                      </a:lnTo>
                      <a:lnTo>
                        <a:pt x="2777" y="646"/>
                      </a:lnTo>
                      <a:lnTo>
                        <a:pt x="2772" y="624"/>
                      </a:lnTo>
                      <a:lnTo>
                        <a:pt x="2777" y="603"/>
                      </a:lnTo>
                      <a:lnTo>
                        <a:pt x="2784" y="579"/>
                      </a:lnTo>
                      <a:lnTo>
                        <a:pt x="2795" y="555"/>
                      </a:lnTo>
                      <a:lnTo>
                        <a:pt x="2805" y="530"/>
                      </a:lnTo>
                      <a:lnTo>
                        <a:pt x="2813" y="503"/>
                      </a:lnTo>
                      <a:lnTo>
                        <a:pt x="2814" y="476"/>
                      </a:lnTo>
                      <a:lnTo>
                        <a:pt x="2778" y="409"/>
                      </a:lnTo>
                      <a:lnTo>
                        <a:pt x="2759" y="403"/>
                      </a:lnTo>
                      <a:lnTo>
                        <a:pt x="2741" y="400"/>
                      </a:lnTo>
                      <a:lnTo>
                        <a:pt x="2722" y="399"/>
                      </a:lnTo>
                      <a:lnTo>
                        <a:pt x="2702" y="402"/>
                      </a:lnTo>
                      <a:lnTo>
                        <a:pt x="2683" y="406"/>
                      </a:lnTo>
                      <a:lnTo>
                        <a:pt x="2664" y="412"/>
                      </a:lnTo>
                      <a:lnTo>
                        <a:pt x="2644" y="421"/>
                      </a:lnTo>
                      <a:lnTo>
                        <a:pt x="2625" y="430"/>
                      </a:lnTo>
                      <a:lnTo>
                        <a:pt x="2605" y="440"/>
                      </a:lnTo>
                      <a:lnTo>
                        <a:pt x="2587" y="452"/>
                      </a:lnTo>
                      <a:lnTo>
                        <a:pt x="2570" y="464"/>
                      </a:lnTo>
                      <a:lnTo>
                        <a:pt x="2552" y="476"/>
                      </a:lnTo>
                      <a:lnTo>
                        <a:pt x="2535" y="488"/>
                      </a:lnTo>
                      <a:lnTo>
                        <a:pt x="2519" y="499"/>
                      </a:lnTo>
                      <a:lnTo>
                        <a:pt x="2504" y="509"/>
                      </a:lnTo>
                      <a:lnTo>
                        <a:pt x="2489" y="518"/>
                      </a:lnTo>
                      <a:lnTo>
                        <a:pt x="2473" y="533"/>
                      </a:lnTo>
                      <a:lnTo>
                        <a:pt x="2456" y="548"/>
                      </a:lnTo>
                      <a:lnTo>
                        <a:pt x="2440" y="563"/>
                      </a:lnTo>
                      <a:lnTo>
                        <a:pt x="2425" y="578"/>
                      </a:lnTo>
                      <a:lnTo>
                        <a:pt x="2410" y="593"/>
                      </a:lnTo>
                      <a:lnTo>
                        <a:pt x="2395" y="606"/>
                      </a:lnTo>
                      <a:lnTo>
                        <a:pt x="2380" y="621"/>
                      </a:lnTo>
                      <a:lnTo>
                        <a:pt x="2367" y="636"/>
                      </a:lnTo>
                      <a:lnTo>
                        <a:pt x="2352" y="651"/>
                      </a:lnTo>
                      <a:lnTo>
                        <a:pt x="2338" y="666"/>
                      </a:lnTo>
                      <a:lnTo>
                        <a:pt x="2323" y="679"/>
                      </a:lnTo>
                      <a:lnTo>
                        <a:pt x="2308" y="694"/>
                      </a:lnTo>
                      <a:lnTo>
                        <a:pt x="2295" y="709"/>
                      </a:lnTo>
                      <a:lnTo>
                        <a:pt x="2280" y="722"/>
                      </a:lnTo>
                      <a:lnTo>
                        <a:pt x="2265" y="737"/>
                      </a:lnTo>
                      <a:lnTo>
                        <a:pt x="2249" y="751"/>
                      </a:lnTo>
                      <a:lnTo>
                        <a:pt x="1695" y="843"/>
                      </a:lnTo>
                      <a:lnTo>
                        <a:pt x="1668" y="784"/>
                      </a:lnTo>
                      <a:lnTo>
                        <a:pt x="1641" y="725"/>
                      </a:lnTo>
                      <a:lnTo>
                        <a:pt x="1614" y="667"/>
                      </a:lnTo>
                      <a:lnTo>
                        <a:pt x="1586" y="611"/>
                      </a:lnTo>
                      <a:lnTo>
                        <a:pt x="1556" y="554"/>
                      </a:lnTo>
                      <a:lnTo>
                        <a:pt x="1525" y="499"/>
                      </a:lnTo>
                      <a:lnTo>
                        <a:pt x="1494" y="445"/>
                      </a:lnTo>
                      <a:lnTo>
                        <a:pt x="1459" y="391"/>
                      </a:lnTo>
                      <a:lnTo>
                        <a:pt x="1423" y="342"/>
                      </a:lnTo>
                      <a:lnTo>
                        <a:pt x="1385" y="293"/>
                      </a:lnTo>
                      <a:lnTo>
                        <a:pt x="1344" y="248"/>
                      </a:lnTo>
                      <a:lnTo>
                        <a:pt x="1301" y="205"/>
                      </a:lnTo>
                      <a:lnTo>
                        <a:pt x="1255" y="164"/>
                      </a:lnTo>
                      <a:lnTo>
                        <a:pt x="1204" y="125"/>
                      </a:lnTo>
                      <a:lnTo>
                        <a:pt x="1152" y="93"/>
                      </a:lnTo>
                      <a:lnTo>
                        <a:pt x="1095" y="61"/>
                      </a:lnTo>
                      <a:lnTo>
                        <a:pt x="1071" y="55"/>
                      </a:lnTo>
                      <a:lnTo>
                        <a:pt x="1049" y="51"/>
                      </a:lnTo>
                      <a:lnTo>
                        <a:pt x="1025" y="48"/>
                      </a:lnTo>
                      <a:lnTo>
                        <a:pt x="1003" y="45"/>
                      </a:lnTo>
                      <a:lnTo>
                        <a:pt x="980" y="42"/>
                      </a:lnTo>
                      <a:lnTo>
                        <a:pt x="958" y="39"/>
                      </a:lnTo>
                      <a:lnTo>
                        <a:pt x="937" y="37"/>
                      </a:lnTo>
                      <a:lnTo>
                        <a:pt x="915" y="34"/>
                      </a:lnTo>
                      <a:lnTo>
                        <a:pt x="894" y="33"/>
                      </a:lnTo>
                      <a:lnTo>
                        <a:pt x="873" y="30"/>
                      </a:lnTo>
                      <a:lnTo>
                        <a:pt x="852" y="27"/>
                      </a:lnTo>
                      <a:lnTo>
                        <a:pt x="831" y="22"/>
                      </a:lnTo>
                      <a:lnTo>
                        <a:pt x="810" y="18"/>
                      </a:lnTo>
                      <a:lnTo>
                        <a:pt x="791" y="13"/>
                      </a:lnTo>
                      <a:lnTo>
                        <a:pt x="770" y="7"/>
                      </a:lnTo>
                      <a:lnTo>
                        <a:pt x="750" y="0"/>
                      </a:lnTo>
                      <a:lnTo>
                        <a:pt x="440" y="81"/>
                      </a:lnTo>
                      <a:lnTo>
                        <a:pt x="389" y="125"/>
                      </a:lnTo>
                      <a:lnTo>
                        <a:pt x="340" y="173"/>
                      </a:lnTo>
                      <a:lnTo>
                        <a:pt x="294" y="224"/>
                      </a:lnTo>
                      <a:lnTo>
                        <a:pt x="251" y="276"/>
                      </a:lnTo>
                      <a:lnTo>
                        <a:pt x="210" y="331"/>
                      </a:lnTo>
                      <a:lnTo>
                        <a:pt x="173" y="388"/>
                      </a:lnTo>
                      <a:lnTo>
                        <a:pt x="139" y="448"/>
                      </a:lnTo>
                      <a:lnTo>
                        <a:pt x="109" y="508"/>
                      </a:lnTo>
                      <a:lnTo>
                        <a:pt x="80" y="572"/>
                      </a:lnTo>
                      <a:lnTo>
                        <a:pt x="58" y="636"/>
                      </a:lnTo>
                      <a:lnTo>
                        <a:pt x="39" y="703"/>
                      </a:lnTo>
                      <a:lnTo>
                        <a:pt x="22" y="770"/>
                      </a:lnTo>
                      <a:lnTo>
                        <a:pt x="10" y="840"/>
                      </a:lnTo>
                      <a:lnTo>
                        <a:pt x="3" y="911"/>
                      </a:lnTo>
                      <a:lnTo>
                        <a:pt x="0" y="984"/>
                      </a:lnTo>
                      <a:lnTo>
                        <a:pt x="1" y="10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662160" y="803160"/>
                  <a:ext cx="200160" cy="659160"/>
                </a:xfrm>
                <a:custGeom>
                  <a:avLst/>
                  <a:gdLst/>
                  <a:ahLst/>
                  <a:rect l="l" t="t" r="r" b="b"/>
                  <a:pathLst>
                    <a:path w="695" h="1912">
                      <a:moveTo>
                        <a:pt x="0" y="945"/>
                      </a:moveTo>
                      <a:lnTo>
                        <a:pt x="15" y="994"/>
                      </a:lnTo>
                      <a:lnTo>
                        <a:pt x="25" y="1043"/>
                      </a:lnTo>
                      <a:lnTo>
                        <a:pt x="33" y="1092"/>
                      </a:lnTo>
                      <a:lnTo>
                        <a:pt x="40" y="1142"/>
                      </a:lnTo>
                      <a:lnTo>
                        <a:pt x="49" y="1192"/>
                      </a:lnTo>
                      <a:lnTo>
                        <a:pt x="60" y="1242"/>
                      </a:lnTo>
                      <a:lnTo>
                        <a:pt x="76" y="1292"/>
                      </a:lnTo>
                      <a:lnTo>
                        <a:pt x="97" y="1343"/>
                      </a:lnTo>
                      <a:lnTo>
                        <a:pt x="118" y="1394"/>
                      </a:lnTo>
                      <a:lnTo>
                        <a:pt x="140" y="1442"/>
                      </a:lnTo>
                      <a:lnTo>
                        <a:pt x="166" y="1489"/>
                      </a:lnTo>
                      <a:lnTo>
                        <a:pt x="194" y="1536"/>
                      </a:lnTo>
                      <a:lnTo>
                        <a:pt x="225" y="1581"/>
                      </a:lnTo>
                      <a:lnTo>
                        <a:pt x="258" y="1622"/>
                      </a:lnTo>
                      <a:lnTo>
                        <a:pt x="293" y="1663"/>
                      </a:lnTo>
                      <a:lnTo>
                        <a:pt x="330" y="1701"/>
                      </a:lnTo>
                      <a:lnTo>
                        <a:pt x="370" y="1737"/>
                      </a:lnTo>
                      <a:lnTo>
                        <a:pt x="410" y="1772"/>
                      </a:lnTo>
                      <a:lnTo>
                        <a:pt x="454" y="1801"/>
                      </a:lnTo>
                      <a:lnTo>
                        <a:pt x="499" y="1830"/>
                      </a:lnTo>
                      <a:lnTo>
                        <a:pt x="546" y="1855"/>
                      </a:lnTo>
                      <a:lnTo>
                        <a:pt x="594" y="1878"/>
                      </a:lnTo>
                      <a:lnTo>
                        <a:pt x="645" y="1897"/>
                      </a:lnTo>
                      <a:lnTo>
                        <a:pt x="695" y="1912"/>
                      </a:lnTo>
                      <a:lnTo>
                        <a:pt x="631" y="1881"/>
                      </a:lnTo>
                      <a:lnTo>
                        <a:pt x="569" y="1845"/>
                      </a:lnTo>
                      <a:lnTo>
                        <a:pt x="509" y="1804"/>
                      </a:lnTo>
                      <a:lnTo>
                        <a:pt x="451" y="1760"/>
                      </a:lnTo>
                      <a:lnTo>
                        <a:pt x="397" y="1712"/>
                      </a:lnTo>
                      <a:lnTo>
                        <a:pt x="346" y="1658"/>
                      </a:lnTo>
                      <a:lnTo>
                        <a:pt x="299" y="1603"/>
                      </a:lnTo>
                      <a:lnTo>
                        <a:pt x="254" y="1543"/>
                      </a:lnTo>
                      <a:lnTo>
                        <a:pt x="214" y="1479"/>
                      </a:lnTo>
                      <a:lnTo>
                        <a:pt x="176" y="1413"/>
                      </a:lnTo>
                      <a:lnTo>
                        <a:pt x="143" y="1343"/>
                      </a:lnTo>
                      <a:lnTo>
                        <a:pt x="117" y="1270"/>
                      </a:lnTo>
                      <a:lnTo>
                        <a:pt x="93" y="1195"/>
                      </a:lnTo>
                      <a:lnTo>
                        <a:pt x="75" y="1116"/>
                      </a:lnTo>
                      <a:lnTo>
                        <a:pt x="61" y="1036"/>
                      </a:lnTo>
                      <a:lnTo>
                        <a:pt x="52" y="952"/>
                      </a:lnTo>
                      <a:lnTo>
                        <a:pt x="49" y="885"/>
                      </a:lnTo>
                      <a:lnTo>
                        <a:pt x="49" y="818"/>
                      </a:lnTo>
                      <a:lnTo>
                        <a:pt x="49" y="752"/>
                      </a:lnTo>
                      <a:lnTo>
                        <a:pt x="51" y="688"/>
                      </a:lnTo>
                      <a:lnTo>
                        <a:pt x="54" y="624"/>
                      </a:lnTo>
                      <a:lnTo>
                        <a:pt x="60" y="562"/>
                      </a:lnTo>
                      <a:lnTo>
                        <a:pt x="69" y="500"/>
                      </a:lnTo>
                      <a:lnTo>
                        <a:pt x="79" y="440"/>
                      </a:lnTo>
                      <a:lnTo>
                        <a:pt x="93" y="380"/>
                      </a:lnTo>
                      <a:lnTo>
                        <a:pt x="109" y="322"/>
                      </a:lnTo>
                      <a:lnTo>
                        <a:pt x="130" y="265"/>
                      </a:lnTo>
                      <a:lnTo>
                        <a:pt x="154" y="210"/>
                      </a:lnTo>
                      <a:lnTo>
                        <a:pt x="181" y="156"/>
                      </a:lnTo>
                      <a:lnTo>
                        <a:pt x="214" y="103"/>
                      </a:lnTo>
                      <a:lnTo>
                        <a:pt x="249" y="50"/>
                      </a:lnTo>
                      <a:lnTo>
                        <a:pt x="290" y="0"/>
                      </a:lnTo>
                      <a:lnTo>
                        <a:pt x="240" y="46"/>
                      </a:lnTo>
                      <a:lnTo>
                        <a:pt x="197" y="94"/>
                      </a:lnTo>
                      <a:lnTo>
                        <a:pt x="158" y="145"/>
                      </a:lnTo>
                      <a:lnTo>
                        <a:pt x="125" y="198"/>
                      </a:lnTo>
                      <a:lnTo>
                        <a:pt x="97" y="254"/>
                      </a:lnTo>
                      <a:lnTo>
                        <a:pt x="73" y="310"/>
                      </a:lnTo>
                      <a:lnTo>
                        <a:pt x="54" y="368"/>
                      </a:lnTo>
                      <a:lnTo>
                        <a:pt x="39" y="430"/>
                      </a:lnTo>
                      <a:lnTo>
                        <a:pt x="25" y="491"/>
                      </a:lnTo>
                      <a:lnTo>
                        <a:pt x="17" y="554"/>
                      </a:lnTo>
                      <a:lnTo>
                        <a:pt x="9" y="618"/>
                      </a:lnTo>
                      <a:lnTo>
                        <a:pt x="5" y="682"/>
                      </a:lnTo>
                      <a:lnTo>
                        <a:pt x="2" y="748"/>
                      </a:lnTo>
                      <a:lnTo>
                        <a:pt x="0" y="813"/>
                      </a:lnTo>
                      <a:lnTo>
                        <a:pt x="0" y="87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94920" y="740520"/>
                  <a:ext cx="432000" cy="709560"/>
                </a:xfrm>
                <a:custGeom>
                  <a:avLst/>
                  <a:gdLst/>
                  <a:ahLst/>
                  <a:rect l="l" t="t" r="r" b="b"/>
                  <a:pathLst>
                    <a:path w="1498" h="2057">
                      <a:moveTo>
                        <a:pt x="0" y="1061"/>
                      </a:moveTo>
                      <a:lnTo>
                        <a:pt x="4" y="1125"/>
                      </a:lnTo>
                      <a:lnTo>
                        <a:pt x="13" y="1188"/>
                      </a:lnTo>
                      <a:lnTo>
                        <a:pt x="24" y="1251"/>
                      </a:lnTo>
                      <a:lnTo>
                        <a:pt x="37" y="1313"/>
                      </a:lnTo>
                      <a:lnTo>
                        <a:pt x="52" y="1374"/>
                      </a:lnTo>
                      <a:lnTo>
                        <a:pt x="72" y="1436"/>
                      </a:lnTo>
                      <a:lnTo>
                        <a:pt x="94" y="1494"/>
                      </a:lnTo>
                      <a:lnTo>
                        <a:pt x="118" y="1552"/>
                      </a:lnTo>
                      <a:lnTo>
                        <a:pt x="146" y="1607"/>
                      </a:lnTo>
                      <a:lnTo>
                        <a:pt x="178" y="1661"/>
                      </a:lnTo>
                      <a:lnTo>
                        <a:pt x="212" y="1712"/>
                      </a:lnTo>
                      <a:lnTo>
                        <a:pt x="249" y="1761"/>
                      </a:lnTo>
                      <a:lnTo>
                        <a:pt x="291" y="1807"/>
                      </a:lnTo>
                      <a:lnTo>
                        <a:pt x="336" y="1851"/>
                      </a:lnTo>
                      <a:lnTo>
                        <a:pt x="384" y="1889"/>
                      </a:lnTo>
                      <a:lnTo>
                        <a:pt x="436" y="1927"/>
                      </a:lnTo>
                      <a:lnTo>
                        <a:pt x="467" y="1946"/>
                      </a:lnTo>
                      <a:lnTo>
                        <a:pt x="500" y="1964"/>
                      </a:lnTo>
                      <a:lnTo>
                        <a:pt x="534" y="1980"/>
                      </a:lnTo>
                      <a:lnTo>
                        <a:pt x="569" y="1997"/>
                      </a:lnTo>
                      <a:lnTo>
                        <a:pt x="604" y="2012"/>
                      </a:lnTo>
                      <a:lnTo>
                        <a:pt x="642" y="2025"/>
                      </a:lnTo>
                      <a:lnTo>
                        <a:pt x="679" y="2036"/>
                      </a:lnTo>
                      <a:lnTo>
                        <a:pt x="718" y="2045"/>
                      </a:lnTo>
                      <a:lnTo>
                        <a:pt x="755" y="2052"/>
                      </a:lnTo>
                      <a:lnTo>
                        <a:pt x="794" y="2055"/>
                      </a:lnTo>
                      <a:lnTo>
                        <a:pt x="833" y="2057"/>
                      </a:lnTo>
                      <a:lnTo>
                        <a:pt x="873" y="2054"/>
                      </a:lnTo>
                      <a:lnTo>
                        <a:pt x="912" y="2049"/>
                      </a:lnTo>
                      <a:lnTo>
                        <a:pt x="952" y="2039"/>
                      </a:lnTo>
                      <a:lnTo>
                        <a:pt x="991" y="2025"/>
                      </a:lnTo>
                      <a:lnTo>
                        <a:pt x="1030" y="2007"/>
                      </a:lnTo>
                      <a:lnTo>
                        <a:pt x="1076" y="1973"/>
                      </a:lnTo>
                      <a:lnTo>
                        <a:pt x="1119" y="1939"/>
                      </a:lnTo>
                      <a:lnTo>
                        <a:pt x="1161" y="1901"/>
                      </a:lnTo>
                      <a:lnTo>
                        <a:pt x="1201" y="1861"/>
                      </a:lnTo>
                      <a:lnTo>
                        <a:pt x="1239" y="1821"/>
                      </a:lnTo>
                      <a:lnTo>
                        <a:pt x="1274" y="1777"/>
                      </a:lnTo>
                      <a:lnTo>
                        <a:pt x="1309" y="1734"/>
                      </a:lnTo>
                      <a:lnTo>
                        <a:pt x="1340" y="1688"/>
                      </a:lnTo>
                      <a:lnTo>
                        <a:pt x="1368" y="1640"/>
                      </a:lnTo>
                      <a:lnTo>
                        <a:pt x="1395" y="1591"/>
                      </a:lnTo>
                      <a:lnTo>
                        <a:pt x="1418" y="1540"/>
                      </a:lnTo>
                      <a:lnTo>
                        <a:pt x="1439" y="1488"/>
                      </a:lnTo>
                      <a:lnTo>
                        <a:pt x="1456" y="1434"/>
                      </a:lnTo>
                      <a:lnTo>
                        <a:pt x="1473" y="1380"/>
                      </a:lnTo>
                      <a:lnTo>
                        <a:pt x="1485" y="1324"/>
                      </a:lnTo>
                      <a:lnTo>
                        <a:pt x="1494" y="1265"/>
                      </a:lnTo>
                      <a:lnTo>
                        <a:pt x="1498" y="1197"/>
                      </a:lnTo>
                      <a:lnTo>
                        <a:pt x="1494" y="1130"/>
                      </a:lnTo>
                      <a:lnTo>
                        <a:pt x="1486" y="1067"/>
                      </a:lnTo>
                      <a:lnTo>
                        <a:pt x="1479" y="1003"/>
                      </a:lnTo>
                      <a:lnTo>
                        <a:pt x="1476" y="989"/>
                      </a:lnTo>
                      <a:lnTo>
                        <a:pt x="1468" y="980"/>
                      </a:lnTo>
                      <a:lnTo>
                        <a:pt x="1459" y="977"/>
                      </a:lnTo>
                      <a:lnTo>
                        <a:pt x="1449" y="979"/>
                      </a:lnTo>
                      <a:lnTo>
                        <a:pt x="1436" y="982"/>
                      </a:lnTo>
                      <a:lnTo>
                        <a:pt x="1422" y="986"/>
                      </a:lnTo>
                      <a:lnTo>
                        <a:pt x="1409" y="994"/>
                      </a:lnTo>
                      <a:lnTo>
                        <a:pt x="1395" y="1000"/>
                      </a:lnTo>
                      <a:lnTo>
                        <a:pt x="1391" y="1095"/>
                      </a:lnTo>
                      <a:lnTo>
                        <a:pt x="1382" y="1192"/>
                      </a:lnTo>
                      <a:lnTo>
                        <a:pt x="1365" y="1289"/>
                      </a:lnTo>
                      <a:lnTo>
                        <a:pt x="1345" y="1385"/>
                      </a:lnTo>
                      <a:lnTo>
                        <a:pt x="1315" y="1477"/>
                      </a:lnTo>
                      <a:lnTo>
                        <a:pt x="1279" y="1565"/>
                      </a:lnTo>
                      <a:lnTo>
                        <a:pt x="1236" y="1649"/>
                      </a:lnTo>
                      <a:lnTo>
                        <a:pt x="1185" y="1725"/>
                      </a:lnTo>
                      <a:lnTo>
                        <a:pt x="1161" y="1748"/>
                      </a:lnTo>
                      <a:lnTo>
                        <a:pt x="1134" y="1770"/>
                      </a:lnTo>
                      <a:lnTo>
                        <a:pt x="1107" y="1791"/>
                      </a:lnTo>
                      <a:lnTo>
                        <a:pt x="1077" y="1810"/>
                      </a:lnTo>
                      <a:lnTo>
                        <a:pt x="1046" y="1830"/>
                      </a:lnTo>
                      <a:lnTo>
                        <a:pt x="1013" y="1848"/>
                      </a:lnTo>
                      <a:lnTo>
                        <a:pt x="980" y="1864"/>
                      </a:lnTo>
                      <a:lnTo>
                        <a:pt x="946" y="1877"/>
                      </a:lnTo>
                      <a:lnTo>
                        <a:pt x="910" y="1889"/>
                      </a:lnTo>
                      <a:lnTo>
                        <a:pt x="873" y="1900"/>
                      </a:lnTo>
                      <a:lnTo>
                        <a:pt x="836" y="1907"/>
                      </a:lnTo>
                      <a:lnTo>
                        <a:pt x="798" y="1912"/>
                      </a:lnTo>
                      <a:lnTo>
                        <a:pt x="761" y="1913"/>
                      </a:lnTo>
                      <a:lnTo>
                        <a:pt x="722" y="1912"/>
                      </a:lnTo>
                      <a:lnTo>
                        <a:pt x="683" y="1907"/>
                      </a:lnTo>
                      <a:lnTo>
                        <a:pt x="645" y="1900"/>
                      </a:lnTo>
                      <a:lnTo>
                        <a:pt x="603" y="1885"/>
                      </a:lnTo>
                      <a:lnTo>
                        <a:pt x="563" y="1868"/>
                      </a:lnTo>
                      <a:lnTo>
                        <a:pt x="524" y="1848"/>
                      </a:lnTo>
                      <a:lnTo>
                        <a:pt x="488" y="1825"/>
                      </a:lnTo>
                      <a:lnTo>
                        <a:pt x="452" y="1801"/>
                      </a:lnTo>
                      <a:lnTo>
                        <a:pt x="419" y="1774"/>
                      </a:lnTo>
                      <a:lnTo>
                        <a:pt x="388" y="1746"/>
                      </a:lnTo>
                      <a:lnTo>
                        <a:pt x="358" y="1715"/>
                      </a:lnTo>
                      <a:lnTo>
                        <a:pt x="330" y="1682"/>
                      </a:lnTo>
                      <a:lnTo>
                        <a:pt x="303" y="1648"/>
                      </a:lnTo>
                      <a:lnTo>
                        <a:pt x="279" y="1612"/>
                      </a:lnTo>
                      <a:lnTo>
                        <a:pt x="257" y="1574"/>
                      </a:lnTo>
                      <a:lnTo>
                        <a:pt x="236" y="1536"/>
                      </a:lnTo>
                      <a:lnTo>
                        <a:pt x="216" y="1495"/>
                      </a:lnTo>
                      <a:lnTo>
                        <a:pt x="200" y="1454"/>
                      </a:lnTo>
                      <a:lnTo>
                        <a:pt x="185" y="1412"/>
                      </a:lnTo>
                      <a:lnTo>
                        <a:pt x="166" y="1337"/>
                      </a:lnTo>
                      <a:lnTo>
                        <a:pt x="148" y="1262"/>
                      </a:lnTo>
                      <a:lnTo>
                        <a:pt x="133" y="1186"/>
                      </a:lnTo>
                      <a:lnTo>
                        <a:pt x="121" y="1110"/>
                      </a:lnTo>
                      <a:lnTo>
                        <a:pt x="112" y="1034"/>
                      </a:lnTo>
                      <a:lnTo>
                        <a:pt x="107" y="958"/>
                      </a:lnTo>
                      <a:lnTo>
                        <a:pt x="106" y="882"/>
                      </a:lnTo>
                      <a:lnTo>
                        <a:pt x="110" y="807"/>
                      </a:lnTo>
                      <a:lnTo>
                        <a:pt x="119" y="734"/>
                      </a:lnTo>
                      <a:lnTo>
                        <a:pt x="134" y="662"/>
                      </a:lnTo>
                      <a:lnTo>
                        <a:pt x="155" y="592"/>
                      </a:lnTo>
                      <a:lnTo>
                        <a:pt x="181" y="525"/>
                      </a:lnTo>
                      <a:lnTo>
                        <a:pt x="215" y="459"/>
                      </a:lnTo>
                      <a:lnTo>
                        <a:pt x="255" y="398"/>
                      </a:lnTo>
                      <a:lnTo>
                        <a:pt x="303" y="338"/>
                      </a:lnTo>
                      <a:lnTo>
                        <a:pt x="358" y="283"/>
                      </a:lnTo>
                      <a:lnTo>
                        <a:pt x="388" y="264"/>
                      </a:lnTo>
                      <a:lnTo>
                        <a:pt x="419" y="243"/>
                      </a:lnTo>
                      <a:lnTo>
                        <a:pt x="452" y="224"/>
                      </a:lnTo>
                      <a:lnTo>
                        <a:pt x="484" y="204"/>
                      </a:lnTo>
                      <a:lnTo>
                        <a:pt x="518" y="185"/>
                      </a:lnTo>
                      <a:lnTo>
                        <a:pt x="551" y="167"/>
                      </a:lnTo>
                      <a:lnTo>
                        <a:pt x="585" y="150"/>
                      </a:lnTo>
                      <a:lnTo>
                        <a:pt x="621" y="135"/>
                      </a:lnTo>
                      <a:lnTo>
                        <a:pt x="655" y="124"/>
                      </a:lnTo>
                      <a:lnTo>
                        <a:pt x="691" y="115"/>
                      </a:lnTo>
                      <a:lnTo>
                        <a:pt x="727" y="107"/>
                      </a:lnTo>
                      <a:lnTo>
                        <a:pt x="763" y="104"/>
                      </a:lnTo>
                      <a:lnTo>
                        <a:pt x="798" y="104"/>
                      </a:lnTo>
                      <a:lnTo>
                        <a:pt x="834" y="109"/>
                      </a:lnTo>
                      <a:lnTo>
                        <a:pt x="870" y="118"/>
                      </a:lnTo>
                      <a:lnTo>
                        <a:pt x="906" y="131"/>
                      </a:lnTo>
                      <a:lnTo>
                        <a:pt x="955" y="156"/>
                      </a:lnTo>
                      <a:lnTo>
                        <a:pt x="1001" y="186"/>
                      </a:lnTo>
                      <a:lnTo>
                        <a:pt x="1042" y="218"/>
                      </a:lnTo>
                      <a:lnTo>
                        <a:pt x="1079" y="250"/>
                      </a:lnTo>
                      <a:lnTo>
                        <a:pt x="1113" y="286"/>
                      </a:lnTo>
                      <a:lnTo>
                        <a:pt x="1143" y="324"/>
                      </a:lnTo>
                      <a:lnTo>
                        <a:pt x="1170" y="364"/>
                      </a:lnTo>
                      <a:lnTo>
                        <a:pt x="1195" y="406"/>
                      </a:lnTo>
                      <a:lnTo>
                        <a:pt x="1218" y="449"/>
                      </a:lnTo>
                      <a:lnTo>
                        <a:pt x="1239" y="494"/>
                      </a:lnTo>
                      <a:lnTo>
                        <a:pt x="1258" y="540"/>
                      </a:lnTo>
                      <a:lnTo>
                        <a:pt x="1276" y="586"/>
                      </a:lnTo>
                      <a:lnTo>
                        <a:pt x="1292" y="634"/>
                      </a:lnTo>
                      <a:lnTo>
                        <a:pt x="1307" y="683"/>
                      </a:lnTo>
                      <a:lnTo>
                        <a:pt x="1324" y="733"/>
                      </a:lnTo>
                      <a:lnTo>
                        <a:pt x="1339" y="783"/>
                      </a:lnTo>
                      <a:lnTo>
                        <a:pt x="1431" y="755"/>
                      </a:lnTo>
                      <a:lnTo>
                        <a:pt x="1416" y="698"/>
                      </a:lnTo>
                      <a:lnTo>
                        <a:pt x="1400" y="641"/>
                      </a:lnTo>
                      <a:lnTo>
                        <a:pt x="1380" y="588"/>
                      </a:lnTo>
                      <a:lnTo>
                        <a:pt x="1358" y="536"/>
                      </a:lnTo>
                      <a:lnTo>
                        <a:pt x="1334" y="483"/>
                      </a:lnTo>
                      <a:lnTo>
                        <a:pt x="1307" y="434"/>
                      </a:lnTo>
                      <a:lnTo>
                        <a:pt x="1277" y="388"/>
                      </a:lnTo>
                      <a:lnTo>
                        <a:pt x="1248" y="341"/>
                      </a:lnTo>
                      <a:lnTo>
                        <a:pt x="1213" y="298"/>
                      </a:lnTo>
                      <a:lnTo>
                        <a:pt x="1177" y="256"/>
                      </a:lnTo>
                      <a:lnTo>
                        <a:pt x="1139" y="216"/>
                      </a:lnTo>
                      <a:lnTo>
                        <a:pt x="1098" y="177"/>
                      </a:lnTo>
                      <a:lnTo>
                        <a:pt x="1057" y="141"/>
                      </a:lnTo>
                      <a:lnTo>
                        <a:pt x="1012" y="107"/>
                      </a:lnTo>
                      <a:lnTo>
                        <a:pt x="964" y="76"/>
                      </a:lnTo>
                      <a:lnTo>
                        <a:pt x="915" y="46"/>
                      </a:lnTo>
                      <a:lnTo>
                        <a:pt x="876" y="31"/>
                      </a:lnTo>
                      <a:lnTo>
                        <a:pt x="836" y="21"/>
                      </a:lnTo>
                      <a:lnTo>
                        <a:pt x="795" y="12"/>
                      </a:lnTo>
                      <a:lnTo>
                        <a:pt x="754" y="4"/>
                      </a:lnTo>
                      <a:lnTo>
                        <a:pt x="713" y="1"/>
                      </a:lnTo>
                      <a:lnTo>
                        <a:pt x="673" y="0"/>
                      </a:lnTo>
                      <a:lnTo>
                        <a:pt x="633" y="1"/>
                      </a:lnTo>
                      <a:lnTo>
                        <a:pt x="594" y="6"/>
                      </a:lnTo>
                      <a:lnTo>
                        <a:pt x="555" y="12"/>
                      </a:lnTo>
                      <a:lnTo>
                        <a:pt x="518" y="22"/>
                      </a:lnTo>
                      <a:lnTo>
                        <a:pt x="481" y="32"/>
                      </a:lnTo>
                      <a:lnTo>
                        <a:pt x="446" y="47"/>
                      </a:lnTo>
                      <a:lnTo>
                        <a:pt x="412" y="64"/>
                      </a:lnTo>
                      <a:lnTo>
                        <a:pt x="381" y="83"/>
                      </a:lnTo>
                      <a:lnTo>
                        <a:pt x="351" y="106"/>
                      </a:lnTo>
                      <a:lnTo>
                        <a:pt x="322" y="130"/>
                      </a:lnTo>
                      <a:lnTo>
                        <a:pt x="295" y="161"/>
                      </a:lnTo>
                      <a:lnTo>
                        <a:pt x="267" y="192"/>
                      </a:lnTo>
                      <a:lnTo>
                        <a:pt x="242" y="224"/>
                      </a:lnTo>
                      <a:lnTo>
                        <a:pt x="215" y="256"/>
                      </a:lnTo>
                      <a:lnTo>
                        <a:pt x="190" y="289"/>
                      </a:lnTo>
                      <a:lnTo>
                        <a:pt x="166" y="322"/>
                      </a:lnTo>
                      <a:lnTo>
                        <a:pt x="143" y="356"/>
                      </a:lnTo>
                      <a:lnTo>
                        <a:pt x="122" y="391"/>
                      </a:lnTo>
                      <a:lnTo>
                        <a:pt x="101" y="427"/>
                      </a:lnTo>
                      <a:lnTo>
                        <a:pt x="84" y="464"/>
                      </a:lnTo>
                      <a:lnTo>
                        <a:pt x="66" y="501"/>
                      </a:lnTo>
                      <a:lnTo>
                        <a:pt x="52" y="540"/>
                      </a:lnTo>
                      <a:lnTo>
                        <a:pt x="39" y="580"/>
                      </a:lnTo>
                      <a:lnTo>
                        <a:pt x="28" y="622"/>
                      </a:lnTo>
                      <a:lnTo>
                        <a:pt x="21" y="664"/>
                      </a:lnTo>
                      <a:lnTo>
                        <a:pt x="15" y="709"/>
                      </a:lnTo>
                      <a:lnTo>
                        <a:pt x="13" y="801"/>
                      </a:lnTo>
                      <a:lnTo>
                        <a:pt x="15" y="889"/>
                      </a:lnTo>
                      <a:lnTo>
                        <a:pt x="12" y="976"/>
                      </a:lnTo>
                      <a:lnTo>
                        <a:pt x="0" y="10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743520" y="1069200"/>
                  <a:ext cx="119880" cy="95040"/>
                </a:xfrm>
                <a:custGeom>
                  <a:avLst/>
                  <a:gdLst/>
                  <a:ahLst/>
                  <a:rect l="l" t="t" r="r" b="b"/>
                  <a:pathLst>
                    <a:path w="416" h="277">
                      <a:moveTo>
                        <a:pt x="0" y="20"/>
                      </a:moveTo>
                      <a:lnTo>
                        <a:pt x="55" y="277"/>
                      </a:lnTo>
                      <a:lnTo>
                        <a:pt x="412" y="97"/>
                      </a:lnTo>
                      <a:lnTo>
                        <a:pt x="416" y="83"/>
                      </a:lnTo>
                      <a:lnTo>
                        <a:pt x="413" y="66"/>
                      </a:lnTo>
                      <a:lnTo>
                        <a:pt x="406" y="51"/>
                      </a:lnTo>
                      <a:lnTo>
                        <a:pt x="393" y="41"/>
                      </a:lnTo>
                      <a:lnTo>
                        <a:pt x="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42800" y="968760"/>
                  <a:ext cx="124920" cy="88920"/>
                </a:xfrm>
                <a:custGeom>
                  <a:avLst/>
                  <a:gdLst/>
                  <a:ahLst/>
                  <a:rect l="l" t="t" r="r" b="b"/>
                  <a:pathLst>
                    <a:path w="434" h="258">
                      <a:moveTo>
                        <a:pt x="0" y="136"/>
                      </a:moveTo>
                      <a:lnTo>
                        <a:pt x="1" y="148"/>
                      </a:lnTo>
                      <a:lnTo>
                        <a:pt x="3" y="160"/>
                      </a:lnTo>
                      <a:lnTo>
                        <a:pt x="4" y="172"/>
                      </a:lnTo>
                      <a:lnTo>
                        <a:pt x="6" y="186"/>
                      </a:lnTo>
                      <a:lnTo>
                        <a:pt x="434" y="258"/>
                      </a:lnTo>
                      <a:lnTo>
                        <a:pt x="38" y="0"/>
                      </a:lnTo>
                      <a:lnTo>
                        <a:pt x="22" y="25"/>
                      </a:lnTo>
                      <a:lnTo>
                        <a:pt x="15" y="60"/>
                      </a:lnTo>
                      <a:lnTo>
                        <a:pt x="10" y="97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765840" y="1132200"/>
                  <a:ext cx="107640" cy="144720"/>
                </a:xfrm>
                <a:custGeom>
                  <a:avLst/>
                  <a:gdLst/>
                  <a:ahLst/>
                  <a:rect l="l" t="t" r="r" b="b"/>
                  <a:pathLst>
                    <a:path w="373" h="419">
                      <a:moveTo>
                        <a:pt x="0" y="198"/>
                      </a:moveTo>
                      <a:lnTo>
                        <a:pt x="67" y="401"/>
                      </a:lnTo>
                      <a:lnTo>
                        <a:pt x="69" y="403"/>
                      </a:lnTo>
                      <a:lnTo>
                        <a:pt x="75" y="407"/>
                      </a:lnTo>
                      <a:lnTo>
                        <a:pt x="82" y="413"/>
                      </a:lnTo>
                      <a:lnTo>
                        <a:pt x="94" y="419"/>
                      </a:lnTo>
                      <a:lnTo>
                        <a:pt x="373" y="50"/>
                      </a:lnTo>
                      <a:lnTo>
                        <a:pt x="372" y="38"/>
                      </a:lnTo>
                      <a:lnTo>
                        <a:pt x="370" y="26"/>
                      </a:lnTo>
                      <a:lnTo>
                        <a:pt x="367" y="15"/>
                      </a:lnTo>
                      <a:lnTo>
                        <a:pt x="366" y="0"/>
                      </a:lnTo>
                      <a:lnTo>
                        <a:pt x="3" y="182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62960" y="879480"/>
                  <a:ext cx="119160" cy="152280"/>
                </a:xfrm>
                <a:custGeom>
                  <a:avLst/>
                  <a:gdLst/>
                  <a:ahLst/>
                  <a:rect l="l" t="t" r="r" b="b"/>
                  <a:pathLst>
                    <a:path w="415" h="442">
                      <a:moveTo>
                        <a:pt x="9" y="192"/>
                      </a:moveTo>
                      <a:lnTo>
                        <a:pt x="415" y="442"/>
                      </a:lnTo>
                      <a:lnTo>
                        <a:pt x="118" y="0"/>
                      </a:lnTo>
                      <a:lnTo>
                        <a:pt x="95" y="13"/>
                      </a:lnTo>
                      <a:lnTo>
                        <a:pt x="76" y="31"/>
                      </a:lnTo>
                      <a:lnTo>
                        <a:pt x="58" y="50"/>
                      </a:lnTo>
                      <a:lnTo>
                        <a:pt x="43" y="73"/>
                      </a:lnTo>
                      <a:lnTo>
                        <a:pt x="30" y="97"/>
                      </a:lnTo>
                      <a:lnTo>
                        <a:pt x="19" y="121"/>
                      </a:lnTo>
                      <a:lnTo>
                        <a:pt x="9" y="144"/>
                      </a:lnTo>
                      <a:lnTo>
                        <a:pt x="0" y="167"/>
                      </a:lnTo>
                      <a:lnTo>
                        <a:pt x="9" y="192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805800" y="1184400"/>
                  <a:ext cx="77040" cy="157320"/>
                </a:xfrm>
                <a:custGeom>
                  <a:avLst/>
                  <a:gdLst/>
                  <a:ahLst/>
                  <a:rect l="l" t="t" r="r" b="b"/>
                  <a:pathLst>
                    <a:path w="268" h="455">
                      <a:moveTo>
                        <a:pt x="1" y="349"/>
                      </a:moveTo>
                      <a:lnTo>
                        <a:pt x="102" y="455"/>
                      </a:lnTo>
                      <a:lnTo>
                        <a:pt x="268" y="0"/>
                      </a:lnTo>
                      <a:lnTo>
                        <a:pt x="0" y="337"/>
                      </a:lnTo>
                      <a:lnTo>
                        <a:pt x="1" y="349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14800" y="812160"/>
                  <a:ext cx="90000" cy="201960"/>
                </a:xfrm>
                <a:custGeom>
                  <a:avLst/>
                  <a:gdLst/>
                  <a:ahLst/>
                  <a:rect l="l" t="t" r="r" b="b"/>
                  <a:pathLst>
                    <a:path w="312" h="585">
                      <a:moveTo>
                        <a:pt x="0" y="137"/>
                      </a:moveTo>
                      <a:lnTo>
                        <a:pt x="312" y="585"/>
                      </a:lnTo>
                      <a:lnTo>
                        <a:pt x="267" y="0"/>
                      </a:lnTo>
                      <a:lnTo>
                        <a:pt x="2" y="111"/>
                      </a:lnTo>
                      <a:lnTo>
                        <a:pt x="3" y="117"/>
                      </a:lnTo>
                      <a:lnTo>
                        <a:pt x="3" y="121"/>
                      </a:lnTo>
                      <a:lnTo>
                        <a:pt x="3" y="128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61600" y="1183320"/>
                  <a:ext cx="62640" cy="190080"/>
                </a:xfrm>
                <a:custGeom>
                  <a:avLst/>
                  <a:gdLst/>
                  <a:ahLst/>
                  <a:rect l="l" t="t" r="r" b="b"/>
                  <a:pathLst>
                    <a:path w="219" h="551">
                      <a:moveTo>
                        <a:pt x="0" y="491"/>
                      </a:moveTo>
                      <a:lnTo>
                        <a:pt x="5" y="511"/>
                      </a:lnTo>
                      <a:lnTo>
                        <a:pt x="219" y="551"/>
                      </a:lnTo>
                      <a:lnTo>
                        <a:pt x="168" y="0"/>
                      </a:lnTo>
                      <a:lnTo>
                        <a:pt x="0" y="491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883560" y="1044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249" h="303">
                      <a:moveTo>
                        <a:pt x="0" y="143"/>
                      </a:moveTo>
                      <a:lnTo>
                        <a:pt x="26" y="227"/>
                      </a:lnTo>
                      <a:lnTo>
                        <a:pt x="86" y="289"/>
                      </a:lnTo>
                      <a:lnTo>
                        <a:pt x="97" y="298"/>
                      </a:lnTo>
                      <a:lnTo>
                        <a:pt x="110" y="301"/>
                      </a:lnTo>
                      <a:lnTo>
                        <a:pt x="123" y="303"/>
                      </a:lnTo>
                      <a:lnTo>
                        <a:pt x="138" y="300"/>
                      </a:lnTo>
                      <a:lnTo>
                        <a:pt x="153" y="295"/>
                      </a:lnTo>
                      <a:lnTo>
                        <a:pt x="167" y="289"/>
                      </a:lnTo>
                      <a:lnTo>
                        <a:pt x="180" y="282"/>
                      </a:lnTo>
                      <a:lnTo>
                        <a:pt x="191" y="274"/>
                      </a:lnTo>
                      <a:lnTo>
                        <a:pt x="203" y="258"/>
                      </a:lnTo>
                      <a:lnTo>
                        <a:pt x="213" y="242"/>
                      </a:lnTo>
                      <a:lnTo>
                        <a:pt x="222" y="228"/>
                      </a:lnTo>
                      <a:lnTo>
                        <a:pt x="229" y="215"/>
                      </a:lnTo>
                      <a:lnTo>
                        <a:pt x="235" y="203"/>
                      </a:lnTo>
                      <a:lnTo>
                        <a:pt x="241" y="191"/>
                      </a:lnTo>
                      <a:lnTo>
                        <a:pt x="246" y="179"/>
                      </a:lnTo>
                      <a:lnTo>
                        <a:pt x="249" y="168"/>
                      </a:lnTo>
                      <a:lnTo>
                        <a:pt x="237" y="160"/>
                      </a:lnTo>
                      <a:lnTo>
                        <a:pt x="225" y="158"/>
                      </a:lnTo>
                      <a:lnTo>
                        <a:pt x="209" y="161"/>
                      </a:lnTo>
                      <a:lnTo>
                        <a:pt x="194" y="167"/>
                      </a:lnTo>
                      <a:lnTo>
                        <a:pt x="176" y="173"/>
                      </a:lnTo>
                      <a:lnTo>
                        <a:pt x="159" y="179"/>
                      </a:lnTo>
                      <a:lnTo>
                        <a:pt x="141" y="183"/>
                      </a:lnTo>
                      <a:lnTo>
                        <a:pt x="125" y="182"/>
                      </a:lnTo>
                      <a:lnTo>
                        <a:pt x="116" y="177"/>
                      </a:lnTo>
                      <a:lnTo>
                        <a:pt x="107" y="171"/>
                      </a:lnTo>
                      <a:lnTo>
                        <a:pt x="97" y="163"/>
                      </a:lnTo>
                      <a:lnTo>
                        <a:pt x="89" y="149"/>
                      </a:lnTo>
                      <a:lnTo>
                        <a:pt x="95" y="133"/>
                      </a:lnTo>
                      <a:lnTo>
                        <a:pt x="106" y="121"/>
                      </a:lnTo>
                      <a:lnTo>
                        <a:pt x="120" y="112"/>
                      </a:lnTo>
                      <a:lnTo>
                        <a:pt x="138" y="104"/>
                      </a:lnTo>
                      <a:lnTo>
                        <a:pt x="158" y="100"/>
                      </a:lnTo>
                      <a:lnTo>
                        <a:pt x="179" y="94"/>
                      </a:lnTo>
                      <a:lnTo>
                        <a:pt x="198" y="86"/>
                      </a:lnTo>
                      <a:lnTo>
                        <a:pt x="216" y="77"/>
                      </a:lnTo>
                      <a:lnTo>
                        <a:pt x="198" y="15"/>
                      </a:lnTo>
                      <a:lnTo>
                        <a:pt x="182" y="7"/>
                      </a:lnTo>
                      <a:lnTo>
                        <a:pt x="165" y="1"/>
                      </a:lnTo>
                      <a:lnTo>
                        <a:pt x="147" y="0"/>
                      </a:lnTo>
                      <a:lnTo>
                        <a:pt x="129" y="1"/>
                      </a:lnTo>
                      <a:lnTo>
                        <a:pt x="110" y="4"/>
                      </a:lnTo>
                      <a:lnTo>
                        <a:pt x="92" y="10"/>
                      </a:lnTo>
                      <a:lnTo>
                        <a:pt x="74" y="18"/>
                      </a:lnTo>
                      <a:lnTo>
                        <a:pt x="58" y="25"/>
                      </a:lnTo>
                      <a:lnTo>
                        <a:pt x="46" y="34"/>
                      </a:lnTo>
                      <a:lnTo>
                        <a:pt x="35" y="46"/>
                      </a:lnTo>
                      <a:lnTo>
                        <a:pt x="26" y="60"/>
                      </a:lnTo>
                      <a:lnTo>
                        <a:pt x="19" y="74"/>
                      </a:lnTo>
                      <a:lnTo>
                        <a:pt x="13" y="91"/>
                      </a:lnTo>
                      <a:lnTo>
                        <a:pt x="9" y="109"/>
                      </a:lnTo>
                      <a:lnTo>
                        <a:pt x="4" y="125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927840" y="1179720"/>
                  <a:ext cx="72360" cy="183240"/>
                </a:xfrm>
                <a:custGeom>
                  <a:avLst/>
                  <a:gdLst/>
                  <a:ahLst/>
                  <a:rect l="l" t="t" r="r" b="b"/>
                  <a:pathLst>
                    <a:path w="253" h="533">
                      <a:moveTo>
                        <a:pt x="0" y="34"/>
                      </a:moveTo>
                      <a:lnTo>
                        <a:pt x="72" y="504"/>
                      </a:lnTo>
                      <a:lnTo>
                        <a:pt x="75" y="513"/>
                      </a:lnTo>
                      <a:lnTo>
                        <a:pt x="81" y="522"/>
                      </a:lnTo>
                      <a:lnTo>
                        <a:pt x="90" y="527"/>
                      </a:lnTo>
                      <a:lnTo>
                        <a:pt x="100" y="531"/>
                      </a:lnTo>
                      <a:lnTo>
                        <a:pt x="111" y="533"/>
                      </a:lnTo>
                      <a:lnTo>
                        <a:pt x="123" y="531"/>
                      </a:lnTo>
                      <a:lnTo>
                        <a:pt x="135" y="528"/>
                      </a:lnTo>
                      <a:lnTo>
                        <a:pt x="147" y="524"/>
                      </a:lnTo>
                      <a:lnTo>
                        <a:pt x="161" y="512"/>
                      </a:lnTo>
                      <a:lnTo>
                        <a:pt x="178" y="501"/>
                      </a:lnTo>
                      <a:lnTo>
                        <a:pt x="193" y="492"/>
                      </a:lnTo>
                      <a:lnTo>
                        <a:pt x="206" y="482"/>
                      </a:lnTo>
                      <a:lnTo>
                        <a:pt x="220" y="473"/>
                      </a:lnTo>
                      <a:lnTo>
                        <a:pt x="232" y="464"/>
                      </a:lnTo>
                      <a:lnTo>
                        <a:pt x="244" y="457"/>
                      </a:lnTo>
                      <a:lnTo>
                        <a:pt x="253" y="448"/>
                      </a:lnTo>
                      <a:lnTo>
                        <a:pt x="33" y="0"/>
                      </a:lnTo>
                      <a:lnTo>
                        <a:pt x="21" y="1"/>
                      </a:lnTo>
                      <a:lnTo>
                        <a:pt x="9" y="7"/>
                      </a:lnTo>
                      <a:lnTo>
                        <a:pt x="0" y="1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11280" y="803160"/>
                  <a:ext cx="52200" cy="207360"/>
                </a:xfrm>
                <a:custGeom>
                  <a:avLst/>
                  <a:gdLst/>
                  <a:ahLst/>
                  <a:rect l="l" t="t" r="r" b="b"/>
                  <a:pathLst>
                    <a:path w="182" h="603">
                      <a:moveTo>
                        <a:pt x="0" y="126"/>
                      </a:moveTo>
                      <a:lnTo>
                        <a:pt x="64" y="603"/>
                      </a:lnTo>
                      <a:lnTo>
                        <a:pt x="182" y="51"/>
                      </a:lnTo>
                      <a:lnTo>
                        <a:pt x="169" y="38"/>
                      </a:lnTo>
                      <a:lnTo>
                        <a:pt x="152" y="26"/>
                      </a:lnTo>
                      <a:lnTo>
                        <a:pt x="133" y="15"/>
                      </a:lnTo>
                      <a:lnTo>
                        <a:pt x="112" y="8"/>
                      </a:lnTo>
                      <a:lnTo>
                        <a:pt x="90" y="3"/>
                      </a:lnTo>
                      <a:lnTo>
                        <a:pt x="67" y="0"/>
                      </a:lnTo>
                      <a:lnTo>
                        <a:pt x="45" y="2"/>
                      </a:lnTo>
                      <a:lnTo>
                        <a:pt x="23" y="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955560" y="1152000"/>
                  <a:ext cx="100440" cy="158400"/>
                </a:xfrm>
                <a:custGeom>
                  <a:avLst/>
                  <a:gdLst/>
                  <a:ahLst/>
                  <a:rect l="l" t="t" r="r" b="b"/>
                  <a:pathLst>
                    <a:path w="348" h="460">
                      <a:moveTo>
                        <a:pt x="0" y="36"/>
                      </a:moveTo>
                      <a:lnTo>
                        <a:pt x="230" y="460"/>
                      </a:lnTo>
                      <a:lnTo>
                        <a:pt x="348" y="241"/>
                      </a:lnTo>
                      <a:lnTo>
                        <a:pt x="342" y="217"/>
                      </a:lnTo>
                      <a:lnTo>
                        <a:pt x="333" y="194"/>
                      </a:lnTo>
                      <a:lnTo>
                        <a:pt x="320" y="173"/>
                      </a:lnTo>
                      <a:lnTo>
                        <a:pt x="306" y="156"/>
                      </a:lnTo>
                      <a:lnTo>
                        <a:pt x="290" y="139"/>
                      </a:lnTo>
                      <a:lnTo>
                        <a:pt x="272" y="124"/>
                      </a:lnTo>
                      <a:lnTo>
                        <a:pt x="251" y="111"/>
                      </a:lnTo>
                      <a:lnTo>
                        <a:pt x="230" y="97"/>
                      </a:lnTo>
                      <a:lnTo>
                        <a:pt x="209" y="85"/>
                      </a:lnTo>
                      <a:lnTo>
                        <a:pt x="185" y="73"/>
                      </a:lnTo>
                      <a:lnTo>
                        <a:pt x="163" y="63"/>
                      </a:lnTo>
                      <a:lnTo>
                        <a:pt x="141" y="53"/>
                      </a:lnTo>
                      <a:lnTo>
                        <a:pt x="117" y="41"/>
                      </a:lnTo>
                      <a:lnTo>
                        <a:pt x="94" y="30"/>
                      </a:lnTo>
                      <a:lnTo>
                        <a:pt x="73" y="18"/>
                      </a:lnTo>
                      <a:lnTo>
                        <a:pt x="53" y="5"/>
                      </a:lnTo>
                      <a:lnTo>
                        <a:pt x="38" y="2"/>
                      </a:lnTo>
                      <a:lnTo>
                        <a:pt x="26" y="0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6" y="5"/>
                      </a:lnTo>
                      <a:lnTo>
                        <a:pt x="3" y="14"/>
                      </a:lnTo>
                      <a:lnTo>
                        <a:pt x="0" y="2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52680" y="844560"/>
                  <a:ext cx="75960" cy="188280"/>
                </a:xfrm>
                <a:custGeom>
                  <a:avLst/>
                  <a:gdLst/>
                  <a:ahLst/>
                  <a:rect l="l" t="t" r="r" b="b"/>
                  <a:pathLst>
                    <a:path w="264" h="546">
                      <a:moveTo>
                        <a:pt x="0" y="503"/>
                      </a:moveTo>
                      <a:lnTo>
                        <a:pt x="0" y="514"/>
                      </a:lnTo>
                      <a:lnTo>
                        <a:pt x="1" y="524"/>
                      </a:lnTo>
                      <a:lnTo>
                        <a:pt x="3" y="536"/>
                      </a:lnTo>
                      <a:lnTo>
                        <a:pt x="10" y="546"/>
                      </a:lnTo>
                      <a:lnTo>
                        <a:pt x="264" y="191"/>
                      </a:lnTo>
                      <a:lnTo>
                        <a:pt x="118" y="0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970680" y="951480"/>
                  <a:ext cx="84600" cy="110880"/>
                </a:xfrm>
                <a:custGeom>
                  <a:avLst/>
                  <a:gdLst/>
                  <a:ahLst/>
                  <a:rect l="l" t="t" r="r" b="b"/>
                  <a:pathLst>
                    <a:path w="294" h="323">
                      <a:moveTo>
                        <a:pt x="1" y="311"/>
                      </a:moveTo>
                      <a:lnTo>
                        <a:pt x="10" y="323"/>
                      </a:lnTo>
                      <a:lnTo>
                        <a:pt x="188" y="236"/>
                      </a:lnTo>
                      <a:lnTo>
                        <a:pt x="277" y="214"/>
                      </a:lnTo>
                      <a:lnTo>
                        <a:pt x="280" y="209"/>
                      </a:lnTo>
                      <a:lnTo>
                        <a:pt x="285" y="203"/>
                      </a:lnTo>
                      <a:lnTo>
                        <a:pt x="289" y="197"/>
                      </a:lnTo>
                      <a:lnTo>
                        <a:pt x="294" y="191"/>
                      </a:lnTo>
                      <a:lnTo>
                        <a:pt x="246" y="0"/>
                      </a:lnTo>
                      <a:lnTo>
                        <a:pt x="0" y="299"/>
                      </a:lnTo>
                      <a:lnTo>
                        <a:pt x="1" y="311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81480" y="10893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324" h="52">
                      <a:moveTo>
                        <a:pt x="13" y="20"/>
                      </a:moveTo>
                      <a:lnTo>
                        <a:pt x="316" y="52"/>
                      </a:lnTo>
                      <a:lnTo>
                        <a:pt x="324" y="40"/>
                      </a:lnTo>
                      <a:lnTo>
                        <a:pt x="322" y="29"/>
                      </a:lnTo>
                      <a:lnTo>
                        <a:pt x="318" y="15"/>
                      </a:lnTo>
                      <a:lnTo>
                        <a:pt x="312" y="0"/>
                      </a:lnTo>
                      <a:lnTo>
                        <a:pt x="0" y="6"/>
                      </a:lnTo>
                      <a:lnTo>
                        <a:pt x="13" y="20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85080" y="1129320"/>
                  <a:ext cx="85680" cy="58320"/>
                </a:xfrm>
                <a:custGeom>
                  <a:avLst/>
                  <a:gdLst/>
                  <a:ahLst/>
                  <a:rect l="l" t="t" r="r" b="b"/>
                  <a:pathLst>
                    <a:path w="298" h="170">
                      <a:moveTo>
                        <a:pt x="13" y="13"/>
                      </a:moveTo>
                      <a:lnTo>
                        <a:pt x="271" y="170"/>
                      </a:lnTo>
                      <a:lnTo>
                        <a:pt x="285" y="138"/>
                      </a:lnTo>
                      <a:lnTo>
                        <a:pt x="295" y="101"/>
                      </a:lnTo>
                      <a:lnTo>
                        <a:pt x="298" y="62"/>
                      </a:lnTo>
                      <a:lnTo>
                        <a:pt x="291" y="24"/>
                      </a:lnTo>
                      <a:lnTo>
                        <a:pt x="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05960" y="1010160"/>
                  <a:ext cx="157320" cy="70200"/>
                </a:xfrm>
                <a:custGeom>
                  <a:avLst/>
                  <a:gdLst/>
                  <a:ahLst/>
                  <a:rect l="l" t="t" r="r" b="b"/>
                  <a:pathLst>
                    <a:path w="547" h="203">
                      <a:moveTo>
                        <a:pt x="21" y="203"/>
                      </a:moveTo>
                      <a:lnTo>
                        <a:pt x="547" y="79"/>
                      </a:lnTo>
                      <a:lnTo>
                        <a:pt x="547" y="64"/>
                      </a:lnTo>
                      <a:lnTo>
                        <a:pt x="538" y="40"/>
                      </a:lnTo>
                      <a:lnTo>
                        <a:pt x="526" y="16"/>
                      </a:lnTo>
                      <a:lnTo>
                        <a:pt x="517" y="0"/>
                      </a:lnTo>
                      <a:lnTo>
                        <a:pt x="0" y="134"/>
                      </a:lnTo>
                      <a:lnTo>
                        <a:pt x="21" y="203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71920" y="954360"/>
                  <a:ext cx="253080" cy="73440"/>
                </a:xfrm>
                <a:custGeom>
                  <a:avLst/>
                  <a:gdLst/>
                  <a:ahLst/>
                  <a:rect l="l" t="t" r="r" b="b"/>
                  <a:pathLst>
                    <a:path w="877" h="214">
                      <a:moveTo>
                        <a:pt x="25" y="214"/>
                      </a:moveTo>
                      <a:lnTo>
                        <a:pt x="877" y="49"/>
                      </a:lnTo>
                      <a:lnTo>
                        <a:pt x="831" y="0"/>
                      </a:lnTo>
                      <a:lnTo>
                        <a:pt x="1" y="154"/>
                      </a:lnTo>
                      <a:lnTo>
                        <a:pt x="0" y="166"/>
                      </a:lnTo>
                      <a:lnTo>
                        <a:pt x="7" y="184"/>
                      </a:lnTo>
                      <a:lnTo>
                        <a:pt x="18" y="202"/>
                      </a:lnTo>
                      <a:lnTo>
                        <a:pt x="25" y="214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29960" y="991440"/>
                  <a:ext cx="101880" cy="74160"/>
                </a:xfrm>
                <a:custGeom>
                  <a:avLst/>
                  <a:gdLst/>
                  <a:ahLst/>
                  <a:rect l="l" t="t" r="r" b="b"/>
                  <a:pathLst>
                    <a:path w="353" h="216">
                      <a:moveTo>
                        <a:pt x="1" y="71"/>
                      </a:moveTo>
                      <a:lnTo>
                        <a:pt x="16" y="86"/>
                      </a:lnTo>
                      <a:lnTo>
                        <a:pt x="29" y="100"/>
                      </a:lnTo>
                      <a:lnTo>
                        <a:pt x="44" y="113"/>
                      </a:lnTo>
                      <a:lnTo>
                        <a:pt x="59" y="126"/>
                      </a:lnTo>
                      <a:lnTo>
                        <a:pt x="74" y="137"/>
                      </a:lnTo>
                      <a:lnTo>
                        <a:pt x="91" y="149"/>
                      </a:lnTo>
                      <a:lnTo>
                        <a:pt x="107" y="159"/>
                      </a:lnTo>
                      <a:lnTo>
                        <a:pt x="123" y="168"/>
                      </a:lnTo>
                      <a:lnTo>
                        <a:pt x="140" y="177"/>
                      </a:lnTo>
                      <a:lnTo>
                        <a:pt x="158" y="185"/>
                      </a:lnTo>
                      <a:lnTo>
                        <a:pt x="177" y="192"/>
                      </a:lnTo>
                      <a:lnTo>
                        <a:pt x="195" y="198"/>
                      </a:lnTo>
                      <a:lnTo>
                        <a:pt x="216" y="204"/>
                      </a:lnTo>
                      <a:lnTo>
                        <a:pt x="237" y="209"/>
                      </a:lnTo>
                      <a:lnTo>
                        <a:pt x="258" y="213"/>
                      </a:lnTo>
                      <a:lnTo>
                        <a:pt x="280" y="216"/>
                      </a:lnTo>
                      <a:lnTo>
                        <a:pt x="298" y="209"/>
                      </a:lnTo>
                      <a:lnTo>
                        <a:pt x="313" y="197"/>
                      </a:lnTo>
                      <a:lnTo>
                        <a:pt x="325" y="182"/>
                      </a:lnTo>
                      <a:lnTo>
                        <a:pt x="335" y="165"/>
                      </a:lnTo>
                      <a:lnTo>
                        <a:pt x="343" y="147"/>
                      </a:lnTo>
                      <a:lnTo>
                        <a:pt x="349" y="126"/>
                      </a:lnTo>
                      <a:lnTo>
                        <a:pt x="352" y="106"/>
                      </a:lnTo>
                      <a:lnTo>
                        <a:pt x="353" y="85"/>
                      </a:lnTo>
                      <a:lnTo>
                        <a:pt x="350" y="56"/>
                      </a:lnTo>
                      <a:lnTo>
                        <a:pt x="346" y="32"/>
                      </a:lnTo>
                      <a:lnTo>
                        <a:pt x="340" y="13"/>
                      </a:lnTo>
                      <a:lnTo>
                        <a:pt x="325" y="0"/>
                      </a:lnTo>
                      <a:lnTo>
                        <a:pt x="0" y="55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33560" y="871920"/>
                  <a:ext cx="108360" cy="85320"/>
                </a:xfrm>
                <a:custGeom>
                  <a:avLst/>
                  <a:gdLst/>
                  <a:ahLst/>
                  <a:rect l="l" t="t" r="r" b="b"/>
                  <a:pathLst>
                    <a:path w="375" h="250">
                      <a:moveTo>
                        <a:pt x="9" y="250"/>
                      </a:moveTo>
                      <a:lnTo>
                        <a:pt x="297" y="205"/>
                      </a:lnTo>
                      <a:lnTo>
                        <a:pt x="375" y="2"/>
                      </a:lnTo>
                      <a:lnTo>
                        <a:pt x="351" y="0"/>
                      </a:lnTo>
                      <a:lnTo>
                        <a:pt x="329" y="2"/>
                      </a:lnTo>
                      <a:lnTo>
                        <a:pt x="305" y="6"/>
                      </a:lnTo>
                      <a:lnTo>
                        <a:pt x="283" y="12"/>
                      </a:lnTo>
                      <a:lnTo>
                        <a:pt x="260" y="21"/>
                      </a:lnTo>
                      <a:lnTo>
                        <a:pt x="238" y="33"/>
                      </a:lnTo>
                      <a:lnTo>
                        <a:pt x="217" y="45"/>
                      </a:lnTo>
                      <a:lnTo>
                        <a:pt x="196" y="58"/>
                      </a:lnTo>
                      <a:lnTo>
                        <a:pt x="175" y="73"/>
                      </a:lnTo>
                      <a:lnTo>
                        <a:pt x="156" y="90"/>
                      </a:lnTo>
                      <a:lnTo>
                        <a:pt x="136" y="106"/>
                      </a:lnTo>
                      <a:lnTo>
                        <a:pt x="117" y="123"/>
                      </a:lnTo>
                      <a:lnTo>
                        <a:pt x="99" y="138"/>
                      </a:lnTo>
                      <a:lnTo>
                        <a:pt x="81" y="154"/>
                      </a:lnTo>
                      <a:lnTo>
                        <a:pt x="63" y="169"/>
                      </a:lnTo>
                      <a:lnTo>
                        <a:pt x="47" y="182"/>
                      </a:lnTo>
                      <a:lnTo>
                        <a:pt x="38" y="194"/>
                      </a:lnTo>
                      <a:lnTo>
                        <a:pt x="30" y="203"/>
                      </a:lnTo>
                      <a:lnTo>
                        <a:pt x="24" y="211"/>
                      </a:lnTo>
                      <a:lnTo>
                        <a:pt x="18" y="218"/>
                      </a:lnTo>
                      <a:lnTo>
                        <a:pt x="14" y="224"/>
                      </a:lnTo>
                      <a:lnTo>
                        <a:pt x="9" y="230"/>
                      </a:lnTo>
                      <a:lnTo>
                        <a:pt x="5" y="236"/>
                      </a:lnTo>
                      <a:lnTo>
                        <a:pt x="0" y="245"/>
                      </a:lnTo>
                      <a:lnTo>
                        <a:pt x="9" y="25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76880" y="609480"/>
                  <a:ext cx="43920" cy="217080"/>
                </a:xfrm>
                <a:custGeom>
                  <a:avLst/>
                  <a:gdLst/>
                  <a:ahLst/>
                  <a:rect l="l" t="t" r="r" b="b"/>
                  <a:pathLst>
                    <a:path w="152" h="630">
                      <a:moveTo>
                        <a:pt x="80" y="63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80" y="6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53560" y="623520"/>
                  <a:ext cx="100080" cy="237960"/>
                </a:xfrm>
                <a:custGeom>
                  <a:avLst/>
                  <a:gdLst/>
                  <a:ahLst/>
                  <a:rect l="l" t="t" r="r" b="b"/>
                  <a:pathLst>
                    <a:path w="349" h="689">
                      <a:moveTo>
                        <a:pt x="0" y="689"/>
                      </a:moveTo>
                      <a:lnTo>
                        <a:pt x="206" y="0"/>
                      </a:lnTo>
                      <a:lnTo>
                        <a:pt x="349" y="51"/>
                      </a:lnTo>
                      <a:lnTo>
                        <a:pt x="0" y="6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177320" y="765720"/>
                  <a:ext cx="177480" cy="148680"/>
                </a:xfrm>
                <a:custGeom>
                  <a:avLst/>
                  <a:gdLst/>
                  <a:ahLst/>
                  <a:rect l="l" t="t" r="r" b="b"/>
                  <a:pathLst>
                    <a:path w="617" h="433">
                      <a:moveTo>
                        <a:pt x="0" y="433"/>
                      </a:moveTo>
                      <a:lnTo>
                        <a:pt x="606" y="0"/>
                      </a:lnTo>
                      <a:lnTo>
                        <a:pt x="617" y="155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304920" y="380880"/>
            <a:ext cx="5410080" cy="5772240"/>
            <a:chOff x="304920" y="380880"/>
            <a:chExt cx="5410080" cy="5772240"/>
          </a:xfrm>
        </p:grpSpPr>
        <p:sp>
          <p:nvSpPr>
            <p:cNvPr id="292" name=""/>
            <p:cNvSpPr/>
            <p:nvPr/>
          </p:nvSpPr>
          <p:spPr>
            <a:xfrm>
              <a:off x="1219320" y="380880"/>
              <a:ext cx="4495680" cy="3353040"/>
            </a:xfrm>
            <a:prstGeom prst="cloudCallout">
              <a:avLst>
                <a:gd name="adj1" fmla="val -33898"/>
                <a:gd name="adj2" fmla="val 59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K ! Ce sont là les </a:t>
              </a:r>
              <a:r>
                <a:rPr b="1" lang="en-US" sz="2800" spc="-1" strike="noStrike">
                  <a:solidFill>
                    <a:srgbClr val="536b4b"/>
                  </a:solidFill>
                  <a:latin typeface="Arial"/>
                </a:rPr>
                <a:t>4 COMPOSANT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 l’E.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’est là-dessus qu’on peut travailler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304920" y="4048200"/>
              <a:ext cx="25905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6172200" y="4572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3124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17524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ar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304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895480" y="457200"/>
            <a:ext cx="1600200" cy="6019920"/>
          </a:xfrm>
          <a:custGeom>
            <a:avLst/>
            <a:gdLst>
              <a:gd name="textAreaLeft" fmla="*/ 0 w 1600200"/>
              <a:gd name="textAreaRight" fmla="*/ 577800 w 160020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685800"/>
            <a:ext cx="2743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je 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295280"/>
            <a:ext cx="1067040" cy="1905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14400" y="609480"/>
            <a:ext cx="1981080" cy="5568840"/>
            <a:chOff x="914400" y="609480"/>
            <a:chExt cx="1981080" cy="5568840"/>
          </a:xfrm>
        </p:grpSpPr>
        <p:grpSp>
          <p:nvGrpSpPr>
            <p:cNvPr id="302" name=""/>
            <p:cNvGrpSpPr/>
            <p:nvPr/>
          </p:nvGrpSpPr>
          <p:grpSpPr>
            <a:xfrm>
              <a:off x="914400" y="3428640"/>
              <a:ext cx="1981080" cy="990720"/>
              <a:chOff x="914400" y="3428640"/>
              <a:chExt cx="1981080" cy="990720"/>
            </a:xfrm>
          </p:grpSpPr>
          <p:sp>
            <p:nvSpPr>
              <p:cNvPr id="303" name=""/>
              <p:cNvSpPr/>
              <p:nvPr/>
            </p:nvSpPr>
            <p:spPr>
              <a:xfrm>
                <a:off x="914400" y="34286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4520" y="3428640"/>
                <a:ext cx="1100520" cy="97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914400" y="2057040"/>
              <a:ext cx="1981080" cy="990720"/>
              <a:chOff x="914400" y="2057040"/>
              <a:chExt cx="1981080" cy="990720"/>
            </a:xfrm>
          </p:grpSpPr>
          <p:sp>
            <p:nvSpPr>
              <p:cNvPr id="306" name=""/>
              <p:cNvSpPr/>
              <p:nvPr/>
            </p:nvSpPr>
            <p:spPr>
              <a:xfrm>
                <a:off x="914400" y="20570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9280" y="2289960"/>
                <a:ext cx="1706040" cy="59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" name=""/>
            <p:cNvGrpSpPr/>
            <p:nvPr/>
          </p:nvGrpSpPr>
          <p:grpSpPr>
            <a:xfrm>
              <a:off x="986040" y="4870080"/>
              <a:ext cx="1837440" cy="1308240"/>
              <a:chOff x="986040" y="4870080"/>
              <a:chExt cx="1837440" cy="1308240"/>
            </a:xfrm>
          </p:grpSpPr>
          <p:sp>
            <p:nvSpPr>
              <p:cNvPr id="309" name=""/>
              <p:cNvSpPr/>
              <p:nvPr/>
            </p:nvSpPr>
            <p:spPr>
              <a:xfrm rot="10776600">
                <a:off x="990000" y="4876200"/>
                <a:ext cx="1828800" cy="1295640"/>
              </a:xfrm>
              <a:custGeom>
                <a:avLst/>
                <a:gdLst>
                  <a:gd name="textAreaLeft" fmla="*/ 402120 w 1828800"/>
                  <a:gd name="textAreaRight" fmla="*/ 1426680 w 1828800"/>
                  <a:gd name="textAreaTop" fmla="*/ 284760 h 1295640"/>
                  <a:gd name="textAreaBottom" fmla="*/ 10108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2200" y="4936320"/>
                <a:ext cx="628560" cy="12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"/>
            <p:cNvGrpSpPr/>
            <p:nvPr/>
          </p:nvGrpSpPr>
          <p:grpSpPr>
            <a:xfrm>
              <a:off x="914400" y="609480"/>
              <a:ext cx="1981080" cy="990360"/>
              <a:chOff x="914400" y="609480"/>
              <a:chExt cx="1981080" cy="990360"/>
            </a:xfrm>
          </p:grpSpPr>
          <p:sp>
            <p:nvSpPr>
              <p:cNvPr id="312" name=""/>
              <p:cNvSpPr/>
              <p:nvPr/>
            </p:nvSpPr>
            <p:spPr>
              <a:xfrm>
                <a:off x="914400" y="609480"/>
                <a:ext cx="1981080" cy="99036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464480" y="609480"/>
                <a:ext cx="825480" cy="873720"/>
                <a:chOff x="1464480" y="609480"/>
                <a:chExt cx="825480" cy="873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464480" y="712800"/>
                  <a:ext cx="825480" cy="770400"/>
                </a:xfrm>
                <a:custGeom>
                  <a:avLst/>
                  <a:gdLst/>
                  <a:ahLst/>
                  <a:rect l="l" t="t" r="r" b="b"/>
                  <a:pathLst>
                    <a:path w="2862" h="2233">
                      <a:moveTo>
                        <a:pt x="1" y="1057"/>
                      </a:moveTo>
                      <a:lnTo>
                        <a:pt x="7" y="1133"/>
                      </a:lnTo>
                      <a:lnTo>
                        <a:pt x="15" y="1209"/>
                      </a:lnTo>
                      <a:lnTo>
                        <a:pt x="25" y="1285"/>
                      </a:lnTo>
                      <a:lnTo>
                        <a:pt x="37" y="1363"/>
                      </a:lnTo>
                      <a:lnTo>
                        <a:pt x="54" y="1439"/>
                      </a:lnTo>
                      <a:lnTo>
                        <a:pt x="73" y="1514"/>
                      </a:lnTo>
                      <a:lnTo>
                        <a:pt x="97" y="1588"/>
                      </a:lnTo>
                      <a:lnTo>
                        <a:pt x="124" y="1660"/>
                      </a:lnTo>
                      <a:lnTo>
                        <a:pt x="154" y="1730"/>
                      </a:lnTo>
                      <a:lnTo>
                        <a:pt x="188" y="1799"/>
                      </a:lnTo>
                      <a:lnTo>
                        <a:pt x="228" y="1863"/>
                      </a:lnTo>
                      <a:lnTo>
                        <a:pt x="271" y="1924"/>
                      </a:lnTo>
                      <a:lnTo>
                        <a:pt x="321" y="1982"/>
                      </a:lnTo>
                      <a:lnTo>
                        <a:pt x="373" y="2036"/>
                      </a:lnTo>
                      <a:lnTo>
                        <a:pt x="433" y="2085"/>
                      </a:lnTo>
                      <a:lnTo>
                        <a:pt x="497" y="2129"/>
                      </a:lnTo>
                      <a:lnTo>
                        <a:pt x="528" y="2150"/>
                      </a:lnTo>
                      <a:lnTo>
                        <a:pt x="561" y="2167"/>
                      </a:lnTo>
                      <a:lnTo>
                        <a:pt x="595" y="2182"/>
                      </a:lnTo>
                      <a:lnTo>
                        <a:pt x="631" y="2196"/>
                      </a:lnTo>
                      <a:lnTo>
                        <a:pt x="667" y="2208"/>
                      </a:lnTo>
                      <a:lnTo>
                        <a:pt x="703" y="2217"/>
                      </a:lnTo>
                      <a:lnTo>
                        <a:pt x="742" y="2224"/>
                      </a:lnTo>
                      <a:lnTo>
                        <a:pt x="779" y="2229"/>
                      </a:lnTo>
                      <a:lnTo>
                        <a:pt x="818" y="2232"/>
                      </a:lnTo>
                      <a:lnTo>
                        <a:pt x="856" y="2233"/>
                      </a:lnTo>
                      <a:lnTo>
                        <a:pt x="895" y="2233"/>
                      </a:lnTo>
                      <a:lnTo>
                        <a:pt x="934" y="2232"/>
                      </a:lnTo>
                      <a:lnTo>
                        <a:pt x="973" y="2227"/>
                      </a:lnTo>
                      <a:lnTo>
                        <a:pt x="1012" y="2223"/>
                      </a:lnTo>
                      <a:lnTo>
                        <a:pt x="1050" y="2215"/>
                      </a:lnTo>
                      <a:lnTo>
                        <a:pt x="1088" y="2208"/>
                      </a:lnTo>
                      <a:lnTo>
                        <a:pt x="1150" y="2178"/>
                      </a:lnTo>
                      <a:lnTo>
                        <a:pt x="1209" y="2145"/>
                      </a:lnTo>
                      <a:lnTo>
                        <a:pt x="1265" y="2109"/>
                      </a:lnTo>
                      <a:lnTo>
                        <a:pt x="1319" y="2069"/>
                      </a:lnTo>
                      <a:lnTo>
                        <a:pt x="1371" y="2027"/>
                      </a:lnTo>
                      <a:lnTo>
                        <a:pt x="1419" y="1982"/>
                      </a:lnTo>
                      <a:lnTo>
                        <a:pt x="1464" y="1933"/>
                      </a:lnTo>
                      <a:lnTo>
                        <a:pt x="1506" y="1882"/>
                      </a:lnTo>
                      <a:lnTo>
                        <a:pt x="1544" y="1829"/>
                      </a:lnTo>
                      <a:lnTo>
                        <a:pt x="1579" y="1772"/>
                      </a:lnTo>
                      <a:lnTo>
                        <a:pt x="1610" y="1712"/>
                      </a:lnTo>
                      <a:lnTo>
                        <a:pt x="1638" y="1651"/>
                      </a:lnTo>
                      <a:lnTo>
                        <a:pt x="1662" y="1587"/>
                      </a:lnTo>
                      <a:lnTo>
                        <a:pt x="1683" y="1520"/>
                      </a:lnTo>
                      <a:lnTo>
                        <a:pt x="1700" y="1449"/>
                      </a:lnTo>
                      <a:lnTo>
                        <a:pt x="1711" y="1378"/>
                      </a:lnTo>
                      <a:lnTo>
                        <a:pt x="1716" y="1285"/>
                      </a:lnTo>
                      <a:lnTo>
                        <a:pt x="1716" y="1190"/>
                      </a:lnTo>
                      <a:lnTo>
                        <a:pt x="1716" y="1099"/>
                      </a:lnTo>
                      <a:lnTo>
                        <a:pt x="1719" y="1015"/>
                      </a:lnTo>
                      <a:lnTo>
                        <a:pt x="1753" y="1006"/>
                      </a:lnTo>
                      <a:lnTo>
                        <a:pt x="1789" y="996"/>
                      </a:lnTo>
                      <a:lnTo>
                        <a:pt x="1825" y="985"/>
                      </a:lnTo>
                      <a:lnTo>
                        <a:pt x="1862" y="975"/>
                      </a:lnTo>
                      <a:lnTo>
                        <a:pt x="1900" y="964"/>
                      </a:lnTo>
                      <a:lnTo>
                        <a:pt x="1937" y="954"/>
                      </a:lnTo>
                      <a:lnTo>
                        <a:pt x="1974" y="942"/>
                      </a:lnTo>
                      <a:lnTo>
                        <a:pt x="2013" y="931"/>
                      </a:lnTo>
                      <a:lnTo>
                        <a:pt x="2050" y="923"/>
                      </a:lnTo>
                      <a:lnTo>
                        <a:pt x="2089" y="914"/>
                      </a:lnTo>
                      <a:lnTo>
                        <a:pt x="2128" y="905"/>
                      </a:lnTo>
                      <a:lnTo>
                        <a:pt x="2167" y="899"/>
                      </a:lnTo>
                      <a:lnTo>
                        <a:pt x="2204" y="893"/>
                      </a:lnTo>
                      <a:lnTo>
                        <a:pt x="2243" y="888"/>
                      </a:lnTo>
                      <a:lnTo>
                        <a:pt x="2280" y="885"/>
                      </a:lnTo>
                      <a:lnTo>
                        <a:pt x="2317" y="885"/>
                      </a:lnTo>
                      <a:lnTo>
                        <a:pt x="2331" y="905"/>
                      </a:lnTo>
                      <a:lnTo>
                        <a:pt x="2346" y="923"/>
                      </a:lnTo>
                      <a:lnTo>
                        <a:pt x="2364" y="939"/>
                      </a:lnTo>
                      <a:lnTo>
                        <a:pt x="2382" y="955"/>
                      </a:lnTo>
                      <a:lnTo>
                        <a:pt x="2399" y="972"/>
                      </a:lnTo>
                      <a:lnTo>
                        <a:pt x="2420" y="987"/>
                      </a:lnTo>
                      <a:lnTo>
                        <a:pt x="2441" y="1002"/>
                      </a:lnTo>
                      <a:lnTo>
                        <a:pt x="2464" y="1014"/>
                      </a:lnTo>
                      <a:lnTo>
                        <a:pt x="2486" y="1027"/>
                      </a:lnTo>
                      <a:lnTo>
                        <a:pt x="2510" y="1039"/>
                      </a:lnTo>
                      <a:lnTo>
                        <a:pt x="2534" y="1049"/>
                      </a:lnTo>
                      <a:lnTo>
                        <a:pt x="2559" y="1060"/>
                      </a:lnTo>
                      <a:lnTo>
                        <a:pt x="2583" y="1070"/>
                      </a:lnTo>
                      <a:lnTo>
                        <a:pt x="2608" y="1079"/>
                      </a:lnTo>
                      <a:lnTo>
                        <a:pt x="2634" y="1087"/>
                      </a:lnTo>
                      <a:lnTo>
                        <a:pt x="2659" y="1094"/>
                      </a:lnTo>
                      <a:lnTo>
                        <a:pt x="2684" y="1082"/>
                      </a:lnTo>
                      <a:lnTo>
                        <a:pt x="2708" y="1067"/>
                      </a:lnTo>
                      <a:lnTo>
                        <a:pt x="2728" y="1048"/>
                      </a:lnTo>
                      <a:lnTo>
                        <a:pt x="2746" y="1026"/>
                      </a:lnTo>
                      <a:lnTo>
                        <a:pt x="2761" y="1002"/>
                      </a:lnTo>
                      <a:lnTo>
                        <a:pt x="2774" y="976"/>
                      </a:lnTo>
                      <a:lnTo>
                        <a:pt x="2784" y="948"/>
                      </a:lnTo>
                      <a:lnTo>
                        <a:pt x="2793" y="921"/>
                      </a:lnTo>
                      <a:lnTo>
                        <a:pt x="2790" y="885"/>
                      </a:lnTo>
                      <a:lnTo>
                        <a:pt x="2783" y="855"/>
                      </a:lnTo>
                      <a:lnTo>
                        <a:pt x="2775" y="828"/>
                      </a:lnTo>
                      <a:lnTo>
                        <a:pt x="2768" y="800"/>
                      </a:lnTo>
                      <a:lnTo>
                        <a:pt x="2774" y="784"/>
                      </a:lnTo>
                      <a:lnTo>
                        <a:pt x="2786" y="770"/>
                      </a:lnTo>
                      <a:lnTo>
                        <a:pt x="2801" y="760"/>
                      </a:lnTo>
                      <a:lnTo>
                        <a:pt x="2817" y="749"/>
                      </a:lnTo>
                      <a:lnTo>
                        <a:pt x="2834" y="737"/>
                      </a:lnTo>
                      <a:lnTo>
                        <a:pt x="2849" y="724"/>
                      </a:lnTo>
                      <a:lnTo>
                        <a:pt x="2858" y="706"/>
                      </a:lnTo>
                      <a:lnTo>
                        <a:pt x="2862" y="682"/>
                      </a:lnTo>
                      <a:lnTo>
                        <a:pt x="2856" y="676"/>
                      </a:lnTo>
                      <a:lnTo>
                        <a:pt x="2853" y="673"/>
                      </a:lnTo>
                      <a:lnTo>
                        <a:pt x="2850" y="670"/>
                      </a:lnTo>
                      <a:lnTo>
                        <a:pt x="2838" y="660"/>
                      </a:lnTo>
                      <a:lnTo>
                        <a:pt x="2832" y="660"/>
                      </a:lnTo>
                      <a:lnTo>
                        <a:pt x="2828" y="661"/>
                      </a:lnTo>
                      <a:lnTo>
                        <a:pt x="2822" y="661"/>
                      </a:lnTo>
                      <a:lnTo>
                        <a:pt x="2816" y="663"/>
                      </a:lnTo>
                      <a:lnTo>
                        <a:pt x="2810" y="664"/>
                      </a:lnTo>
                      <a:lnTo>
                        <a:pt x="2804" y="664"/>
                      </a:lnTo>
                      <a:lnTo>
                        <a:pt x="2796" y="666"/>
                      </a:lnTo>
                      <a:lnTo>
                        <a:pt x="2789" y="666"/>
                      </a:lnTo>
                      <a:lnTo>
                        <a:pt x="2777" y="646"/>
                      </a:lnTo>
                      <a:lnTo>
                        <a:pt x="2772" y="624"/>
                      </a:lnTo>
                      <a:lnTo>
                        <a:pt x="2777" y="603"/>
                      </a:lnTo>
                      <a:lnTo>
                        <a:pt x="2784" y="579"/>
                      </a:lnTo>
                      <a:lnTo>
                        <a:pt x="2795" y="555"/>
                      </a:lnTo>
                      <a:lnTo>
                        <a:pt x="2805" y="530"/>
                      </a:lnTo>
                      <a:lnTo>
                        <a:pt x="2813" y="503"/>
                      </a:lnTo>
                      <a:lnTo>
                        <a:pt x="2814" y="476"/>
                      </a:lnTo>
                      <a:lnTo>
                        <a:pt x="2778" y="409"/>
                      </a:lnTo>
                      <a:lnTo>
                        <a:pt x="2759" y="403"/>
                      </a:lnTo>
                      <a:lnTo>
                        <a:pt x="2741" y="400"/>
                      </a:lnTo>
                      <a:lnTo>
                        <a:pt x="2722" y="399"/>
                      </a:lnTo>
                      <a:lnTo>
                        <a:pt x="2702" y="402"/>
                      </a:lnTo>
                      <a:lnTo>
                        <a:pt x="2683" y="406"/>
                      </a:lnTo>
                      <a:lnTo>
                        <a:pt x="2664" y="412"/>
                      </a:lnTo>
                      <a:lnTo>
                        <a:pt x="2644" y="421"/>
                      </a:lnTo>
                      <a:lnTo>
                        <a:pt x="2625" y="430"/>
                      </a:lnTo>
                      <a:lnTo>
                        <a:pt x="2605" y="440"/>
                      </a:lnTo>
                      <a:lnTo>
                        <a:pt x="2587" y="452"/>
                      </a:lnTo>
                      <a:lnTo>
                        <a:pt x="2570" y="464"/>
                      </a:lnTo>
                      <a:lnTo>
                        <a:pt x="2552" y="476"/>
                      </a:lnTo>
                      <a:lnTo>
                        <a:pt x="2535" y="488"/>
                      </a:lnTo>
                      <a:lnTo>
                        <a:pt x="2519" y="499"/>
                      </a:lnTo>
                      <a:lnTo>
                        <a:pt x="2504" y="509"/>
                      </a:lnTo>
                      <a:lnTo>
                        <a:pt x="2489" y="518"/>
                      </a:lnTo>
                      <a:lnTo>
                        <a:pt x="2473" y="533"/>
                      </a:lnTo>
                      <a:lnTo>
                        <a:pt x="2456" y="548"/>
                      </a:lnTo>
                      <a:lnTo>
                        <a:pt x="2440" y="563"/>
                      </a:lnTo>
                      <a:lnTo>
                        <a:pt x="2425" y="578"/>
                      </a:lnTo>
                      <a:lnTo>
                        <a:pt x="2410" y="593"/>
                      </a:lnTo>
                      <a:lnTo>
                        <a:pt x="2395" y="606"/>
                      </a:lnTo>
                      <a:lnTo>
                        <a:pt x="2380" y="621"/>
                      </a:lnTo>
                      <a:lnTo>
                        <a:pt x="2367" y="636"/>
                      </a:lnTo>
                      <a:lnTo>
                        <a:pt x="2352" y="651"/>
                      </a:lnTo>
                      <a:lnTo>
                        <a:pt x="2338" y="666"/>
                      </a:lnTo>
                      <a:lnTo>
                        <a:pt x="2323" y="679"/>
                      </a:lnTo>
                      <a:lnTo>
                        <a:pt x="2308" y="694"/>
                      </a:lnTo>
                      <a:lnTo>
                        <a:pt x="2295" y="709"/>
                      </a:lnTo>
                      <a:lnTo>
                        <a:pt x="2280" y="722"/>
                      </a:lnTo>
                      <a:lnTo>
                        <a:pt x="2265" y="737"/>
                      </a:lnTo>
                      <a:lnTo>
                        <a:pt x="2249" y="751"/>
                      </a:lnTo>
                      <a:lnTo>
                        <a:pt x="1695" y="843"/>
                      </a:lnTo>
                      <a:lnTo>
                        <a:pt x="1668" y="784"/>
                      </a:lnTo>
                      <a:lnTo>
                        <a:pt x="1641" y="725"/>
                      </a:lnTo>
                      <a:lnTo>
                        <a:pt x="1614" y="667"/>
                      </a:lnTo>
                      <a:lnTo>
                        <a:pt x="1586" y="611"/>
                      </a:lnTo>
                      <a:lnTo>
                        <a:pt x="1556" y="554"/>
                      </a:lnTo>
                      <a:lnTo>
                        <a:pt x="1525" y="499"/>
                      </a:lnTo>
                      <a:lnTo>
                        <a:pt x="1494" y="445"/>
                      </a:lnTo>
                      <a:lnTo>
                        <a:pt x="1459" y="391"/>
                      </a:lnTo>
                      <a:lnTo>
                        <a:pt x="1423" y="342"/>
                      </a:lnTo>
                      <a:lnTo>
                        <a:pt x="1385" y="293"/>
                      </a:lnTo>
                      <a:lnTo>
                        <a:pt x="1344" y="248"/>
                      </a:lnTo>
                      <a:lnTo>
                        <a:pt x="1301" y="205"/>
                      </a:lnTo>
                      <a:lnTo>
                        <a:pt x="1255" y="164"/>
                      </a:lnTo>
                      <a:lnTo>
                        <a:pt x="1204" y="125"/>
                      </a:lnTo>
                      <a:lnTo>
                        <a:pt x="1152" y="93"/>
                      </a:lnTo>
                      <a:lnTo>
                        <a:pt x="1095" y="61"/>
                      </a:lnTo>
                      <a:lnTo>
                        <a:pt x="1071" y="55"/>
                      </a:lnTo>
                      <a:lnTo>
                        <a:pt x="1049" y="51"/>
                      </a:lnTo>
                      <a:lnTo>
                        <a:pt x="1025" y="48"/>
                      </a:lnTo>
                      <a:lnTo>
                        <a:pt x="1003" y="45"/>
                      </a:lnTo>
                      <a:lnTo>
                        <a:pt x="980" y="42"/>
                      </a:lnTo>
                      <a:lnTo>
                        <a:pt x="958" y="39"/>
                      </a:lnTo>
                      <a:lnTo>
                        <a:pt x="937" y="37"/>
                      </a:lnTo>
                      <a:lnTo>
                        <a:pt x="915" y="34"/>
                      </a:lnTo>
                      <a:lnTo>
                        <a:pt x="894" y="33"/>
                      </a:lnTo>
                      <a:lnTo>
                        <a:pt x="873" y="30"/>
                      </a:lnTo>
                      <a:lnTo>
                        <a:pt x="852" y="27"/>
                      </a:lnTo>
                      <a:lnTo>
                        <a:pt x="831" y="22"/>
                      </a:lnTo>
                      <a:lnTo>
                        <a:pt x="810" y="18"/>
                      </a:lnTo>
                      <a:lnTo>
                        <a:pt x="791" y="13"/>
                      </a:lnTo>
                      <a:lnTo>
                        <a:pt x="770" y="7"/>
                      </a:lnTo>
                      <a:lnTo>
                        <a:pt x="750" y="0"/>
                      </a:lnTo>
                      <a:lnTo>
                        <a:pt x="440" y="81"/>
                      </a:lnTo>
                      <a:lnTo>
                        <a:pt x="389" y="125"/>
                      </a:lnTo>
                      <a:lnTo>
                        <a:pt x="340" y="173"/>
                      </a:lnTo>
                      <a:lnTo>
                        <a:pt x="294" y="224"/>
                      </a:lnTo>
                      <a:lnTo>
                        <a:pt x="251" y="276"/>
                      </a:lnTo>
                      <a:lnTo>
                        <a:pt x="210" y="331"/>
                      </a:lnTo>
                      <a:lnTo>
                        <a:pt x="173" y="388"/>
                      </a:lnTo>
                      <a:lnTo>
                        <a:pt x="139" y="448"/>
                      </a:lnTo>
                      <a:lnTo>
                        <a:pt x="109" y="508"/>
                      </a:lnTo>
                      <a:lnTo>
                        <a:pt x="80" y="572"/>
                      </a:lnTo>
                      <a:lnTo>
                        <a:pt x="58" y="636"/>
                      </a:lnTo>
                      <a:lnTo>
                        <a:pt x="39" y="703"/>
                      </a:lnTo>
                      <a:lnTo>
                        <a:pt x="22" y="770"/>
                      </a:lnTo>
                      <a:lnTo>
                        <a:pt x="10" y="840"/>
                      </a:lnTo>
                      <a:lnTo>
                        <a:pt x="3" y="911"/>
                      </a:lnTo>
                      <a:lnTo>
                        <a:pt x="0" y="984"/>
                      </a:lnTo>
                      <a:lnTo>
                        <a:pt x="1" y="10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80680" y="803160"/>
                  <a:ext cx="200160" cy="659160"/>
                </a:xfrm>
                <a:custGeom>
                  <a:avLst/>
                  <a:gdLst/>
                  <a:ahLst/>
                  <a:rect l="l" t="t" r="r" b="b"/>
                  <a:pathLst>
                    <a:path w="695" h="1912">
                      <a:moveTo>
                        <a:pt x="0" y="945"/>
                      </a:moveTo>
                      <a:lnTo>
                        <a:pt x="15" y="994"/>
                      </a:lnTo>
                      <a:lnTo>
                        <a:pt x="25" y="1043"/>
                      </a:lnTo>
                      <a:lnTo>
                        <a:pt x="33" y="1092"/>
                      </a:lnTo>
                      <a:lnTo>
                        <a:pt x="40" y="1142"/>
                      </a:lnTo>
                      <a:lnTo>
                        <a:pt x="49" y="1192"/>
                      </a:lnTo>
                      <a:lnTo>
                        <a:pt x="60" y="1242"/>
                      </a:lnTo>
                      <a:lnTo>
                        <a:pt x="76" y="1292"/>
                      </a:lnTo>
                      <a:lnTo>
                        <a:pt x="97" y="1343"/>
                      </a:lnTo>
                      <a:lnTo>
                        <a:pt x="118" y="1394"/>
                      </a:lnTo>
                      <a:lnTo>
                        <a:pt x="140" y="1442"/>
                      </a:lnTo>
                      <a:lnTo>
                        <a:pt x="166" y="1489"/>
                      </a:lnTo>
                      <a:lnTo>
                        <a:pt x="194" y="1536"/>
                      </a:lnTo>
                      <a:lnTo>
                        <a:pt x="225" y="1581"/>
                      </a:lnTo>
                      <a:lnTo>
                        <a:pt x="258" y="1622"/>
                      </a:lnTo>
                      <a:lnTo>
                        <a:pt x="293" y="1663"/>
                      </a:lnTo>
                      <a:lnTo>
                        <a:pt x="330" y="1701"/>
                      </a:lnTo>
                      <a:lnTo>
                        <a:pt x="370" y="1737"/>
                      </a:lnTo>
                      <a:lnTo>
                        <a:pt x="410" y="1772"/>
                      </a:lnTo>
                      <a:lnTo>
                        <a:pt x="454" y="1801"/>
                      </a:lnTo>
                      <a:lnTo>
                        <a:pt x="499" y="1830"/>
                      </a:lnTo>
                      <a:lnTo>
                        <a:pt x="546" y="1855"/>
                      </a:lnTo>
                      <a:lnTo>
                        <a:pt x="594" y="1878"/>
                      </a:lnTo>
                      <a:lnTo>
                        <a:pt x="645" y="1897"/>
                      </a:lnTo>
                      <a:lnTo>
                        <a:pt x="695" y="1912"/>
                      </a:lnTo>
                      <a:lnTo>
                        <a:pt x="631" y="1881"/>
                      </a:lnTo>
                      <a:lnTo>
                        <a:pt x="569" y="1845"/>
                      </a:lnTo>
                      <a:lnTo>
                        <a:pt x="509" y="1804"/>
                      </a:lnTo>
                      <a:lnTo>
                        <a:pt x="451" y="1760"/>
                      </a:lnTo>
                      <a:lnTo>
                        <a:pt x="397" y="1712"/>
                      </a:lnTo>
                      <a:lnTo>
                        <a:pt x="346" y="1658"/>
                      </a:lnTo>
                      <a:lnTo>
                        <a:pt x="299" y="1603"/>
                      </a:lnTo>
                      <a:lnTo>
                        <a:pt x="254" y="1543"/>
                      </a:lnTo>
                      <a:lnTo>
                        <a:pt x="214" y="1479"/>
                      </a:lnTo>
                      <a:lnTo>
                        <a:pt x="176" y="1413"/>
                      </a:lnTo>
                      <a:lnTo>
                        <a:pt x="143" y="1343"/>
                      </a:lnTo>
                      <a:lnTo>
                        <a:pt x="117" y="1270"/>
                      </a:lnTo>
                      <a:lnTo>
                        <a:pt x="93" y="1195"/>
                      </a:lnTo>
                      <a:lnTo>
                        <a:pt x="75" y="1116"/>
                      </a:lnTo>
                      <a:lnTo>
                        <a:pt x="61" y="1036"/>
                      </a:lnTo>
                      <a:lnTo>
                        <a:pt x="52" y="952"/>
                      </a:lnTo>
                      <a:lnTo>
                        <a:pt x="49" y="885"/>
                      </a:lnTo>
                      <a:lnTo>
                        <a:pt x="49" y="818"/>
                      </a:lnTo>
                      <a:lnTo>
                        <a:pt x="49" y="752"/>
                      </a:lnTo>
                      <a:lnTo>
                        <a:pt x="51" y="688"/>
                      </a:lnTo>
                      <a:lnTo>
                        <a:pt x="54" y="624"/>
                      </a:lnTo>
                      <a:lnTo>
                        <a:pt x="60" y="562"/>
                      </a:lnTo>
                      <a:lnTo>
                        <a:pt x="69" y="500"/>
                      </a:lnTo>
                      <a:lnTo>
                        <a:pt x="79" y="440"/>
                      </a:lnTo>
                      <a:lnTo>
                        <a:pt x="93" y="380"/>
                      </a:lnTo>
                      <a:lnTo>
                        <a:pt x="109" y="322"/>
                      </a:lnTo>
                      <a:lnTo>
                        <a:pt x="130" y="265"/>
                      </a:lnTo>
                      <a:lnTo>
                        <a:pt x="154" y="210"/>
                      </a:lnTo>
                      <a:lnTo>
                        <a:pt x="181" y="156"/>
                      </a:lnTo>
                      <a:lnTo>
                        <a:pt x="214" y="103"/>
                      </a:lnTo>
                      <a:lnTo>
                        <a:pt x="249" y="50"/>
                      </a:lnTo>
                      <a:lnTo>
                        <a:pt x="290" y="0"/>
                      </a:lnTo>
                      <a:lnTo>
                        <a:pt x="240" y="46"/>
                      </a:lnTo>
                      <a:lnTo>
                        <a:pt x="197" y="94"/>
                      </a:lnTo>
                      <a:lnTo>
                        <a:pt x="158" y="145"/>
                      </a:lnTo>
                      <a:lnTo>
                        <a:pt x="125" y="198"/>
                      </a:lnTo>
                      <a:lnTo>
                        <a:pt x="97" y="254"/>
                      </a:lnTo>
                      <a:lnTo>
                        <a:pt x="73" y="310"/>
                      </a:lnTo>
                      <a:lnTo>
                        <a:pt x="54" y="368"/>
                      </a:lnTo>
                      <a:lnTo>
                        <a:pt x="39" y="430"/>
                      </a:lnTo>
                      <a:lnTo>
                        <a:pt x="25" y="491"/>
                      </a:lnTo>
                      <a:lnTo>
                        <a:pt x="17" y="554"/>
                      </a:lnTo>
                      <a:lnTo>
                        <a:pt x="9" y="618"/>
                      </a:lnTo>
                      <a:lnTo>
                        <a:pt x="5" y="682"/>
                      </a:lnTo>
                      <a:lnTo>
                        <a:pt x="2" y="748"/>
                      </a:lnTo>
                      <a:lnTo>
                        <a:pt x="0" y="813"/>
                      </a:lnTo>
                      <a:lnTo>
                        <a:pt x="0" y="87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13440" y="740520"/>
                  <a:ext cx="432000" cy="709560"/>
                </a:xfrm>
                <a:custGeom>
                  <a:avLst/>
                  <a:gdLst/>
                  <a:ahLst/>
                  <a:rect l="l" t="t" r="r" b="b"/>
                  <a:pathLst>
                    <a:path w="1498" h="2057">
                      <a:moveTo>
                        <a:pt x="0" y="1061"/>
                      </a:moveTo>
                      <a:lnTo>
                        <a:pt x="4" y="1125"/>
                      </a:lnTo>
                      <a:lnTo>
                        <a:pt x="13" y="1188"/>
                      </a:lnTo>
                      <a:lnTo>
                        <a:pt x="24" y="1251"/>
                      </a:lnTo>
                      <a:lnTo>
                        <a:pt x="37" y="1313"/>
                      </a:lnTo>
                      <a:lnTo>
                        <a:pt x="52" y="1374"/>
                      </a:lnTo>
                      <a:lnTo>
                        <a:pt x="72" y="1436"/>
                      </a:lnTo>
                      <a:lnTo>
                        <a:pt x="94" y="1494"/>
                      </a:lnTo>
                      <a:lnTo>
                        <a:pt x="118" y="1552"/>
                      </a:lnTo>
                      <a:lnTo>
                        <a:pt x="146" y="1607"/>
                      </a:lnTo>
                      <a:lnTo>
                        <a:pt x="178" y="1661"/>
                      </a:lnTo>
                      <a:lnTo>
                        <a:pt x="212" y="1712"/>
                      </a:lnTo>
                      <a:lnTo>
                        <a:pt x="249" y="1761"/>
                      </a:lnTo>
                      <a:lnTo>
                        <a:pt x="291" y="1807"/>
                      </a:lnTo>
                      <a:lnTo>
                        <a:pt x="336" y="1851"/>
                      </a:lnTo>
                      <a:lnTo>
                        <a:pt x="384" y="1889"/>
                      </a:lnTo>
                      <a:lnTo>
                        <a:pt x="436" y="1927"/>
                      </a:lnTo>
                      <a:lnTo>
                        <a:pt x="467" y="1946"/>
                      </a:lnTo>
                      <a:lnTo>
                        <a:pt x="500" y="1964"/>
                      </a:lnTo>
                      <a:lnTo>
                        <a:pt x="534" y="1980"/>
                      </a:lnTo>
                      <a:lnTo>
                        <a:pt x="569" y="1997"/>
                      </a:lnTo>
                      <a:lnTo>
                        <a:pt x="604" y="2012"/>
                      </a:lnTo>
                      <a:lnTo>
                        <a:pt x="642" y="2025"/>
                      </a:lnTo>
                      <a:lnTo>
                        <a:pt x="679" y="2036"/>
                      </a:lnTo>
                      <a:lnTo>
                        <a:pt x="718" y="2045"/>
                      </a:lnTo>
                      <a:lnTo>
                        <a:pt x="755" y="2052"/>
                      </a:lnTo>
                      <a:lnTo>
                        <a:pt x="794" y="2055"/>
                      </a:lnTo>
                      <a:lnTo>
                        <a:pt x="833" y="2057"/>
                      </a:lnTo>
                      <a:lnTo>
                        <a:pt x="873" y="2054"/>
                      </a:lnTo>
                      <a:lnTo>
                        <a:pt x="912" y="2049"/>
                      </a:lnTo>
                      <a:lnTo>
                        <a:pt x="952" y="2039"/>
                      </a:lnTo>
                      <a:lnTo>
                        <a:pt x="991" y="2025"/>
                      </a:lnTo>
                      <a:lnTo>
                        <a:pt x="1030" y="2007"/>
                      </a:lnTo>
                      <a:lnTo>
                        <a:pt x="1076" y="1973"/>
                      </a:lnTo>
                      <a:lnTo>
                        <a:pt x="1119" y="1939"/>
                      </a:lnTo>
                      <a:lnTo>
                        <a:pt x="1161" y="1901"/>
                      </a:lnTo>
                      <a:lnTo>
                        <a:pt x="1201" y="1861"/>
                      </a:lnTo>
                      <a:lnTo>
                        <a:pt x="1239" y="1821"/>
                      </a:lnTo>
                      <a:lnTo>
                        <a:pt x="1274" y="1777"/>
                      </a:lnTo>
                      <a:lnTo>
                        <a:pt x="1309" y="1734"/>
                      </a:lnTo>
                      <a:lnTo>
                        <a:pt x="1340" y="1688"/>
                      </a:lnTo>
                      <a:lnTo>
                        <a:pt x="1368" y="1640"/>
                      </a:lnTo>
                      <a:lnTo>
                        <a:pt x="1395" y="1591"/>
                      </a:lnTo>
                      <a:lnTo>
                        <a:pt x="1418" y="1540"/>
                      </a:lnTo>
                      <a:lnTo>
                        <a:pt x="1439" y="1488"/>
                      </a:lnTo>
                      <a:lnTo>
                        <a:pt x="1456" y="1434"/>
                      </a:lnTo>
                      <a:lnTo>
                        <a:pt x="1473" y="1380"/>
                      </a:lnTo>
                      <a:lnTo>
                        <a:pt x="1485" y="1324"/>
                      </a:lnTo>
                      <a:lnTo>
                        <a:pt x="1494" y="1265"/>
                      </a:lnTo>
                      <a:lnTo>
                        <a:pt x="1498" y="1197"/>
                      </a:lnTo>
                      <a:lnTo>
                        <a:pt x="1494" y="1130"/>
                      </a:lnTo>
                      <a:lnTo>
                        <a:pt x="1486" y="1067"/>
                      </a:lnTo>
                      <a:lnTo>
                        <a:pt x="1479" y="1003"/>
                      </a:lnTo>
                      <a:lnTo>
                        <a:pt x="1476" y="989"/>
                      </a:lnTo>
                      <a:lnTo>
                        <a:pt x="1468" y="980"/>
                      </a:lnTo>
                      <a:lnTo>
                        <a:pt x="1459" y="977"/>
                      </a:lnTo>
                      <a:lnTo>
                        <a:pt x="1449" y="979"/>
                      </a:lnTo>
                      <a:lnTo>
                        <a:pt x="1436" y="982"/>
                      </a:lnTo>
                      <a:lnTo>
                        <a:pt x="1422" y="986"/>
                      </a:lnTo>
                      <a:lnTo>
                        <a:pt x="1409" y="994"/>
                      </a:lnTo>
                      <a:lnTo>
                        <a:pt x="1395" y="1000"/>
                      </a:lnTo>
                      <a:lnTo>
                        <a:pt x="1391" y="1095"/>
                      </a:lnTo>
                      <a:lnTo>
                        <a:pt x="1382" y="1192"/>
                      </a:lnTo>
                      <a:lnTo>
                        <a:pt x="1365" y="1289"/>
                      </a:lnTo>
                      <a:lnTo>
                        <a:pt x="1345" y="1385"/>
                      </a:lnTo>
                      <a:lnTo>
                        <a:pt x="1315" y="1477"/>
                      </a:lnTo>
                      <a:lnTo>
                        <a:pt x="1279" y="1565"/>
                      </a:lnTo>
                      <a:lnTo>
                        <a:pt x="1236" y="1649"/>
                      </a:lnTo>
                      <a:lnTo>
                        <a:pt x="1185" y="1725"/>
                      </a:lnTo>
                      <a:lnTo>
                        <a:pt x="1161" y="1748"/>
                      </a:lnTo>
                      <a:lnTo>
                        <a:pt x="1134" y="1770"/>
                      </a:lnTo>
                      <a:lnTo>
                        <a:pt x="1107" y="1791"/>
                      </a:lnTo>
                      <a:lnTo>
                        <a:pt x="1077" y="1810"/>
                      </a:lnTo>
                      <a:lnTo>
                        <a:pt x="1046" y="1830"/>
                      </a:lnTo>
                      <a:lnTo>
                        <a:pt x="1013" y="1848"/>
                      </a:lnTo>
                      <a:lnTo>
                        <a:pt x="980" y="1864"/>
                      </a:lnTo>
                      <a:lnTo>
                        <a:pt x="946" y="1877"/>
                      </a:lnTo>
                      <a:lnTo>
                        <a:pt x="910" y="1889"/>
                      </a:lnTo>
                      <a:lnTo>
                        <a:pt x="873" y="1900"/>
                      </a:lnTo>
                      <a:lnTo>
                        <a:pt x="836" y="1907"/>
                      </a:lnTo>
                      <a:lnTo>
                        <a:pt x="798" y="1912"/>
                      </a:lnTo>
                      <a:lnTo>
                        <a:pt x="761" y="1913"/>
                      </a:lnTo>
                      <a:lnTo>
                        <a:pt x="722" y="1912"/>
                      </a:lnTo>
                      <a:lnTo>
                        <a:pt x="683" y="1907"/>
                      </a:lnTo>
                      <a:lnTo>
                        <a:pt x="645" y="1900"/>
                      </a:lnTo>
                      <a:lnTo>
                        <a:pt x="603" y="1885"/>
                      </a:lnTo>
                      <a:lnTo>
                        <a:pt x="563" y="1868"/>
                      </a:lnTo>
                      <a:lnTo>
                        <a:pt x="524" y="1848"/>
                      </a:lnTo>
                      <a:lnTo>
                        <a:pt x="488" y="1825"/>
                      </a:lnTo>
                      <a:lnTo>
                        <a:pt x="452" y="1801"/>
                      </a:lnTo>
                      <a:lnTo>
                        <a:pt x="419" y="1774"/>
                      </a:lnTo>
                      <a:lnTo>
                        <a:pt x="388" y="1746"/>
                      </a:lnTo>
                      <a:lnTo>
                        <a:pt x="358" y="1715"/>
                      </a:lnTo>
                      <a:lnTo>
                        <a:pt x="330" y="1682"/>
                      </a:lnTo>
                      <a:lnTo>
                        <a:pt x="303" y="1648"/>
                      </a:lnTo>
                      <a:lnTo>
                        <a:pt x="279" y="1612"/>
                      </a:lnTo>
                      <a:lnTo>
                        <a:pt x="257" y="1574"/>
                      </a:lnTo>
                      <a:lnTo>
                        <a:pt x="236" y="1536"/>
                      </a:lnTo>
                      <a:lnTo>
                        <a:pt x="216" y="1495"/>
                      </a:lnTo>
                      <a:lnTo>
                        <a:pt x="200" y="1454"/>
                      </a:lnTo>
                      <a:lnTo>
                        <a:pt x="185" y="1412"/>
                      </a:lnTo>
                      <a:lnTo>
                        <a:pt x="166" y="1337"/>
                      </a:lnTo>
                      <a:lnTo>
                        <a:pt x="148" y="1262"/>
                      </a:lnTo>
                      <a:lnTo>
                        <a:pt x="133" y="1186"/>
                      </a:lnTo>
                      <a:lnTo>
                        <a:pt x="121" y="1110"/>
                      </a:lnTo>
                      <a:lnTo>
                        <a:pt x="112" y="1034"/>
                      </a:lnTo>
                      <a:lnTo>
                        <a:pt x="107" y="958"/>
                      </a:lnTo>
                      <a:lnTo>
                        <a:pt x="106" y="882"/>
                      </a:lnTo>
                      <a:lnTo>
                        <a:pt x="110" y="807"/>
                      </a:lnTo>
                      <a:lnTo>
                        <a:pt x="119" y="734"/>
                      </a:lnTo>
                      <a:lnTo>
                        <a:pt x="134" y="662"/>
                      </a:lnTo>
                      <a:lnTo>
                        <a:pt x="155" y="592"/>
                      </a:lnTo>
                      <a:lnTo>
                        <a:pt x="181" y="525"/>
                      </a:lnTo>
                      <a:lnTo>
                        <a:pt x="215" y="459"/>
                      </a:lnTo>
                      <a:lnTo>
                        <a:pt x="255" y="398"/>
                      </a:lnTo>
                      <a:lnTo>
                        <a:pt x="303" y="338"/>
                      </a:lnTo>
                      <a:lnTo>
                        <a:pt x="358" y="283"/>
                      </a:lnTo>
                      <a:lnTo>
                        <a:pt x="388" y="264"/>
                      </a:lnTo>
                      <a:lnTo>
                        <a:pt x="419" y="243"/>
                      </a:lnTo>
                      <a:lnTo>
                        <a:pt x="452" y="224"/>
                      </a:lnTo>
                      <a:lnTo>
                        <a:pt x="484" y="204"/>
                      </a:lnTo>
                      <a:lnTo>
                        <a:pt x="518" y="185"/>
                      </a:lnTo>
                      <a:lnTo>
                        <a:pt x="551" y="167"/>
                      </a:lnTo>
                      <a:lnTo>
                        <a:pt x="585" y="150"/>
                      </a:lnTo>
                      <a:lnTo>
                        <a:pt x="621" y="135"/>
                      </a:lnTo>
                      <a:lnTo>
                        <a:pt x="655" y="124"/>
                      </a:lnTo>
                      <a:lnTo>
                        <a:pt x="691" y="115"/>
                      </a:lnTo>
                      <a:lnTo>
                        <a:pt x="727" y="107"/>
                      </a:lnTo>
                      <a:lnTo>
                        <a:pt x="763" y="104"/>
                      </a:lnTo>
                      <a:lnTo>
                        <a:pt x="798" y="104"/>
                      </a:lnTo>
                      <a:lnTo>
                        <a:pt x="834" y="109"/>
                      </a:lnTo>
                      <a:lnTo>
                        <a:pt x="870" y="118"/>
                      </a:lnTo>
                      <a:lnTo>
                        <a:pt x="906" y="131"/>
                      </a:lnTo>
                      <a:lnTo>
                        <a:pt x="955" y="156"/>
                      </a:lnTo>
                      <a:lnTo>
                        <a:pt x="1001" y="186"/>
                      </a:lnTo>
                      <a:lnTo>
                        <a:pt x="1042" y="218"/>
                      </a:lnTo>
                      <a:lnTo>
                        <a:pt x="1079" y="250"/>
                      </a:lnTo>
                      <a:lnTo>
                        <a:pt x="1113" y="286"/>
                      </a:lnTo>
                      <a:lnTo>
                        <a:pt x="1143" y="324"/>
                      </a:lnTo>
                      <a:lnTo>
                        <a:pt x="1170" y="364"/>
                      </a:lnTo>
                      <a:lnTo>
                        <a:pt x="1195" y="406"/>
                      </a:lnTo>
                      <a:lnTo>
                        <a:pt x="1218" y="449"/>
                      </a:lnTo>
                      <a:lnTo>
                        <a:pt x="1239" y="494"/>
                      </a:lnTo>
                      <a:lnTo>
                        <a:pt x="1258" y="540"/>
                      </a:lnTo>
                      <a:lnTo>
                        <a:pt x="1276" y="586"/>
                      </a:lnTo>
                      <a:lnTo>
                        <a:pt x="1292" y="634"/>
                      </a:lnTo>
                      <a:lnTo>
                        <a:pt x="1307" y="683"/>
                      </a:lnTo>
                      <a:lnTo>
                        <a:pt x="1324" y="733"/>
                      </a:lnTo>
                      <a:lnTo>
                        <a:pt x="1339" y="783"/>
                      </a:lnTo>
                      <a:lnTo>
                        <a:pt x="1431" y="755"/>
                      </a:lnTo>
                      <a:lnTo>
                        <a:pt x="1416" y="698"/>
                      </a:lnTo>
                      <a:lnTo>
                        <a:pt x="1400" y="641"/>
                      </a:lnTo>
                      <a:lnTo>
                        <a:pt x="1380" y="588"/>
                      </a:lnTo>
                      <a:lnTo>
                        <a:pt x="1358" y="536"/>
                      </a:lnTo>
                      <a:lnTo>
                        <a:pt x="1334" y="483"/>
                      </a:lnTo>
                      <a:lnTo>
                        <a:pt x="1307" y="434"/>
                      </a:lnTo>
                      <a:lnTo>
                        <a:pt x="1277" y="388"/>
                      </a:lnTo>
                      <a:lnTo>
                        <a:pt x="1248" y="341"/>
                      </a:lnTo>
                      <a:lnTo>
                        <a:pt x="1213" y="298"/>
                      </a:lnTo>
                      <a:lnTo>
                        <a:pt x="1177" y="256"/>
                      </a:lnTo>
                      <a:lnTo>
                        <a:pt x="1139" y="216"/>
                      </a:lnTo>
                      <a:lnTo>
                        <a:pt x="1098" y="177"/>
                      </a:lnTo>
                      <a:lnTo>
                        <a:pt x="1057" y="141"/>
                      </a:lnTo>
                      <a:lnTo>
                        <a:pt x="1012" y="107"/>
                      </a:lnTo>
                      <a:lnTo>
                        <a:pt x="964" y="76"/>
                      </a:lnTo>
                      <a:lnTo>
                        <a:pt x="915" y="46"/>
                      </a:lnTo>
                      <a:lnTo>
                        <a:pt x="876" y="31"/>
                      </a:lnTo>
                      <a:lnTo>
                        <a:pt x="836" y="21"/>
                      </a:lnTo>
                      <a:lnTo>
                        <a:pt x="795" y="12"/>
                      </a:lnTo>
                      <a:lnTo>
                        <a:pt x="754" y="4"/>
                      </a:lnTo>
                      <a:lnTo>
                        <a:pt x="713" y="1"/>
                      </a:lnTo>
                      <a:lnTo>
                        <a:pt x="673" y="0"/>
                      </a:lnTo>
                      <a:lnTo>
                        <a:pt x="633" y="1"/>
                      </a:lnTo>
                      <a:lnTo>
                        <a:pt x="594" y="6"/>
                      </a:lnTo>
                      <a:lnTo>
                        <a:pt x="555" y="12"/>
                      </a:lnTo>
                      <a:lnTo>
                        <a:pt x="518" y="22"/>
                      </a:lnTo>
                      <a:lnTo>
                        <a:pt x="481" y="32"/>
                      </a:lnTo>
                      <a:lnTo>
                        <a:pt x="446" y="47"/>
                      </a:lnTo>
                      <a:lnTo>
                        <a:pt x="412" y="64"/>
                      </a:lnTo>
                      <a:lnTo>
                        <a:pt x="381" y="83"/>
                      </a:lnTo>
                      <a:lnTo>
                        <a:pt x="351" y="106"/>
                      </a:lnTo>
                      <a:lnTo>
                        <a:pt x="322" y="130"/>
                      </a:lnTo>
                      <a:lnTo>
                        <a:pt x="295" y="161"/>
                      </a:lnTo>
                      <a:lnTo>
                        <a:pt x="267" y="192"/>
                      </a:lnTo>
                      <a:lnTo>
                        <a:pt x="242" y="224"/>
                      </a:lnTo>
                      <a:lnTo>
                        <a:pt x="215" y="256"/>
                      </a:lnTo>
                      <a:lnTo>
                        <a:pt x="190" y="289"/>
                      </a:lnTo>
                      <a:lnTo>
                        <a:pt x="166" y="322"/>
                      </a:lnTo>
                      <a:lnTo>
                        <a:pt x="143" y="356"/>
                      </a:lnTo>
                      <a:lnTo>
                        <a:pt x="122" y="391"/>
                      </a:lnTo>
                      <a:lnTo>
                        <a:pt x="101" y="427"/>
                      </a:lnTo>
                      <a:lnTo>
                        <a:pt x="84" y="464"/>
                      </a:lnTo>
                      <a:lnTo>
                        <a:pt x="66" y="501"/>
                      </a:lnTo>
                      <a:lnTo>
                        <a:pt x="52" y="540"/>
                      </a:lnTo>
                      <a:lnTo>
                        <a:pt x="39" y="580"/>
                      </a:lnTo>
                      <a:lnTo>
                        <a:pt x="28" y="622"/>
                      </a:lnTo>
                      <a:lnTo>
                        <a:pt x="21" y="664"/>
                      </a:lnTo>
                      <a:lnTo>
                        <a:pt x="15" y="709"/>
                      </a:lnTo>
                      <a:lnTo>
                        <a:pt x="13" y="801"/>
                      </a:lnTo>
                      <a:lnTo>
                        <a:pt x="15" y="889"/>
                      </a:lnTo>
                      <a:lnTo>
                        <a:pt x="12" y="976"/>
                      </a:lnTo>
                      <a:lnTo>
                        <a:pt x="0" y="10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562040" y="1069200"/>
                  <a:ext cx="119880" cy="95040"/>
                </a:xfrm>
                <a:custGeom>
                  <a:avLst/>
                  <a:gdLst/>
                  <a:ahLst/>
                  <a:rect l="l" t="t" r="r" b="b"/>
                  <a:pathLst>
                    <a:path w="416" h="277">
                      <a:moveTo>
                        <a:pt x="0" y="20"/>
                      </a:moveTo>
                      <a:lnTo>
                        <a:pt x="55" y="277"/>
                      </a:lnTo>
                      <a:lnTo>
                        <a:pt x="412" y="97"/>
                      </a:lnTo>
                      <a:lnTo>
                        <a:pt x="416" y="83"/>
                      </a:lnTo>
                      <a:lnTo>
                        <a:pt x="413" y="66"/>
                      </a:lnTo>
                      <a:lnTo>
                        <a:pt x="406" y="51"/>
                      </a:lnTo>
                      <a:lnTo>
                        <a:pt x="393" y="41"/>
                      </a:lnTo>
                      <a:lnTo>
                        <a:pt x="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61320" y="968760"/>
                  <a:ext cx="124920" cy="88920"/>
                </a:xfrm>
                <a:custGeom>
                  <a:avLst/>
                  <a:gdLst/>
                  <a:ahLst/>
                  <a:rect l="l" t="t" r="r" b="b"/>
                  <a:pathLst>
                    <a:path w="434" h="258">
                      <a:moveTo>
                        <a:pt x="0" y="136"/>
                      </a:moveTo>
                      <a:lnTo>
                        <a:pt x="1" y="148"/>
                      </a:lnTo>
                      <a:lnTo>
                        <a:pt x="3" y="160"/>
                      </a:lnTo>
                      <a:lnTo>
                        <a:pt x="4" y="172"/>
                      </a:lnTo>
                      <a:lnTo>
                        <a:pt x="6" y="186"/>
                      </a:lnTo>
                      <a:lnTo>
                        <a:pt x="434" y="258"/>
                      </a:lnTo>
                      <a:lnTo>
                        <a:pt x="38" y="0"/>
                      </a:lnTo>
                      <a:lnTo>
                        <a:pt x="22" y="25"/>
                      </a:lnTo>
                      <a:lnTo>
                        <a:pt x="15" y="60"/>
                      </a:lnTo>
                      <a:lnTo>
                        <a:pt x="10" y="97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584360" y="1132200"/>
                  <a:ext cx="107640" cy="144720"/>
                </a:xfrm>
                <a:custGeom>
                  <a:avLst/>
                  <a:gdLst/>
                  <a:ahLst/>
                  <a:rect l="l" t="t" r="r" b="b"/>
                  <a:pathLst>
                    <a:path w="373" h="419">
                      <a:moveTo>
                        <a:pt x="0" y="198"/>
                      </a:moveTo>
                      <a:lnTo>
                        <a:pt x="67" y="401"/>
                      </a:lnTo>
                      <a:lnTo>
                        <a:pt x="69" y="403"/>
                      </a:lnTo>
                      <a:lnTo>
                        <a:pt x="75" y="407"/>
                      </a:lnTo>
                      <a:lnTo>
                        <a:pt x="82" y="413"/>
                      </a:lnTo>
                      <a:lnTo>
                        <a:pt x="94" y="419"/>
                      </a:lnTo>
                      <a:lnTo>
                        <a:pt x="373" y="50"/>
                      </a:lnTo>
                      <a:lnTo>
                        <a:pt x="372" y="38"/>
                      </a:lnTo>
                      <a:lnTo>
                        <a:pt x="370" y="26"/>
                      </a:lnTo>
                      <a:lnTo>
                        <a:pt x="367" y="15"/>
                      </a:lnTo>
                      <a:lnTo>
                        <a:pt x="366" y="0"/>
                      </a:lnTo>
                      <a:lnTo>
                        <a:pt x="3" y="182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581480" y="879480"/>
                  <a:ext cx="119160" cy="152280"/>
                </a:xfrm>
                <a:custGeom>
                  <a:avLst/>
                  <a:gdLst/>
                  <a:ahLst/>
                  <a:rect l="l" t="t" r="r" b="b"/>
                  <a:pathLst>
                    <a:path w="415" h="442">
                      <a:moveTo>
                        <a:pt x="9" y="192"/>
                      </a:moveTo>
                      <a:lnTo>
                        <a:pt x="415" y="442"/>
                      </a:lnTo>
                      <a:lnTo>
                        <a:pt x="118" y="0"/>
                      </a:lnTo>
                      <a:lnTo>
                        <a:pt x="95" y="13"/>
                      </a:lnTo>
                      <a:lnTo>
                        <a:pt x="76" y="31"/>
                      </a:lnTo>
                      <a:lnTo>
                        <a:pt x="58" y="50"/>
                      </a:lnTo>
                      <a:lnTo>
                        <a:pt x="43" y="73"/>
                      </a:lnTo>
                      <a:lnTo>
                        <a:pt x="30" y="97"/>
                      </a:lnTo>
                      <a:lnTo>
                        <a:pt x="19" y="121"/>
                      </a:lnTo>
                      <a:lnTo>
                        <a:pt x="9" y="144"/>
                      </a:lnTo>
                      <a:lnTo>
                        <a:pt x="0" y="167"/>
                      </a:lnTo>
                      <a:lnTo>
                        <a:pt x="9" y="192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24320" y="1184400"/>
                  <a:ext cx="77040" cy="157320"/>
                </a:xfrm>
                <a:custGeom>
                  <a:avLst/>
                  <a:gdLst/>
                  <a:ahLst/>
                  <a:rect l="l" t="t" r="r" b="b"/>
                  <a:pathLst>
                    <a:path w="268" h="455">
                      <a:moveTo>
                        <a:pt x="1" y="349"/>
                      </a:moveTo>
                      <a:lnTo>
                        <a:pt x="102" y="455"/>
                      </a:lnTo>
                      <a:lnTo>
                        <a:pt x="268" y="0"/>
                      </a:lnTo>
                      <a:lnTo>
                        <a:pt x="0" y="337"/>
                      </a:lnTo>
                      <a:lnTo>
                        <a:pt x="1" y="349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33320" y="812160"/>
                  <a:ext cx="90000" cy="201960"/>
                </a:xfrm>
                <a:custGeom>
                  <a:avLst/>
                  <a:gdLst/>
                  <a:ahLst/>
                  <a:rect l="l" t="t" r="r" b="b"/>
                  <a:pathLst>
                    <a:path w="312" h="585">
                      <a:moveTo>
                        <a:pt x="0" y="137"/>
                      </a:moveTo>
                      <a:lnTo>
                        <a:pt x="312" y="585"/>
                      </a:lnTo>
                      <a:lnTo>
                        <a:pt x="267" y="0"/>
                      </a:lnTo>
                      <a:lnTo>
                        <a:pt x="2" y="111"/>
                      </a:lnTo>
                      <a:lnTo>
                        <a:pt x="3" y="117"/>
                      </a:lnTo>
                      <a:lnTo>
                        <a:pt x="3" y="121"/>
                      </a:lnTo>
                      <a:lnTo>
                        <a:pt x="3" y="128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80120" y="1183320"/>
                  <a:ext cx="62640" cy="190080"/>
                </a:xfrm>
                <a:custGeom>
                  <a:avLst/>
                  <a:gdLst/>
                  <a:ahLst/>
                  <a:rect l="l" t="t" r="r" b="b"/>
                  <a:pathLst>
                    <a:path w="219" h="551">
                      <a:moveTo>
                        <a:pt x="0" y="491"/>
                      </a:moveTo>
                      <a:lnTo>
                        <a:pt x="5" y="511"/>
                      </a:lnTo>
                      <a:lnTo>
                        <a:pt x="219" y="551"/>
                      </a:lnTo>
                      <a:lnTo>
                        <a:pt x="168" y="0"/>
                      </a:lnTo>
                      <a:lnTo>
                        <a:pt x="0" y="491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1044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249" h="303">
                      <a:moveTo>
                        <a:pt x="0" y="143"/>
                      </a:moveTo>
                      <a:lnTo>
                        <a:pt x="26" y="227"/>
                      </a:lnTo>
                      <a:lnTo>
                        <a:pt x="86" y="289"/>
                      </a:lnTo>
                      <a:lnTo>
                        <a:pt x="97" y="298"/>
                      </a:lnTo>
                      <a:lnTo>
                        <a:pt x="110" y="301"/>
                      </a:lnTo>
                      <a:lnTo>
                        <a:pt x="123" y="303"/>
                      </a:lnTo>
                      <a:lnTo>
                        <a:pt x="138" y="300"/>
                      </a:lnTo>
                      <a:lnTo>
                        <a:pt x="153" y="295"/>
                      </a:lnTo>
                      <a:lnTo>
                        <a:pt x="167" y="289"/>
                      </a:lnTo>
                      <a:lnTo>
                        <a:pt x="180" y="282"/>
                      </a:lnTo>
                      <a:lnTo>
                        <a:pt x="191" y="274"/>
                      </a:lnTo>
                      <a:lnTo>
                        <a:pt x="203" y="258"/>
                      </a:lnTo>
                      <a:lnTo>
                        <a:pt x="213" y="242"/>
                      </a:lnTo>
                      <a:lnTo>
                        <a:pt x="222" y="228"/>
                      </a:lnTo>
                      <a:lnTo>
                        <a:pt x="229" y="215"/>
                      </a:lnTo>
                      <a:lnTo>
                        <a:pt x="235" y="203"/>
                      </a:lnTo>
                      <a:lnTo>
                        <a:pt x="241" y="191"/>
                      </a:lnTo>
                      <a:lnTo>
                        <a:pt x="246" y="179"/>
                      </a:lnTo>
                      <a:lnTo>
                        <a:pt x="249" y="168"/>
                      </a:lnTo>
                      <a:lnTo>
                        <a:pt x="237" y="160"/>
                      </a:lnTo>
                      <a:lnTo>
                        <a:pt x="225" y="158"/>
                      </a:lnTo>
                      <a:lnTo>
                        <a:pt x="209" y="161"/>
                      </a:lnTo>
                      <a:lnTo>
                        <a:pt x="194" y="167"/>
                      </a:lnTo>
                      <a:lnTo>
                        <a:pt x="176" y="173"/>
                      </a:lnTo>
                      <a:lnTo>
                        <a:pt x="159" y="179"/>
                      </a:lnTo>
                      <a:lnTo>
                        <a:pt x="141" y="183"/>
                      </a:lnTo>
                      <a:lnTo>
                        <a:pt x="125" y="182"/>
                      </a:lnTo>
                      <a:lnTo>
                        <a:pt x="116" y="177"/>
                      </a:lnTo>
                      <a:lnTo>
                        <a:pt x="107" y="171"/>
                      </a:lnTo>
                      <a:lnTo>
                        <a:pt x="97" y="163"/>
                      </a:lnTo>
                      <a:lnTo>
                        <a:pt x="89" y="149"/>
                      </a:lnTo>
                      <a:lnTo>
                        <a:pt x="95" y="133"/>
                      </a:lnTo>
                      <a:lnTo>
                        <a:pt x="106" y="121"/>
                      </a:lnTo>
                      <a:lnTo>
                        <a:pt x="120" y="112"/>
                      </a:lnTo>
                      <a:lnTo>
                        <a:pt x="138" y="104"/>
                      </a:lnTo>
                      <a:lnTo>
                        <a:pt x="158" y="100"/>
                      </a:lnTo>
                      <a:lnTo>
                        <a:pt x="179" y="94"/>
                      </a:lnTo>
                      <a:lnTo>
                        <a:pt x="198" y="86"/>
                      </a:lnTo>
                      <a:lnTo>
                        <a:pt x="216" y="77"/>
                      </a:lnTo>
                      <a:lnTo>
                        <a:pt x="198" y="15"/>
                      </a:lnTo>
                      <a:lnTo>
                        <a:pt x="182" y="7"/>
                      </a:lnTo>
                      <a:lnTo>
                        <a:pt x="165" y="1"/>
                      </a:lnTo>
                      <a:lnTo>
                        <a:pt x="147" y="0"/>
                      </a:lnTo>
                      <a:lnTo>
                        <a:pt x="129" y="1"/>
                      </a:lnTo>
                      <a:lnTo>
                        <a:pt x="110" y="4"/>
                      </a:lnTo>
                      <a:lnTo>
                        <a:pt x="92" y="10"/>
                      </a:lnTo>
                      <a:lnTo>
                        <a:pt x="74" y="18"/>
                      </a:lnTo>
                      <a:lnTo>
                        <a:pt x="58" y="25"/>
                      </a:lnTo>
                      <a:lnTo>
                        <a:pt x="46" y="34"/>
                      </a:lnTo>
                      <a:lnTo>
                        <a:pt x="35" y="46"/>
                      </a:lnTo>
                      <a:lnTo>
                        <a:pt x="26" y="60"/>
                      </a:lnTo>
                      <a:lnTo>
                        <a:pt x="19" y="74"/>
                      </a:lnTo>
                      <a:lnTo>
                        <a:pt x="13" y="91"/>
                      </a:lnTo>
                      <a:lnTo>
                        <a:pt x="9" y="109"/>
                      </a:lnTo>
                      <a:lnTo>
                        <a:pt x="4" y="125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46360" y="1179720"/>
                  <a:ext cx="72360" cy="183240"/>
                </a:xfrm>
                <a:custGeom>
                  <a:avLst/>
                  <a:gdLst/>
                  <a:ahLst/>
                  <a:rect l="l" t="t" r="r" b="b"/>
                  <a:pathLst>
                    <a:path w="253" h="533">
                      <a:moveTo>
                        <a:pt x="0" y="34"/>
                      </a:moveTo>
                      <a:lnTo>
                        <a:pt x="72" y="504"/>
                      </a:lnTo>
                      <a:lnTo>
                        <a:pt x="75" y="513"/>
                      </a:lnTo>
                      <a:lnTo>
                        <a:pt x="81" y="522"/>
                      </a:lnTo>
                      <a:lnTo>
                        <a:pt x="90" y="527"/>
                      </a:lnTo>
                      <a:lnTo>
                        <a:pt x="100" y="531"/>
                      </a:lnTo>
                      <a:lnTo>
                        <a:pt x="111" y="533"/>
                      </a:lnTo>
                      <a:lnTo>
                        <a:pt x="123" y="531"/>
                      </a:lnTo>
                      <a:lnTo>
                        <a:pt x="135" y="528"/>
                      </a:lnTo>
                      <a:lnTo>
                        <a:pt x="147" y="524"/>
                      </a:lnTo>
                      <a:lnTo>
                        <a:pt x="161" y="512"/>
                      </a:lnTo>
                      <a:lnTo>
                        <a:pt x="178" y="501"/>
                      </a:lnTo>
                      <a:lnTo>
                        <a:pt x="193" y="492"/>
                      </a:lnTo>
                      <a:lnTo>
                        <a:pt x="206" y="482"/>
                      </a:lnTo>
                      <a:lnTo>
                        <a:pt x="220" y="473"/>
                      </a:lnTo>
                      <a:lnTo>
                        <a:pt x="232" y="464"/>
                      </a:lnTo>
                      <a:lnTo>
                        <a:pt x="244" y="457"/>
                      </a:lnTo>
                      <a:lnTo>
                        <a:pt x="253" y="448"/>
                      </a:lnTo>
                      <a:lnTo>
                        <a:pt x="33" y="0"/>
                      </a:lnTo>
                      <a:lnTo>
                        <a:pt x="21" y="1"/>
                      </a:lnTo>
                      <a:lnTo>
                        <a:pt x="9" y="7"/>
                      </a:lnTo>
                      <a:lnTo>
                        <a:pt x="0" y="1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29800" y="803160"/>
                  <a:ext cx="52200" cy="207360"/>
                </a:xfrm>
                <a:custGeom>
                  <a:avLst/>
                  <a:gdLst/>
                  <a:ahLst/>
                  <a:rect l="l" t="t" r="r" b="b"/>
                  <a:pathLst>
                    <a:path w="182" h="603">
                      <a:moveTo>
                        <a:pt x="0" y="126"/>
                      </a:moveTo>
                      <a:lnTo>
                        <a:pt x="64" y="603"/>
                      </a:lnTo>
                      <a:lnTo>
                        <a:pt x="182" y="51"/>
                      </a:lnTo>
                      <a:lnTo>
                        <a:pt x="169" y="38"/>
                      </a:lnTo>
                      <a:lnTo>
                        <a:pt x="152" y="26"/>
                      </a:lnTo>
                      <a:lnTo>
                        <a:pt x="133" y="15"/>
                      </a:lnTo>
                      <a:lnTo>
                        <a:pt x="112" y="8"/>
                      </a:lnTo>
                      <a:lnTo>
                        <a:pt x="90" y="3"/>
                      </a:lnTo>
                      <a:lnTo>
                        <a:pt x="67" y="0"/>
                      </a:lnTo>
                      <a:lnTo>
                        <a:pt x="45" y="2"/>
                      </a:lnTo>
                      <a:lnTo>
                        <a:pt x="23" y="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74080" y="1152000"/>
                  <a:ext cx="100440" cy="158400"/>
                </a:xfrm>
                <a:custGeom>
                  <a:avLst/>
                  <a:gdLst/>
                  <a:ahLst/>
                  <a:rect l="l" t="t" r="r" b="b"/>
                  <a:pathLst>
                    <a:path w="348" h="460">
                      <a:moveTo>
                        <a:pt x="0" y="36"/>
                      </a:moveTo>
                      <a:lnTo>
                        <a:pt x="230" y="460"/>
                      </a:lnTo>
                      <a:lnTo>
                        <a:pt x="348" y="241"/>
                      </a:lnTo>
                      <a:lnTo>
                        <a:pt x="342" y="217"/>
                      </a:lnTo>
                      <a:lnTo>
                        <a:pt x="333" y="194"/>
                      </a:lnTo>
                      <a:lnTo>
                        <a:pt x="320" y="173"/>
                      </a:lnTo>
                      <a:lnTo>
                        <a:pt x="306" y="156"/>
                      </a:lnTo>
                      <a:lnTo>
                        <a:pt x="290" y="139"/>
                      </a:lnTo>
                      <a:lnTo>
                        <a:pt x="272" y="124"/>
                      </a:lnTo>
                      <a:lnTo>
                        <a:pt x="251" y="111"/>
                      </a:lnTo>
                      <a:lnTo>
                        <a:pt x="230" y="97"/>
                      </a:lnTo>
                      <a:lnTo>
                        <a:pt x="209" y="85"/>
                      </a:lnTo>
                      <a:lnTo>
                        <a:pt x="185" y="73"/>
                      </a:lnTo>
                      <a:lnTo>
                        <a:pt x="163" y="63"/>
                      </a:lnTo>
                      <a:lnTo>
                        <a:pt x="141" y="53"/>
                      </a:lnTo>
                      <a:lnTo>
                        <a:pt x="117" y="41"/>
                      </a:lnTo>
                      <a:lnTo>
                        <a:pt x="94" y="30"/>
                      </a:lnTo>
                      <a:lnTo>
                        <a:pt x="73" y="18"/>
                      </a:lnTo>
                      <a:lnTo>
                        <a:pt x="53" y="5"/>
                      </a:lnTo>
                      <a:lnTo>
                        <a:pt x="38" y="2"/>
                      </a:lnTo>
                      <a:lnTo>
                        <a:pt x="26" y="0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6" y="5"/>
                      </a:lnTo>
                      <a:lnTo>
                        <a:pt x="3" y="14"/>
                      </a:lnTo>
                      <a:lnTo>
                        <a:pt x="0" y="2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71200" y="844560"/>
                  <a:ext cx="75960" cy="188280"/>
                </a:xfrm>
                <a:custGeom>
                  <a:avLst/>
                  <a:gdLst/>
                  <a:ahLst/>
                  <a:rect l="l" t="t" r="r" b="b"/>
                  <a:pathLst>
                    <a:path w="264" h="546">
                      <a:moveTo>
                        <a:pt x="0" y="503"/>
                      </a:moveTo>
                      <a:lnTo>
                        <a:pt x="0" y="514"/>
                      </a:lnTo>
                      <a:lnTo>
                        <a:pt x="1" y="524"/>
                      </a:lnTo>
                      <a:lnTo>
                        <a:pt x="3" y="536"/>
                      </a:lnTo>
                      <a:lnTo>
                        <a:pt x="10" y="546"/>
                      </a:lnTo>
                      <a:lnTo>
                        <a:pt x="264" y="191"/>
                      </a:lnTo>
                      <a:lnTo>
                        <a:pt x="118" y="0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89200" y="951480"/>
                  <a:ext cx="84600" cy="110880"/>
                </a:xfrm>
                <a:custGeom>
                  <a:avLst/>
                  <a:gdLst/>
                  <a:ahLst/>
                  <a:rect l="l" t="t" r="r" b="b"/>
                  <a:pathLst>
                    <a:path w="294" h="323">
                      <a:moveTo>
                        <a:pt x="1" y="311"/>
                      </a:moveTo>
                      <a:lnTo>
                        <a:pt x="10" y="323"/>
                      </a:lnTo>
                      <a:lnTo>
                        <a:pt x="188" y="236"/>
                      </a:lnTo>
                      <a:lnTo>
                        <a:pt x="277" y="214"/>
                      </a:lnTo>
                      <a:lnTo>
                        <a:pt x="280" y="209"/>
                      </a:lnTo>
                      <a:lnTo>
                        <a:pt x="285" y="203"/>
                      </a:lnTo>
                      <a:lnTo>
                        <a:pt x="289" y="197"/>
                      </a:lnTo>
                      <a:lnTo>
                        <a:pt x="294" y="191"/>
                      </a:lnTo>
                      <a:lnTo>
                        <a:pt x="246" y="0"/>
                      </a:lnTo>
                      <a:lnTo>
                        <a:pt x="0" y="299"/>
                      </a:lnTo>
                      <a:lnTo>
                        <a:pt x="1" y="311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800000" y="10893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324" h="52">
                      <a:moveTo>
                        <a:pt x="13" y="20"/>
                      </a:moveTo>
                      <a:lnTo>
                        <a:pt x="316" y="52"/>
                      </a:lnTo>
                      <a:lnTo>
                        <a:pt x="324" y="40"/>
                      </a:lnTo>
                      <a:lnTo>
                        <a:pt x="322" y="29"/>
                      </a:lnTo>
                      <a:lnTo>
                        <a:pt x="318" y="15"/>
                      </a:lnTo>
                      <a:lnTo>
                        <a:pt x="312" y="0"/>
                      </a:lnTo>
                      <a:lnTo>
                        <a:pt x="0" y="6"/>
                      </a:lnTo>
                      <a:lnTo>
                        <a:pt x="13" y="20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03600" y="1129320"/>
                  <a:ext cx="85680" cy="58320"/>
                </a:xfrm>
                <a:custGeom>
                  <a:avLst/>
                  <a:gdLst/>
                  <a:ahLst/>
                  <a:rect l="l" t="t" r="r" b="b"/>
                  <a:pathLst>
                    <a:path w="298" h="170">
                      <a:moveTo>
                        <a:pt x="13" y="13"/>
                      </a:moveTo>
                      <a:lnTo>
                        <a:pt x="271" y="170"/>
                      </a:lnTo>
                      <a:lnTo>
                        <a:pt x="285" y="138"/>
                      </a:lnTo>
                      <a:lnTo>
                        <a:pt x="295" y="101"/>
                      </a:lnTo>
                      <a:lnTo>
                        <a:pt x="298" y="62"/>
                      </a:lnTo>
                      <a:lnTo>
                        <a:pt x="291" y="24"/>
                      </a:lnTo>
                      <a:lnTo>
                        <a:pt x="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824480" y="1010160"/>
                  <a:ext cx="157320" cy="70200"/>
                </a:xfrm>
                <a:custGeom>
                  <a:avLst/>
                  <a:gdLst/>
                  <a:ahLst/>
                  <a:rect l="l" t="t" r="r" b="b"/>
                  <a:pathLst>
                    <a:path w="547" h="203">
                      <a:moveTo>
                        <a:pt x="21" y="203"/>
                      </a:moveTo>
                      <a:lnTo>
                        <a:pt x="547" y="79"/>
                      </a:lnTo>
                      <a:lnTo>
                        <a:pt x="547" y="64"/>
                      </a:lnTo>
                      <a:lnTo>
                        <a:pt x="538" y="40"/>
                      </a:lnTo>
                      <a:lnTo>
                        <a:pt x="526" y="16"/>
                      </a:lnTo>
                      <a:lnTo>
                        <a:pt x="517" y="0"/>
                      </a:lnTo>
                      <a:lnTo>
                        <a:pt x="0" y="134"/>
                      </a:lnTo>
                      <a:lnTo>
                        <a:pt x="21" y="203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990440" y="954360"/>
                  <a:ext cx="253080" cy="73440"/>
                </a:xfrm>
                <a:custGeom>
                  <a:avLst/>
                  <a:gdLst/>
                  <a:ahLst/>
                  <a:rect l="l" t="t" r="r" b="b"/>
                  <a:pathLst>
                    <a:path w="877" h="214">
                      <a:moveTo>
                        <a:pt x="25" y="214"/>
                      </a:moveTo>
                      <a:lnTo>
                        <a:pt x="877" y="49"/>
                      </a:lnTo>
                      <a:lnTo>
                        <a:pt x="831" y="0"/>
                      </a:lnTo>
                      <a:lnTo>
                        <a:pt x="1" y="154"/>
                      </a:lnTo>
                      <a:lnTo>
                        <a:pt x="0" y="166"/>
                      </a:lnTo>
                      <a:lnTo>
                        <a:pt x="7" y="184"/>
                      </a:lnTo>
                      <a:lnTo>
                        <a:pt x="18" y="202"/>
                      </a:lnTo>
                      <a:lnTo>
                        <a:pt x="25" y="214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48480" y="991440"/>
                  <a:ext cx="101880" cy="74160"/>
                </a:xfrm>
                <a:custGeom>
                  <a:avLst/>
                  <a:gdLst/>
                  <a:ahLst/>
                  <a:rect l="l" t="t" r="r" b="b"/>
                  <a:pathLst>
                    <a:path w="353" h="216">
                      <a:moveTo>
                        <a:pt x="1" y="71"/>
                      </a:moveTo>
                      <a:lnTo>
                        <a:pt x="16" y="86"/>
                      </a:lnTo>
                      <a:lnTo>
                        <a:pt x="29" y="100"/>
                      </a:lnTo>
                      <a:lnTo>
                        <a:pt x="44" y="113"/>
                      </a:lnTo>
                      <a:lnTo>
                        <a:pt x="59" y="126"/>
                      </a:lnTo>
                      <a:lnTo>
                        <a:pt x="74" y="137"/>
                      </a:lnTo>
                      <a:lnTo>
                        <a:pt x="91" y="149"/>
                      </a:lnTo>
                      <a:lnTo>
                        <a:pt x="107" y="159"/>
                      </a:lnTo>
                      <a:lnTo>
                        <a:pt x="123" y="168"/>
                      </a:lnTo>
                      <a:lnTo>
                        <a:pt x="140" y="177"/>
                      </a:lnTo>
                      <a:lnTo>
                        <a:pt x="158" y="185"/>
                      </a:lnTo>
                      <a:lnTo>
                        <a:pt x="177" y="192"/>
                      </a:lnTo>
                      <a:lnTo>
                        <a:pt x="195" y="198"/>
                      </a:lnTo>
                      <a:lnTo>
                        <a:pt x="216" y="204"/>
                      </a:lnTo>
                      <a:lnTo>
                        <a:pt x="237" y="209"/>
                      </a:lnTo>
                      <a:lnTo>
                        <a:pt x="258" y="213"/>
                      </a:lnTo>
                      <a:lnTo>
                        <a:pt x="280" y="216"/>
                      </a:lnTo>
                      <a:lnTo>
                        <a:pt x="298" y="209"/>
                      </a:lnTo>
                      <a:lnTo>
                        <a:pt x="313" y="197"/>
                      </a:lnTo>
                      <a:lnTo>
                        <a:pt x="325" y="182"/>
                      </a:lnTo>
                      <a:lnTo>
                        <a:pt x="335" y="165"/>
                      </a:lnTo>
                      <a:lnTo>
                        <a:pt x="343" y="147"/>
                      </a:lnTo>
                      <a:lnTo>
                        <a:pt x="349" y="126"/>
                      </a:lnTo>
                      <a:lnTo>
                        <a:pt x="352" y="106"/>
                      </a:lnTo>
                      <a:lnTo>
                        <a:pt x="353" y="85"/>
                      </a:lnTo>
                      <a:lnTo>
                        <a:pt x="350" y="56"/>
                      </a:lnTo>
                      <a:lnTo>
                        <a:pt x="346" y="32"/>
                      </a:lnTo>
                      <a:lnTo>
                        <a:pt x="340" y="13"/>
                      </a:lnTo>
                      <a:lnTo>
                        <a:pt x="325" y="0"/>
                      </a:lnTo>
                      <a:lnTo>
                        <a:pt x="0" y="55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152080" y="871920"/>
                  <a:ext cx="108360" cy="85320"/>
                </a:xfrm>
                <a:custGeom>
                  <a:avLst/>
                  <a:gdLst/>
                  <a:ahLst/>
                  <a:rect l="l" t="t" r="r" b="b"/>
                  <a:pathLst>
                    <a:path w="375" h="250">
                      <a:moveTo>
                        <a:pt x="9" y="250"/>
                      </a:moveTo>
                      <a:lnTo>
                        <a:pt x="297" y="205"/>
                      </a:lnTo>
                      <a:lnTo>
                        <a:pt x="375" y="2"/>
                      </a:lnTo>
                      <a:lnTo>
                        <a:pt x="351" y="0"/>
                      </a:lnTo>
                      <a:lnTo>
                        <a:pt x="329" y="2"/>
                      </a:lnTo>
                      <a:lnTo>
                        <a:pt x="305" y="6"/>
                      </a:lnTo>
                      <a:lnTo>
                        <a:pt x="283" y="12"/>
                      </a:lnTo>
                      <a:lnTo>
                        <a:pt x="260" y="21"/>
                      </a:lnTo>
                      <a:lnTo>
                        <a:pt x="238" y="33"/>
                      </a:lnTo>
                      <a:lnTo>
                        <a:pt x="217" y="45"/>
                      </a:lnTo>
                      <a:lnTo>
                        <a:pt x="196" y="58"/>
                      </a:lnTo>
                      <a:lnTo>
                        <a:pt x="175" y="73"/>
                      </a:lnTo>
                      <a:lnTo>
                        <a:pt x="156" y="90"/>
                      </a:lnTo>
                      <a:lnTo>
                        <a:pt x="136" y="106"/>
                      </a:lnTo>
                      <a:lnTo>
                        <a:pt x="117" y="123"/>
                      </a:lnTo>
                      <a:lnTo>
                        <a:pt x="99" y="138"/>
                      </a:lnTo>
                      <a:lnTo>
                        <a:pt x="81" y="154"/>
                      </a:lnTo>
                      <a:lnTo>
                        <a:pt x="63" y="169"/>
                      </a:lnTo>
                      <a:lnTo>
                        <a:pt x="47" y="182"/>
                      </a:lnTo>
                      <a:lnTo>
                        <a:pt x="38" y="194"/>
                      </a:lnTo>
                      <a:lnTo>
                        <a:pt x="30" y="203"/>
                      </a:lnTo>
                      <a:lnTo>
                        <a:pt x="24" y="211"/>
                      </a:lnTo>
                      <a:lnTo>
                        <a:pt x="18" y="218"/>
                      </a:lnTo>
                      <a:lnTo>
                        <a:pt x="14" y="224"/>
                      </a:lnTo>
                      <a:lnTo>
                        <a:pt x="9" y="230"/>
                      </a:lnTo>
                      <a:lnTo>
                        <a:pt x="5" y="236"/>
                      </a:lnTo>
                      <a:lnTo>
                        <a:pt x="0" y="245"/>
                      </a:lnTo>
                      <a:lnTo>
                        <a:pt x="9" y="25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895400" y="609480"/>
                  <a:ext cx="43920" cy="217080"/>
                </a:xfrm>
                <a:custGeom>
                  <a:avLst/>
                  <a:gdLst/>
                  <a:ahLst/>
                  <a:rect l="l" t="t" r="r" b="b"/>
                  <a:pathLst>
                    <a:path w="152" h="630">
                      <a:moveTo>
                        <a:pt x="80" y="63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80" y="6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72080" y="623520"/>
                  <a:ext cx="100080" cy="237960"/>
                </a:xfrm>
                <a:custGeom>
                  <a:avLst/>
                  <a:gdLst/>
                  <a:ahLst/>
                  <a:rect l="l" t="t" r="r" b="b"/>
                  <a:pathLst>
                    <a:path w="349" h="689">
                      <a:moveTo>
                        <a:pt x="0" y="689"/>
                      </a:moveTo>
                      <a:lnTo>
                        <a:pt x="206" y="0"/>
                      </a:lnTo>
                      <a:lnTo>
                        <a:pt x="349" y="51"/>
                      </a:lnTo>
                      <a:lnTo>
                        <a:pt x="0" y="6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995840" y="765720"/>
                  <a:ext cx="177480" cy="148680"/>
                </a:xfrm>
                <a:custGeom>
                  <a:avLst/>
                  <a:gdLst/>
                  <a:ahLst/>
                  <a:rect l="l" t="t" r="r" b="b"/>
                  <a:pathLst>
                    <a:path w="617" h="433">
                      <a:moveTo>
                        <a:pt x="0" y="433"/>
                      </a:moveTo>
                      <a:lnTo>
                        <a:pt x="606" y="0"/>
                      </a:lnTo>
                      <a:lnTo>
                        <a:pt x="617" y="155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4572000" y="4419720"/>
            <a:ext cx="3962520" cy="1904760"/>
            <a:chOff x="4572000" y="4419720"/>
            <a:chExt cx="3962520" cy="1904760"/>
          </a:xfrm>
        </p:grpSpPr>
        <p:pic>
          <p:nvPicPr>
            <p:cNvPr id="340" name="" descr=""/>
            <p:cNvPicPr/>
            <p:nvPr/>
          </p:nvPicPr>
          <p:blipFill>
            <a:blip r:embed="rId5"/>
            <a:stretch/>
          </p:blipFill>
          <p:spPr>
            <a:xfrm>
              <a:off x="7315200" y="5334120"/>
              <a:ext cx="12193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572000" y="4419720"/>
              <a:ext cx="2971800" cy="990360"/>
            </a:xfrm>
            <a:prstGeom prst="cloudCallout">
              <a:avLst>
                <a:gd name="adj1" fmla="val 51120"/>
                <a:gd name="adj2" fmla="val 54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um…, un jug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time de soi,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n jugemen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" y="1523880"/>
            <a:ext cx="7848720" cy="698760"/>
            <a:chOff x="457200" y="1523880"/>
            <a:chExt cx="7848720" cy="69876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9144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371600" y="17524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regard je porte sur mo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E VOI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0880" y="2286000"/>
            <a:ext cx="8763120" cy="536040"/>
            <a:chOff x="380880" y="2286000"/>
            <a:chExt cx="8763120" cy="536040"/>
          </a:xfrm>
        </p:grpSpPr>
        <p:sp>
          <p:nvSpPr>
            <p:cNvPr id="347" name=""/>
            <p:cNvSpPr/>
            <p:nvPr/>
          </p:nvSpPr>
          <p:spPr>
            <a:xfrm>
              <a:off x="380880" y="2286000"/>
              <a:ext cx="990720" cy="533520"/>
            </a:xfrm>
            <a:prstGeom prst="cloudCallout">
              <a:avLst>
                <a:gd name="adj1" fmla="val -45671"/>
                <a:gd name="adj2" fmla="val 6428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71600" y="23623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dialogue intérieur j’entretiens sur mo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ENTEND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7200" y="2895480"/>
            <a:ext cx="8686800" cy="1000080"/>
            <a:chOff x="457200" y="2895480"/>
            <a:chExt cx="8686800" cy="1000080"/>
          </a:xfrm>
        </p:grpSpPr>
        <p:sp>
          <p:nvSpPr>
            <p:cNvPr id="350" name=""/>
            <p:cNvSpPr/>
            <p:nvPr/>
          </p:nvSpPr>
          <p:spPr>
            <a:xfrm>
              <a:off x="457200" y="2971800"/>
              <a:ext cx="838080" cy="685800"/>
            </a:xfrm>
            <a:custGeom>
              <a:avLst/>
              <a:gdLst>
                <a:gd name="textAreaLeft" fmla="*/ 196920 w 838080"/>
                <a:gd name="textAreaRight" fmla="*/ 640800 w 83808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71600" y="289548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sentiment je vis par rapport à moi-même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APPRÉCI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AIM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04920" y="3962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le </a:t>
            </a:r>
            <a:r>
              <a:rPr b="1" i="1" lang="en-US" sz="40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me reconnai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0880" y="4952880"/>
            <a:ext cx="7162920" cy="1143000"/>
            <a:chOff x="380880" y="4952880"/>
            <a:chExt cx="7162920" cy="1143000"/>
          </a:xfrm>
        </p:grpSpPr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380880" y="4952880"/>
              <a:ext cx="1136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523880" y="533412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’arrêter pour en prendr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CON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276720" y="990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e : estimer – évaluer – juger</a:t>
            </a:r>
            <a:r>
              <a:rPr b="1" lang="en-US" sz="22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457200"/>
            <a:ext cx="77724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L’estime de soi, 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’est la </a:t>
            </a:r>
            <a:r>
              <a:rPr b="1" i="1" lang="en-US" sz="5400" spc="-1" strike="noStrike">
                <a:solidFill>
                  <a:srgbClr val="336699"/>
                </a:solidFill>
                <a:latin typeface="Arial"/>
              </a:rPr>
              <a:t>CONSCIENCE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de sa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personnelle glob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Wingdings 2"/>
                <a:ea typeface="Wingdings 2"/>
              </a:rPr>
              <a:t>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Wingdings 2"/>
                <a:ea typeface="Wingdings 2"/>
              </a:rPr>
              <a:t>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s lim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859280" y="3213000"/>
            <a:ext cx="3960000" cy="3644280"/>
            <a:chOff x="4859280" y="3213000"/>
            <a:chExt cx="3960000" cy="364428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7106760" y="5223960"/>
              <a:ext cx="17125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59280" y="3213000"/>
              <a:ext cx="2889720" cy="2388240"/>
            </a:xfrm>
            <a:prstGeom prst="cloudCallout">
              <a:avLst>
                <a:gd name="adj1" fmla="val 40509"/>
                <a:gd name="adj2" fmla="val 423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Les limites aussi ?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6:34:52Z</dcterms:created>
  <dc:creator>Johanne Yergeau</dc:creator>
  <dc:description>Objectif: faciliter l'appropriation du vocabulaire spécifique et aider à comprendre les interrelations</dc:description>
  <cp:keywords>composantes définitions manifestations</cp:keywords>
  <dc:language>en-US</dc:language>
  <cp:lastModifiedBy>Fernanda</cp:lastModifiedBy>
  <dcterms:modified xsi:type="dcterms:W3CDTF">2013-01-11T17:57:37Z</dcterms:modified>
  <cp:revision>130</cp:revision>
  <dc:subject>Partie théorique de la formation</dc:subject>
  <dc:title>Concept de l'estime de soi</dc:title>
</cp:coreProperties>
</file>